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583-C007-4489-8323-3DCA2806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5E3-35CB-4DF8-96A0-03ABEE0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62F-3396-4549-B6A2-48964746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288-6520-4DC4-903E-64EBA283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011-CC32-4409-A032-83A7DC0B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BF8-5151-4475-81B4-5CCC4E4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B95-BC75-4C3A-A38C-0C5455D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961-E879-4856-AAFE-DC69E63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501-37EB-4034-BCD2-89AF3CB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B5D-2E08-4E40-995D-0F4ABFB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6AB-1879-48EE-9C37-E8A34E9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9CA-D752-4892-9033-64D0FFC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6917-4300-40B8-89D9-9FA13B026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6C9-CA77-42F1-8BA9-7DBF71BA3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1314360"/>
            <a:ext cx="8229600" cy="297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личество информации, как мера уменьшения неопределенности знаний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280" y="368280"/>
            <a:ext cx="7777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ссмотрим еще один пример. Ученик на экзамене может получить одну из четырех оценок «5», «4», «3», «2» с равной вероятностью. На вопрос: «Что получил?», он ответил: «4». Сколько бит информации содержится в ответе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 rot="19996800">
            <a:off x="1422360" y="446364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7000" y="3878280"/>
            <a:ext cx="8035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7720" y="3924360"/>
            <a:ext cx="803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1752600">
            <a:off x="7046640" y="455436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28280"/>
            <a:ext cx="8272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 книжном стеллаже 8 полок. Сколько информации содержит сообщение о том, где находится книга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67000" y="3608280"/>
            <a:ext cx="145908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Формула Харт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количество возможных равноверо-ятных событий (неопределенность знаний)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— количество информации, получен-ное в результате совершения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584360"/>
            <a:ext cx="2664000" cy="98892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ffff"/>
                </a:solidFill>
                <a:latin typeface="Arial"/>
              </a:rPr>
              <a:t>N = 2</a:t>
            </a:r>
            <a:r>
              <a:rPr b="1" sz="6000" spc="-1" strike="noStrike" baseline="60000">
                <a:solidFill>
                  <a:srgbClr val="ffffff"/>
                </a:solidFill>
                <a:latin typeface="Monotype Corsiv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56108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блица степен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Текст 2"/>
              <p:cNvSpPr txBox="1"/>
              <p:nvPr/>
            </p:nvSpPr>
            <p:spPr>
              <a:xfrm>
                <a:off x="1332000" y="1341360"/>
                <a:ext cx="246852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Текст 2"/>
              <p:cNvSpPr txBox="1"/>
              <p:nvPr/>
            </p:nvSpPr>
            <p:spPr>
              <a:xfrm>
                <a:off x="4932360" y="1341360"/>
                <a:ext cx="325764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89000"/>
          <a:ext cx="8229600" cy="6616440"/>
        </p:xfrm>
        <a:graphic>
          <a:graphicData uri="http://schemas.openxmlformats.org/drawingml/2006/table">
            <a:tbl>
              <a:tblPr/>
              <a:tblGrid>
                <a:gridCol w="735120"/>
                <a:gridCol w="919080"/>
                <a:gridCol w="735120"/>
                <a:gridCol w="909360"/>
                <a:gridCol w="733680"/>
                <a:gridCol w="909360"/>
                <a:gridCol w="735120"/>
                <a:gridCol w="895320"/>
                <a:gridCol w="747720"/>
                <a:gridCol w="909720"/>
              </a:tblGrid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0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1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В рулетке общее количество лунок равно 32. Какое количество информации мы получаем в зрительном сообщении об остановке шарика в одной из лунок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2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ри игре в крестики-нолики на поле 8х8, после первого хода первого игрока, играющего крестиками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1640" y="368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3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В коробке хранятся черный, белый, желтый и зеленый шарики. Какое количество информации содержится в сообщении о выборе одного из них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4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библиотеке 16 стеллажей с книгами. На каждом стеллаже 8 полок. Книга находится на 5 стеллаже на 3 сверху полке. Сколько информации в этом сообщении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6*3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=7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и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7858080" y="1808280"/>
            <a:ext cx="450720" cy="45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7407360" y="2168640"/>
            <a:ext cx="450720" cy="45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8442360" y="153828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8307360" y="230364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2296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при игре в шахматы играющий черными после первого хода белых (при условии, что ходить конями запрещено), а все остальные ходы равновероятны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821280" cy="62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осле первого хода первого игрока в игре в крестики-нолики на поле 4х4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было количество возможных событий, если после реализации одного из них мы получили количество информации, равное 3 битам? 7 битам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6640" y="378792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ие из перечисленных процессов являются информационным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роцессы строительства зданий и сооруж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роцессы химической и механической очистки вод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роцессы получения, поиска, хранения, передачи, обработки и использования информаци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роцессы производства чугун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72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ое из нижеприведенных утверждений ближе всего раскрывает смысл понятия “информация, используемая в бытовом общении”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следовательность знаков некоторого алфавит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сообщение, передаваемое в форме знаков или сигнал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сообщение, уменьшающее неопределен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ведения об окружающем мире и протекающих в нем процессах, воспринимаемые человеком непосредственно или с помощью специальных устройств (термометр, барометр и пр.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сведения, содержащиеся в научных теория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900000" cy="3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504972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280" y="547560"/>
            <a:ext cx="85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не зависит от личного мнения или суждения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560680"/>
            <a:ext cx="870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отражает истинное положение дел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75200" y="4508640"/>
            <a:ext cx="793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важна в настоящий момент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27360" y="167328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81280" y="342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681280" y="5094360"/>
            <a:ext cx="900000" cy="29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000" y="322200"/>
            <a:ext cx="85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поможет решить поставленную задачу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2360" y="2560680"/>
            <a:ext cx="819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объем которой достаточен для решения поставленной задачи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820800" y="4554360"/>
            <a:ext cx="743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полученная на доступном языке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нятно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1719360"/>
            <a:ext cx="900360" cy="29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51280" y="369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62360" y="572436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332000" y="324000"/>
            <a:ext cx="6264360" cy="6264000"/>
            <a:chOff x="1332000" y="324000"/>
            <a:chExt cx="6264360" cy="6264000"/>
          </a:xfrm>
        </p:grpSpPr>
        <p:sp>
          <p:nvSpPr>
            <p:cNvPr id="59" name=""/>
            <p:cNvSpPr/>
            <p:nvPr/>
          </p:nvSpPr>
          <p:spPr>
            <a:xfrm>
              <a:off x="1332000" y="324000"/>
              <a:ext cx="6264360" cy="6264000"/>
            </a:xfrm>
            <a:prstGeom prst="ellipse">
              <a:avLst/>
            </a:prstGeom>
            <a:solidFill>
              <a:srgbClr val="ffff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3640" y="3014640"/>
              <a:ext cx="5329440" cy="968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29ed1f"/>
                  </a:solidFill>
                  <a:latin typeface="Arial"/>
                </a:rPr>
                <a:t>Знание</a:t>
              </a:r>
              <a:endParaRPr b="0" lang="en-US" sz="7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9821600">
            <a:off x="612000" y="5444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2323800">
            <a:off x="250200" y="3428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rot="19821600">
            <a:off x="396000" y="141228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rot="2106600">
            <a:off x="1331280" y="323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rot="19821600">
            <a:off x="6588720" y="-36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2521800">
            <a:off x="7523640" y="1557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9821600">
            <a:off x="7741440" y="378900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707600">
            <a:off x="7308000" y="5444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499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998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497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996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495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994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493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6280" y="2214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Неопределенность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знания о результате некоторого события — это число возможных  результатов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21640" y="324000"/>
            <a:ext cx="16286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601640" y="4643280"/>
            <a:ext cx="1852560" cy="771480"/>
            <a:chOff x="1601640" y="4643280"/>
            <a:chExt cx="1852560" cy="77148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60164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268272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Равновероятные собы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— ни одно из них не имеет преимуществ: при возрастании числа опытов, количество появлений каждого из них постепенно сближ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 бросании монеты с одинаковой вероятностью может выпасть «орел» или «решка». Значит, эти событи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вновероят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авновероятные событ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98892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155080" y="-988920"/>
            <a:ext cx="988920" cy="98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0.01267 0.97106 E">
                                      <p:cBhvr>
                                        <p:cTn id="2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0781 0.94491 E">
                                      <p:cBhvr>
                                        <p:cTn id="29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диницы измерения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За единицу количества информации принято такое количество информации, которое содержит сообщение, уменьшающее неопределённость знания в два раза. Такая единица названа </a:t>
            </a:r>
            <a:r>
              <a:rPr b="1" i="1" lang="en-US" sz="3200" spc="-1" strike="noStrike">
                <a:solidFill>
                  <a:srgbClr val="29ed1f"/>
                </a:solidFill>
                <a:latin typeface="Calibri"/>
              </a:rPr>
              <a:t>би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росаем монету. Число возможных равновероятных событий — выпадение «орла» или «решки» — д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личество полученной информации —1 би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Число возможных событий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Количество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76720" y="944280"/>
            <a:ext cx="792000" cy="576360"/>
          </a:xfrm>
          <a:prstGeom prst="leftRightArrow">
            <a:avLst>
              <a:gd name="adj1" fmla="val 50000"/>
              <a:gd name="adj2" fmla="val 27356"/>
            </a:avLst>
          </a:prstGeom>
          <a:solidFill>
            <a:srgbClr val="95cf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45000" y="4221000"/>
            <a:ext cx="1852560" cy="771480"/>
            <a:chOff x="3645000" y="4221000"/>
            <a:chExt cx="1852560" cy="77148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64500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72608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1:02:53Z</dcterms:modified>
  <cp:revision>26</cp:revision>
  <dc:subject/>
  <dc:title>Презентация PowerPoint</dc:title>
</cp:coreProperties>
</file>