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26.jpeg" ContentType="image/jpeg"/>
  <Override PartName="/ppt/media/image18.wmf" ContentType="image/x-wmf"/>
  <Override PartName="/ppt/media/image17.jpeg" ContentType="image/jpeg"/>
  <Override PartName="/ppt/media/image45.wmf" ContentType="image/x-wmf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2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8.jpeg" ContentType="image/jpeg"/>
  <Override PartName="/ppt/media/image39.jpeg" ContentType="image/jpeg"/>
  <Override PartName="/ppt/media/image32.png" ContentType="image/png"/>
  <Override PartName="/ppt/media/image33.png" ContentType="image/png"/>
  <Override PartName="/ppt/media/image36.png" ContentType="image/png"/>
  <Override PartName="/ppt/media/image41.png" ContentType="image/png"/>
  <Override PartName="/ppt/media/image44.png" ContentType="image/png"/>
  <Override PartName="/ppt/media/image13.jpeg" ContentType="image/jpeg"/>
  <Override PartName="/ppt/media/image40.jpeg" ContentType="image/jpeg"/>
  <Override PartName="/ppt/media/image46.png" ContentType="image/png"/>
  <Override PartName="/ppt/media/image6.jpeg" ContentType="image/jpeg"/>
  <Override PartName="/ppt/media/image34.png" ContentType="image/png"/>
  <Override PartName="/ppt/media/image1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11.png" ContentType="image/png"/>
  <Override PartName="/ppt/media/image9.jpeg" ContentType="image/jpeg"/>
  <Override PartName="/ppt/media/image31.jpeg" ContentType="image/jpeg"/>
  <Override PartName="/ppt/media/image10.wmf" ContentType="image/x-wmf"/>
  <Override PartName="/ppt/media/image2.gif" ContentType="image/gif"/>
  <Override PartName="/ppt/media/image19.jpeg" ContentType="image/jpeg"/>
  <Override PartName="/ppt/media/image25.png" ContentType="image/png"/>
  <Override PartName="/ppt/media/image42.jpeg" ContentType="image/jpeg"/>
  <Override PartName="/ppt/media/image38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57EE-2A84-42EF-BCFC-F5C63DDD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784F-A9F7-41BE-B928-A710D48D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F7DD-8355-4F6E-9E3E-C991CD6E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B9C7-1D22-48F9-844C-7490CE7A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AA7-054B-45E8-B706-46497B5C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2C3-42E4-463B-BE2B-22E78AC8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DF88-C8E7-4CCD-81B2-E4331AD3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780-1CA9-48C0-955B-4987801A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84C0-EB53-4FC9-884D-71C61F8D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D72-85DC-43E4-9FDF-22723004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0B74-0A60-42EE-A772-0600F280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84E-D98C-469F-99DD-A59AD62E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95B3-778C-4F33-BF9F-B5A6B8D41D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EE23-6FC9-443D-91CD-E87206D56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Устройства ввода и вывода информ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50920" y="1125360"/>
            <a:ext cx="424980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Сенсорный экра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427640" y="189000"/>
            <a:ext cx="452592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826920" y="692280"/>
            <a:ext cx="3168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Световое пе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3336840" cy="43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26920" y="692280"/>
            <a:ext cx="367380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Дигитайз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67280" y="476280"/>
            <a:ext cx="2695680" cy="200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9640" y="3279600"/>
            <a:ext cx="3240360" cy="285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26920" y="692280"/>
            <a:ext cx="367380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Скан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56360" y="189000"/>
            <a:ext cx="2695680" cy="2000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788000" y="3068640"/>
            <a:ext cx="4032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уч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ртативно-странич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ланшетно-офис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тевые (скоростные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Широкоформатные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1916280"/>
            <a:ext cx="4032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ерно-белые (до 64 оттенков серого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ветные (256 – 16 млн. цвето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95280" y="3645000"/>
            <a:ext cx="3075120" cy="262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2695320" cy="2000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826920" y="692280"/>
            <a:ext cx="367380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Клави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2781360"/>
            <a:ext cx="468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лавиатуры бывают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ческ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умеханическ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мбран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076720" y="4941720"/>
            <a:ext cx="3484800" cy="122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3889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оличество нажатий каждой клавиши до ее отказ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изай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добство в работе (эргономичность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оличество клавиш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онструкция клавиш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Ход клавиш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силие нажат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азмер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ес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Основные пользовательские характеристики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410364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0" t="5556" r="0" b="50014"/>
          <a:stretch/>
        </p:blipFill>
        <p:spPr>
          <a:xfrm>
            <a:off x="0" y="333360"/>
            <a:ext cx="9144000" cy="580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rcRect l="0" t="50033" r="0" b="0"/>
          <a:stretch/>
        </p:blipFill>
        <p:spPr>
          <a:xfrm>
            <a:off x="0" y="0"/>
            <a:ext cx="9504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258920" y="1844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стройства вывода информ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260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FDD8-0A11-4D80-9E44-AD72B82AE453}" type="datetime2">
              <a:rPr b="1" lang="en-US" sz="1800" spc="-1" strike="noStrike">
                <a:solidFill>
                  <a:srgbClr val="ffffff"/>
                </a:solidFill>
                <a:latin typeface="Arial"/>
              </a:rPr>
              <a:t>Tuesday, July 28, 2026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448320" y="4857840"/>
            <a:ext cx="2695680" cy="200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ОНИТО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Монитор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— основное устройство, служит для вывода информации на экран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Монитор работает под управлением видеоадаптер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Монитор и видеоадаптер образуют видеосистему компьютер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Видеопамять хранит изображение, выводимое на экран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Устройства ввод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77080" y="4581360"/>
            <a:ext cx="1984320" cy="181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Аппаратные средства (собственно само устройство ввода и управляющее устройство – контроллер) для преобразования информации из формы понятной человеку, в форму, воспринимаемую компьютеро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3808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идеокарт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— это устройство, управляющее монитором и обеспечивающее вывод изображений на экран. Она определяет разрешающую способность монитора и количество отображаемых цвет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76720" y="3141720"/>
            <a:ext cx="3581640" cy="2498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3809880" cy="24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иды монитр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Электронно-лучевые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мониторы построены на основе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электронно-лучевой трубки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ЭЛТ - электродно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лучевая трубка)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Жидкокристаллические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ЖК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CD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—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Liquid Crystal Display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084720" y="4869000"/>
            <a:ext cx="1514520" cy="1400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268360" y="4797360"/>
            <a:ext cx="1395720" cy="15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ЭЛТ-МОНИТО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50920" y="154080"/>
            <a:ext cx="1904760" cy="1762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619280" y="1557360"/>
            <a:ext cx="758196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мониторах на базе ЭЛТ в                  электронно-лучевой трубке формируется электронный луч,                               управляя    перемещением и интенсивностью которого можно получить изображение на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люминофорном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светящемся) экран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ЖК-МОНИТОР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18920" y="1341360"/>
            <a:ext cx="7561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Жидкокристаллические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ониторы сделаны из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ещества, находящегося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жидком состоянии,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о имеющего при этом некоторые свойства кристаллов. Молекулы жидких кристаллов под воздействием электрического  напряжения меняют свойства проходящего сквозь них светового луча, таким образом на мониторе создается изображени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-38160" y="44280"/>
            <a:ext cx="1914480" cy="208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26920" y="2637000"/>
            <a:ext cx="774252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ПРИНТ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87280" y="447840"/>
            <a:ext cx="2124000" cy="1736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31640" y="4616280"/>
            <a:ext cx="2073600" cy="1481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838920" y="4400640"/>
            <a:ext cx="2305080" cy="2119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012000" y="404640"/>
            <a:ext cx="2519280" cy="1589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132000" y="4149720"/>
            <a:ext cx="28908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Матричны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Струйны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Лазерны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000"/>
                            </p:stCondLst>
                            <p:childTnLst>
                              <p:par>
                                <p:cTn id="3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859280" y="2919240"/>
            <a:ext cx="4284720" cy="3938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1971360" cy="4735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503280" y="297000"/>
            <a:ext cx="831852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МАТРИЧ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ПРИНТ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rcRect l="0" t="41073" r="48106" b="17771"/>
          <a:stretch/>
        </p:blipFill>
        <p:spPr>
          <a:xfrm>
            <a:off x="2340000" y="2924280"/>
            <a:ext cx="2987640" cy="183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9640" y="1125360"/>
            <a:ext cx="8064720" cy="5112000"/>
          </a:xfrm>
          <a:prstGeom prst="rect">
            <a:avLst/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НЦИП РАБОТ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rcRect l="966" t="4459" r="1456" b="1295"/>
          <a:stretch/>
        </p:blipFill>
        <p:spPr>
          <a:xfrm>
            <a:off x="952560" y="1233360"/>
            <a:ext cx="7237440" cy="496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Характеристики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атричных принтеров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24000" y="1628640"/>
          <a:ext cx="8496000" cy="4507200"/>
        </p:xfrm>
        <a:graphic>
          <a:graphicData uri="http://schemas.openxmlformats.org/drawingml/2006/table">
            <a:tbl>
              <a:tblPr/>
              <a:tblGrid>
                <a:gridCol w="3600360"/>
                <a:gridCol w="4895640"/>
              </a:tblGrid>
              <a:tr h="135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решен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2 – 3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p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цветов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216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ин цвет (правда, есть матричные принтеры с многоцветной красящей лентой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ыстродейств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216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ленькое (до 1500 строк в минуту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СТОИНСТВА и НЕДОСТАТКИ матричных принтеров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628640"/>
          <a:ext cx="8497800" cy="443412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13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СТОИН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ДОСТА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30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высокая цена самого принтера и расходных материалов.</a:t>
                      </a: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зможность печати под копировальную кальку.</a:t>
                      </a: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 требовательны к бумаге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нее качество печати.</a:t>
                      </a: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сокий уровень шума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03280" y="297000"/>
            <a:ext cx="8318520" cy="11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СТРУЙ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ПРИНТ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39640" y="3687840"/>
            <a:ext cx="2916360" cy="2784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564000" y="1844640"/>
            <a:ext cx="2176560" cy="2195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759280" y="3241800"/>
            <a:ext cx="3384720" cy="311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Работа любого аппаратного средства требует программного управления. Для устройств ввода (устройств вывода) управляющие программы называются </a:t>
            </a:r>
            <a:r>
              <a:rPr b="0" lang="en-US" sz="3200" spc="-1" strike="noStrike">
                <a:solidFill>
                  <a:srgbClr val="29ed1f"/>
                </a:solidFill>
                <a:latin typeface="Calibri"/>
              </a:rPr>
              <a:t>ДРАЙВЕРАМ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9640" y="1125360"/>
            <a:ext cx="8064720" cy="5112000"/>
          </a:xfrm>
          <a:prstGeom prst="rect">
            <a:avLst/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ИНЦИП РАБОТ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rcRect l="868" t="6344" r="1758" b="2286"/>
          <a:stretch/>
        </p:blipFill>
        <p:spPr>
          <a:xfrm>
            <a:off x="611280" y="1125360"/>
            <a:ext cx="7993080" cy="507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152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Характеристики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труйных принтеров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24000" y="1557360"/>
          <a:ext cx="8532720" cy="4387680"/>
        </p:xfrm>
        <a:graphic>
          <a:graphicData uri="http://schemas.openxmlformats.org/drawingml/2006/table">
            <a:tbl>
              <a:tblPr/>
              <a:tblGrid>
                <a:gridCol w="3527280"/>
                <a:gridCol w="500544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решен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 1440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pi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цветов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ин цвет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ёрный) или четыре цвета (модель печати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MYK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ыстродейств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чать в режиме нормального качества составляет 3-4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pm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 Цветная печать немного дольше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03280" y="297000"/>
            <a:ext cx="831852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ЛАЗЕР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ПРИНТ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564000" y="1989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826920" y="3021120"/>
            <a:ext cx="2033640" cy="18507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500720" y="4653000"/>
            <a:ext cx="1584000" cy="1266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6588000" y="2421000"/>
            <a:ext cx="1724040" cy="193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9640" y="1125360"/>
            <a:ext cx="8064720" cy="5328000"/>
          </a:xfrm>
          <a:prstGeom prst="rect">
            <a:avLst/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ИНЦИП РАБОТ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rcRect l="907" t="4760" r="884" b="1554"/>
          <a:stretch/>
        </p:blipFill>
        <p:spPr>
          <a:xfrm>
            <a:off x="395280" y="1484280"/>
            <a:ext cx="8209080" cy="47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115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Характеристики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азерных принтеро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4360" y="1557360"/>
          <a:ext cx="7920000" cy="4064040"/>
        </p:xfrm>
        <a:graphic>
          <a:graphicData uri="http://schemas.openxmlformats.org/drawingml/2006/table">
            <a:tbl>
              <a:tblPr/>
              <a:tblGrid>
                <a:gridCol w="3600360"/>
                <a:gridCol w="431964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решен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00 – 1200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p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цветов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к правило одноцветная печ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ыстродействие</a:t>
                      </a:r>
                      <a:endParaRPr b="0" lang="en-US" sz="2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p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0504d"/>
                      </a:solidFill>
                    </a:lnL>
                    <a:lnR w="18720">
                      <a:solidFill>
                        <a:srgbClr val="c0504d"/>
                      </a:solidFill>
                    </a:lnR>
                    <a:lnT w="18720">
                      <a:solidFill>
                        <a:srgbClr val="c0504d"/>
                      </a:solidFill>
                    </a:lnT>
                    <a:lnB w="1872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448320" y="0"/>
            <a:ext cx="2695680" cy="2000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5283360"/>
            <a:ext cx="2158920" cy="1574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900000" y="2492280"/>
            <a:ext cx="77425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ПЛОТТ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450864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Графопостроитель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6597720" cy="410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00000" y="2492280"/>
            <a:ext cx="77425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АКУСТИЧЕСК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СИСТЕ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26920" y="4365720"/>
            <a:ext cx="1825920" cy="1511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877080" y="260280"/>
            <a:ext cx="1704960" cy="20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3640" cy="6857280"/>
            <a:chOff x="0" y="0"/>
            <a:chExt cx="9143640" cy="6857280"/>
          </a:xfrm>
        </p:grpSpPr>
        <p:cxnSp>
          <p:nvCxnSpPr>
            <p:cNvPr id="48" name="_s63492"/>
            <p:cNvCxnSpPr>
              <a:stCxn id="49" idx="1"/>
              <a:endCxn id="50" idx="2"/>
            </p:cNvCxnSpPr>
            <p:nvPr/>
          </p:nvCxnSpPr>
          <p:spPr>
            <a:xfrm rot="10800000">
              <a:off x="2793240" y="2756160"/>
              <a:ext cx="240480" cy="375840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1" name="_s63493"/>
            <p:cNvCxnSpPr>
              <a:stCxn id="52" idx="1"/>
              <a:endCxn id="50" idx="2"/>
            </p:cNvCxnSpPr>
            <p:nvPr/>
          </p:nvCxnSpPr>
          <p:spPr>
            <a:xfrm rot="10800000">
              <a:off x="2793240" y="2756160"/>
              <a:ext cx="240480" cy="27295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3" name="_s63494"/>
            <p:cNvCxnSpPr>
              <a:stCxn id="54" idx="1"/>
              <a:endCxn id="50" idx="2"/>
            </p:cNvCxnSpPr>
            <p:nvPr/>
          </p:nvCxnSpPr>
          <p:spPr>
            <a:xfrm rot="10800000">
              <a:off x="2793240" y="2756160"/>
              <a:ext cx="240480" cy="170100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5" name="_s63495"/>
            <p:cNvCxnSpPr>
              <a:stCxn id="56" idx="1"/>
              <a:endCxn id="50" idx="2"/>
            </p:cNvCxnSpPr>
            <p:nvPr/>
          </p:nvCxnSpPr>
          <p:spPr>
            <a:xfrm rot="10800000">
              <a:off x="2793240" y="2756160"/>
              <a:ext cx="240480" cy="6721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57" name="_s63496"/>
            <p:cNvCxnSpPr>
              <a:stCxn id="58" idx="1"/>
              <a:endCxn id="59" idx="2"/>
            </p:cNvCxnSpPr>
            <p:nvPr/>
          </p:nvCxnSpPr>
          <p:spPr>
            <a:xfrm rot="10800000">
              <a:off x="761040" y="2756160"/>
              <a:ext cx="240480" cy="27295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60" name="_s63497"/>
            <p:cNvCxnSpPr>
              <a:stCxn id="61" idx="1"/>
              <a:endCxn id="59" idx="2"/>
            </p:cNvCxnSpPr>
            <p:nvPr/>
          </p:nvCxnSpPr>
          <p:spPr>
            <a:xfrm rot="10800000">
              <a:off x="761040" y="2756160"/>
              <a:ext cx="240480" cy="170100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62" name="_s63498"/>
            <p:cNvCxnSpPr>
              <a:stCxn id="63" idx="1"/>
              <a:endCxn id="59" idx="2"/>
            </p:cNvCxnSpPr>
            <p:nvPr/>
          </p:nvCxnSpPr>
          <p:spPr>
            <a:xfrm rot="10800000">
              <a:off x="761040" y="2756160"/>
              <a:ext cx="240480" cy="6721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64" name="_s63499"/>
            <p:cNvCxnSpPr>
              <a:stCxn id="65" idx="0"/>
              <a:endCxn id="66" idx="2"/>
            </p:cNvCxnSpPr>
            <p:nvPr/>
          </p:nvCxnSpPr>
          <p:spPr>
            <a:xfrm flipV="1" rot="16200000">
              <a:off x="4795200" y="488160"/>
              <a:ext cx="314280" cy="2794680"/>
            </a:xfrm>
            <a:prstGeom prst="bentConnector3">
              <a:avLst>
                <a:gd name="adj1" fmla="val 3635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67" name="_s63500"/>
            <p:cNvCxnSpPr>
              <a:stCxn id="68" idx="0"/>
              <a:endCxn id="66" idx="2"/>
            </p:cNvCxnSpPr>
            <p:nvPr/>
          </p:nvCxnSpPr>
          <p:spPr>
            <a:xfrm flipV="1" rot="16200000">
              <a:off x="3906360" y="1377000"/>
              <a:ext cx="314280" cy="1016640"/>
            </a:xfrm>
            <a:prstGeom prst="bentConnector3">
              <a:avLst>
                <a:gd name="adj1" fmla="val 3635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69" name="_s63501"/>
            <p:cNvCxnSpPr>
              <a:stCxn id="50" idx="0"/>
              <a:endCxn id="66" idx="2"/>
            </p:cNvCxnSpPr>
            <p:nvPr/>
          </p:nvCxnSpPr>
          <p:spPr>
            <a:xfrm flipH="1" flipV="1" rot="5400000">
              <a:off x="3017880" y="1504440"/>
              <a:ext cx="314280" cy="762480"/>
            </a:xfrm>
            <a:prstGeom prst="bentConnector3">
              <a:avLst>
                <a:gd name="adj1" fmla="val 3635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70" name="_s63502"/>
            <p:cNvCxnSpPr>
              <a:stCxn id="59" idx="0"/>
              <a:endCxn id="66" idx="2"/>
            </p:cNvCxnSpPr>
            <p:nvPr/>
          </p:nvCxnSpPr>
          <p:spPr>
            <a:xfrm flipH="1" flipV="1" rot="5400000">
              <a:off x="2001600" y="488160"/>
              <a:ext cx="314280" cy="2794680"/>
            </a:xfrm>
            <a:prstGeom prst="bentConnector3">
              <a:avLst>
                <a:gd name="adj1" fmla="val 36353"/>
              </a:avLst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71" name="_s63503"/>
            <p:cNvCxnSpPr>
              <a:stCxn id="66" idx="3"/>
              <a:endCxn id="72" idx="2"/>
            </p:cNvCxnSpPr>
            <p:nvPr/>
          </p:nvCxnSpPr>
          <p:spPr>
            <a:xfrm flipV="1">
              <a:off x="4332240" y="698760"/>
              <a:ext cx="3034080" cy="6721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cxnSp>
          <p:nvCxnSpPr>
            <p:cNvPr id="73" name="_s63504"/>
            <p:cNvCxnSpPr>
              <a:stCxn id="74" idx="1"/>
              <a:endCxn id="72" idx="2"/>
            </p:cNvCxnSpPr>
            <p:nvPr/>
          </p:nvCxnSpPr>
          <p:spPr>
            <a:xfrm rot="10800000">
              <a:off x="7365240" y="698760"/>
              <a:ext cx="240480" cy="67212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72" name="_s63505"/>
            <p:cNvSpPr/>
            <p:nvPr/>
          </p:nvSpPr>
          <p:spPr>
            <a:xfrm>
              <a:off x="6603840" y="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Устройства ввода 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информации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_s63506"/>
            <p:cNvSpPr/>
            <p:nvPr/>
          </p:nvSpPr>
          <p:spPr>
            <a:xfrm>
              <a:off x="7619760" y="102852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Устройства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с клавиатурным 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вводом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_s63507"/>
            <p:cNvSpPr/>
            <p:nvPr/>
          </p:nvSpPr>
          <p:spPr>
            <a:xfrm>
              <a:off x="2793960" y="102852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Устройства с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прямым вводом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_s63508"/>
            <p:cNvSpPr/>
            <p:nvPr/>
          </p:nvSpPr>
          <p:spPr>
            <a:xfrm>
              <a:off x="0" y="205704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Манипуляторы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_s63509"/>
            <p:cNvSpPr/>
            <p:nvPr/>
          </p:nvSpPr>
          <p:spPr>
            <a:xfrm>
              <a:off x="2031840" y="205704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Сенсорные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_s63510"/>
            <p:cNvSpPr/>
            <p:nvPr/>
          </p:nvSpPr>
          <p:spPr>
            <a:xfrm>
              <a:off x="3809880" y="205704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Устройства 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сканирования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_s63511"/>
            <p:cNvSpPr/>
            <p:nvPr/>
          </p:nvSpPr>
          <p:spPr>
            <a:xfrm>
              <a:off x="5587920" y="205704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1bd0a">
                <a:alpha val="50000"/>
              </a:srgbClr>
            </a:solidFill>
            <a:ln w="28440">
              <a:solidFill>
                <a:srgbClr val="01bd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Устройства 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распознавания</a:t>
              </a:r>
              <a:br>
                <a:rPr sz="1300"/>
              </a:b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речи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_s63512"/>
            <p:cNvSpPr/>
            <p:nvPr/>
          </p:nvSpPr>
          <p:spPr>
            <a:xfrm>
              <a:off x="1015920" y="308592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Мышь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_s63513"/>
            <p:cNvSpPr/>
            <p:nvPr/>
          </p:nvSpPr>
          <p:spPr>
            <a:xfrm>
              <a:off x="1015920" y="411444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Трекбол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_s63514"/>
            <p:cNvSpPr/>
            <p:nvPr/>
          </p:nvSpPr>
          <p:spPr>
            <a:xfrm>
              <a:off x="1015920" y="514332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Джойстик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_s63515"/>
            <p:cNvSpPr/>
            <p:nvPr/>
          </p:nvSpPr>
          <p:spPr>
            <a:xfrm>
              <a:off x="3047760" y="3085920"/>
              <a:ext cx="15238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Сенсорный экран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_s63516"/>
            <p:cNvSpPr/>
            <p:nvPr/>
          </p:nvSpPr>
          <p:spPr>
            <a:xfrm>
              <a:off x="3047760" y="4114440"/>
              <a:ext cx="15274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Световое перо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_s63517"/>
            <p:cNvSpPr/>
            <p:nvPr/>
          </p:nvSpPr>
          <p:spPr>
            <a:xfrm>
              <a:off x="3047760" y="5143320"/>
              <a:ext cx="15274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Дигитайзер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_s63518"/>
            <p:cNvSpPr/>
            <p:nvPr/>
          </p:nvSpPr>
          <p:spPr>
            <a:xfrm>
              <a:off x="3047760" y="6171840"/>
              <a:ext cx="1527480" cy="685440"/>
            </a:xfrm>
            <a:prstGeom prst="roundRect">
              <a:avLst>
                <a:gd name="adj" fmla="val 16667"/>
              </a:avLst>
            </a:prstGeom>
            <a:solidFill>
              <a:srgbClr val="0399ff">
                <a:alpha val="50000"/>
              </a:srgbClr>
            </a:solidFill>
            <a:ln w="28440">
              <a:solidFill>
                <a:srgbClr val="0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Тачпад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867280" y="692280"/>
            <a:ext cx="2695680" cy="2000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826920" y="692280"/>
            <a:ext cx="3168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Мыш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2060640"/>
            <a:ext cx="410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еханические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тические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еспроводные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3708360" y="335772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чество мыши определяется ее </a:t>
            </a:r>
            <a:r>
              <a:rPr b="0" lang="ru-RU" sz="2400" spc="-1" strike="noStrike">
                <a:solidFill>
                  <a:srgbClr val="29ed1f"/>
                </a:solidFill>
                <a:latin typeface="Arial"/>
              </a:rPr>
              <a:t>разрешающей способность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которая измеряется числом точек на дюйм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pi (dot per inch)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мышей среднего класса разрешение составляет 400 – 8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p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1825560" cy="160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Основные пользовательские характеристики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36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оличество нажатий кнопки до ее отказ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36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еакция на движение ру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36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Разрешен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36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Дизай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33520" indent="365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добство в работе (Эргонометричность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2881080" cy="22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40360" y="1611360"/>
            <a:ext cx="4547880" cy="420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826920" y="692280"/>
            <a:ext cx="3168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Трекбо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26920" y="692280"/>
            <a:ext cx="3168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Джойст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651640" y="3370320"/>
            <a:ext cx="2770200" cy="2494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68360" y="3141720"/>
            <a:ext cx="2019240" cy="317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187280" y="692280"/>
            <a:ext cx="705816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ed1f"/>
                </a:solidFill>
                <a:latin typeface="Impact"/>
              </a:rPr>
              <a:t>Комбинированные устрой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ed1f"/>
              </a:solidFill>
              <a:latin typeface="Impact"/>
              <a:ea typeface="Impact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3959280" cy="2936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300720" y="2133720"/>
            <a:ext cx="1827360" cy="17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6-26T18:07:20Z</dcterms:modified>
  <cp:revision>26</cp:revision>
  <dc:subject/>
  <dc:title>Презентация PowerPoint</dc:title>
</cp:coreProperties>
</file>