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3.gif" ContentType="image/gif"/>
  <Override PartName="/ppt/media/image6.png" ContentType="image/png"/>
  <Override PartName="/ppt/media/image18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9E59-A3C9-4638-A4E8-B5EDA78D7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E761-D831-444D-B020-92EE2CF1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A4DF-C28B-4F69-8D01-A613AEFB5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0CEA-7895-45AE-95DF-4D10B9A64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0534-873C-4068-9323-3F9AF4C4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7A58-5314-4982-A83E-FFE7ACEE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2CF5-25FA-4E40-8DA7-D09DF0DA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D6B0-4BF6-4CF1-8960-5C5EC42B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8EC2-C947-47EC-885C-0F2D4524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F75D-E47B-4B12-9151-6936180F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39EF-25F5-4F5E-9020-5169EC90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EF51-FCCF-40FA-B758-5CEDCD52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CC6B-A413-43AA-9727-4251147BB6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610B-9E81-4B8A-A687-F07D89BDE9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перативная память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Долговременная память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95280" y="549360"/>
            <a:ext cx="426708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вый накопитель на жестких дисках IBM 350 Disk File разработан в 1955 году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копитель емкостью 5 Мбайт состоял из 50 дисков диаметром 24 дюйма, вращавшихся со скоростью 1200 об/мин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мер накопителя был сравним с двумя современными двухкамерными холодильникам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643280" y="549360"/>
            <a:ext cx="4211640" cy="576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корость записи и считывания информации с жестких дисков достаточно велика (около 133 Мбайт/с) за счет быстрого вращения дисков (7200 об./мин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ъем жестких дисков может достигать 1 Тбайт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азерные (оптические) диски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D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- Compact Disk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компакт диск) и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VD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Digital Video Disk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цифровой диск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rcRect l="0" t="8833" r="0" b="10527"/>
          <a:stretch/>
        </p:blipFill>
        <p:spPr>
          <a:xfrm>
            <a:off x="1763640" y="3141720"/>
            <a:ext cx="4897440" cy="296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лассификация лазерных дисков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21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з возможности записи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-ROM (Compact Disk Read Only Memory)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VD-ROM (Digital Video Disk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ad Only Memory)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21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однократной записью и многократным чтением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-R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VD-R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21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многократной записью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-RW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VD-RW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W – Re Writable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403848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ъем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D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иска = 700 Мбай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3789360"/>
            <a:ext cx="345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ъе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VD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иска = 4,7 Гбайт или 8,5 Гбай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284720" y="907920"/>
            <a:ext cx="4505400" cy="540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lash –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иски (карты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40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ash-память - это энергонезависимый тип памяти, позволяющий записывать и хранить данные в микросхемах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857840" y="3743280"/>
            <a:ext cx="4286160" cy="3114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09480" y="2955960"/>
            <a:ext cx="4038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лэш-памят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редставляет собой микросхему, помещенную в миниатюрный плоский корпус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икросхемы флэш-памяти могут содержать миллиарды ячеек, каждая из которых хранит 1 бит информаци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АРТЫ ФЛЭШ-ПАМЯТ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549360"/>
            <a:ext cx="424800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нформационная емкость карт флэш-памяти может достигать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28 Гбайт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нформация записанная на флэш-память, может очень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олго хранитьс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от 20 до 100 лет)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Флэш-память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омпактне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и потребляет значительно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ньше энерги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примерно в 10-20 раз), чем магнитные и оптические дисководы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3816360" cy="1803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643280" y="4292640"/>
            <a:ext cx="4500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считывания и записи информации карта памяти вставляется в специальные накопители (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ртридер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, встроенные в мобильные устройства или подключаемые к компьютеру через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B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порт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987640" y="1916280"/>
            <a:ext cx="1584360" cy="1363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340000" y="4797360"/>
            <a:ext cx="2232000" cy="1816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39640" y="609300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ниверсальный картридер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332000" y="2781360"/>
            <a:ext cx="2376360" cy="1782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324000" y="1916280"/>
            <a:ext cx="1619280" cy="1390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900000" y="404640"/>
          <a:ext cx="7855200" cy="5073840"/>
        </p:xfrm>
        <a:graphic>
          <a:graphicData uri="http://schemas.openxmlformats.org/drawingml/2006/table">
            <a:tbl>
              <a:tblPr/>
              <a:tblGrid>
                <a:gridCol w="1828800"/>
                <a:gridCol w="1698840"/>
                <a:gridCol w="4327560"/>
              </a:tblGrid>
              <a:tr h="180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Тип носител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Емкость носител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Опасные воздейств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иске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,44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Мб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Магнитные поля, нагревание, физическое воздейств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Жесткий дис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о 1 Тбай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Удары, изменение пространственной ориентации в процессе рабо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CD-R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650-800 Мбай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Царапины, загрязн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DVD-R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,7 Гбайт, 8,5 Гбай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Устройства на основе flash-памя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до 1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8 Гбай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Перенапряжение пит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554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ЛОГИЧЕСКАЯ СТРУКТУРА ОПЕРАТИВНОЙ ПАМЯТ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620640"/>
            <a:ext cx="8532720" cy="29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еративная памят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редставляет собой множество ячеек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ждая ячейка имеет свой уникальный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дре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умерация ячеек начинается с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ул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ждая ячейка памяти имеет объем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 бай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ксимальный объем адресуемой памят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равен произведению количества ячее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1 байт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5280" y="3645000"/>
            <a:ext cx="3960720" cy="2192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4643280" y="3716280"/>
          <a:ext cx="3743640" cy="2009880"/>
        </p:xfrm>
        <a:graphic>
          <a:graphicData uri="http://schemas.openxmlformats.org/drawingml/2006/table">
            <a:tbl>
              <a:tblPr/>
              <a:tblGrid>
                <a:gridCol w="1944720"/>
                <a:gridCol w="1798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мер ячей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Ячей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073 741 8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1010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1110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1111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1010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бъем оперативной памят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V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ч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бъем оперативной памяти = объем одной ячейки * количество ячеек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пример, для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=1073741824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=1байт*1073741823= 1Гбайт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Внешняя память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371600"/>
            <a:ext cx="82296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ля долговременного хранения информации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нешняя память энергонезависима и позволяет сохранять большой объем информаци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д внешней памятью подразумевают обычно как устройства чтения/записи информации – </a:t>
            </a:r>
            <a:r>
              <a:rPr b="1" lang="en-US" sz="2400" spc="-1" strike="noStrike">
                <a:solidFill>
                  <a:srgbClr val="29ed1f"/>
                </a:solidFill>
                <a:latin typeface="Tahoma"/>
              </a:rPr>
              <a:t>накопители (дисководы)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так и устройства, где непосредственно хранится информация – </a:t>
            </a:r>
            <a:r>
              <a:rPr b="1" lang="en-US" sz="2400" spc="-1" strike="noStrike">
                <a:solidFill>
                  <a:srgbClr val="29ed1f"/>
                </a:solidFill>
                <a:latin typeface="Tahoma"/>
              </a:rPr>
              <a:t>носители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нформаци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ак правило, для каждого носителя информации существует свой накопитель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620120" y="5029200"/>
            <a:ext cx="1162080" cy="1209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77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лассификация носителей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5345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гнитные носител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ибкие магнитные диски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Жесткие магнитные диски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гнитные ленты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птические носител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V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ргозависимы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629400" y="3429000"/>
            <a:ext cx="2133720" cy="143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Гибкие магнитные диски (дискета, флоппи-диск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1989000"/>
            <a:ext cx="417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нформационная ёмкость дискеты невелика и составляет всего 1.44 Мбайт. Скорость записи и считывания информации также мала (около 50 Кбайт/с) из-за медленного вращения диска (360 об./мин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003640" y="2637000"/>
            <a:ext cx="3745080" cy="328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4680000" cy="39103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10552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 гибкого диска 2 стороны по 80 дорожек. На каждой дорожке по 18 секторов. Объем одного сектора = 512 байт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ъем диска = 2*80*18*512=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44 Мбай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Жесткие магнитные диски (винчестер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5791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нчестер является обязательным компонентом современного компьютера 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DD – Hard Disk Drive) 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ставляет собой группу дисков, имеющих магнитное покрытие и вращающихся с высокой скоростью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095880" y="1447920"/>
            <a:ext cx="2695680" cy="2000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172200" y="4419720"/>
            <a:ext cx="2514600" cy="200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250920" y="260280"/>
            <a:ext cx="8713800" cy="5256360"/>
            <a:chOff x="250920" y="260280"/>
            <a:chExt cx="8713800" cy="5256360"/>
          </a:xfrm>
        </p:grpSpPr>
        <p:sp>
          <p:nvSpPr>
            <p:cNvPr id="64" name=""/>
            <p:cNvSpPr/>
            <p:nvPr/>
          </p:nvSpPr>
          <p:spPr>
            <a:xfrm>
              <a:off x="250920" y="260280"/>
              <a:ext cx="8713800" cy="525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2"/>
            <a:stretch/>
          </p:blipFill>
          <p:spPr>
            <a:xfrm>
              <a:off x="250920" y="692280"/>
              <a:ext cx="8283600" cy="445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10:55:06Z</dcterms:created>
  <dc:creator>Марат-Вера</dc:creator>
  <dc:description/>
  <dc:language>en-US</dc:language>
  <cp:lastModifiedBy>Доронин</cp:lastModifiedBy>
  <dcterms:modified xsi:type="dcterms:W3CDTF">2012-06-27T11:17:33Z</dcterms:modified>
  <cp:revision>28</cp:revision>
  <dc:subject/>
  <dc:title>Презентация PowerPoint</dc:title>
</cp:coreProperties>
</file>