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91A-8487-4EEB-8FD1-4421570B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7C7-34F4-40AE-A188-6AFEAC48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E34-B4A2-44B7-BD08-5DD50EDC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716-64EC-4041-B64A-606AE525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C10-1B96-4951-8768-0C6B7C30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9A1-889B-427C-903C-D2C979EA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445-9DA4-401C-8D53-E1BC7F9C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E3F-34B9-455F-9E67-12286A24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16B-E120-4374-B6E3-68984F7E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1A8-BCB1-4D3A-8529-CDB14CCA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4AA-8E13-4409-95F9-003E2D38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BEC-EF0A-4AEC-B599-AA6593AA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B304-490D-476E-962C-333E34D00F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B120-A736-4B3C-A19E-75DE0B184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Файл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ФАЙ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76500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ed1f"/>
                </a:solidFill>
                <a:latin typeface="Arial"/>
              </a:rPr>
              <a:t>Файл</a:t>
            </a:r>
            <a:r>
              <a:rPr b="0" lang="ru-RU" sz="1800" spc="-1" strike="noStrike">
                <a:solidFill>
                  <a:srgbClr val="29ed1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это некотора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программа или данные), имеюща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м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хранящаяся в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лговремен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внешней) памят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8000" y="692280"/>
            <a:ext cx="1008360" cy="93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1125360"/>
            <a:ext cx="1152720" cy="644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24000" y="692280"/>
            <a:ext cx="792000" cy="777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2708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ширение файла обычно дописывается к имени приложением, в котором этот файл создан. Приложение, с которым связан файл, можно изменить.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916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я фай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стоит из двух частей, разделенных точкой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бственно име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файла и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сшир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определяющего тип файл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3500280"/>
          <a:ext cx="4753080" cy="2679840"/>
        </p:xfrm>
        <a:graphic>
          <a:graphicData uri="http://schemas.openxmlformats.org/drawingml/2006/table">
            <a:tbl>
              <a:tblPr/>
              <a:tblGrid>
                <a:gridCol w="316872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Тип фай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Расшир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6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Исполнимые 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Текстовые 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xt, do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Web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-стран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htm, htm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Графические 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bmp, gif, jp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Звуковые 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wav, m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Видео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avi, wm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Архив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zip, 7z, r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5435640" y="3500280"/>
            <a:ext cx="345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айл в каталоге описывается записью, в которой указывается его имя, размер, дата и время создания, а также набор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трибут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только для чтения»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скрытый»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системный»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архивный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69228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Внешняя память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АРХИВАЦИЯ ФАЙЛ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765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ивац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жатие) файлов выполняется для уменьшения места, занимаемого файлами, с целью долговременного хранения или передачи по компьютерным сетям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архивации файлов применяютс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файловые менедже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ли специализированные приложения –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рхивато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708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й простой алгоритм сжатия данных основан на замене повторяющихся битов более короткой последовательностью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342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чше всего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жимаются текстовы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рафические файл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ктическ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 сжимаются файлы архив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сполнимые файл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4869000"/>
            <a:ext cx="1757160" cy="153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156360" y="486900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908000" y="486900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422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ют различные архиваторы файлов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P, 7-Zip, RA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524720" y="177336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84360" y="1844640"/>
            <a:ext cx="928440" cy="74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ерархическая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файловая систем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АТАЛОГ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71280" y="692280"/>
            <a:ext cx="8964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ждый том носителя информации содержит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рневой катало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 котором перечислены хранящиеся на носителе файлы и папк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пись о файле в каталоге содержит имя файла, адрес первого кластера, с которого начинается файл, размер файла, дату и время его создания, а также атрибуты файла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1916280"/>
          <a:ext cx="8353440" cy="1493640"/>
        </p:xfrm>
        <a:graphic>
          <a:graphicData uri="http://schemas.openxmlformats.org/drawingml/2006/table">
            <a:tbl>
              <a:tblPr/>
              <a:tblGrid>
                <a:gridCol w="1411200"/>
                <a:gridCol w="1625760"/>
                <a:gridCol w="1225440"/>
                <a:gridCol w="1362240"/>
                <a:gridCol w="1366560"/>
                <a:gridCol w="13622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Имя фай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Адрес первого класт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бъем файла (Кбай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Дата со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Время со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Атрибу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Файл_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4.01.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4.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Файл_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0.03.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851280" y="3573360"/>
            <a:ext cx="5292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диске хранится много файлов, то для удобства поиска файлы хранятся в многоуровневой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ерархическ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файловой системе, которая имеет древовидную структуру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3241440" cy="3138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24360" y="4941720"/>
            <a:ext cx="46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ь к файлу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\Документы\Изображения\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e.bm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ФРАГМЕНТАЦИЯ ДИСК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692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рагментация файл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фрагменты файла хранятся в различных, удаленных друг от друга кластерах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13372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комендуется периодически проводит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фрагментаци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диска, в процессе которой файлы записываются в кластеры, последовательно идущие друг за друго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14842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езультате фрагментации файлов может происходить замедление скорости обмена данными с носителем информаци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7715520" cy="246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ЗАДАНИЕ: НАРИСОВАТЬ И СОЗДАТЬ ДЕРЕВО ПАПОК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тинки\0017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p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тинки\2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m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тинки\Мои\солнце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bm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гры\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llo.ex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гры\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bytype.ex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гры\Программы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\roo.ex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ы\чуд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do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ы\пословицы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t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ы\Мои\автобиографи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t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ы\Мои\реферат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do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457200" y="274680"/>
            <a:ext cx="8435160" cy="5601960"/>
            <a:chOff x="457200" y="274680"/>
            <a:chExt cx="8435160" cy="5601960"/>
          </a:xfrm>
        </p:grpSpPr>
        <p:cxnSp>
          <p:nvCxnSpPr>
            <p:cNvPr id="78" name="_s68612"/>
            <p:cNvCxnSpPr>
              <a:stCxn id="79" idx="1"/>
              <a:endCxn id="80" idx="2"/>
            </p:cNvCxnSpPr>
            <p:nvPr/>
          </p:nvCxnSpPr>
          <p:spPr>
            <a:xfrm rot="10800000">
              <a:off x="5376600" y="5366160"/>
              <a:ext cx="1283040" cy="330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" name="_s68613"/>
            <p:cNvCxnSpPr>
              <a:stCxn id="82" idx="1"/>
              <a:endCxn id="80" idx="2"/>
            </p:cNvCxnSpPr>
            <p:nvPr/>
          </p:nvCxnSpPr>
          <p:spPr>
            <a:xfrm flipV="1" rot="10800000">
              <a:off x="5376600" y="5150520"/>
              <a:ext cx="1292760" cy="216720"/>
            </a:xfrm>
            <a:prstGeom prst="bentConnector4">
              <a:avLst>
                <a:gd name="adj1" fmla="val 8551"/>
                <a:gd name="adj2" fmla="val -219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" name="_s68614"/>
            <p:cNvCxnSpPr>
              <a:stCxn id="84" idx="1"/>
              <a:endCxn id="85" idx="2"/>
            </p:cNvCxnSpPr>
            <p:nvPr/>
          </p:nvCxnSpPr>
          <p:spPr>
            <a:xfrm flipV="1" rot="10800000">
              <a:off x="5376600" y="3460680"/>
              <a:ext cx="1514160" cy="180000"/>
            </a:xfrm>
            <a:prstGeom prst="bentConnector4">
              <a:avLst>
                <a:gd name="adj1" fmla="val 7728"/>
                <a:gd name="adj2" fmla="val -1583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" name="_s68615"/>
            <p:cNvCxnSpPr>
              <a:stCxn id="87" idx="1"/>
              <a:endCxn id="88" idx="2"/>
            </p:cNvCxnSpPr>
            <p:nvPr/>
          </p:nvCxnSpPr>
          <p:spPr>
            <a:xfrm flipV="1" rot="10800000">
              <a:off x="5376600" y="1891800"/>
              <a:ext cx="1585800" cy="165240"/>
            </a:xfrm>
            <a:prstGeom prst="bentConnector4">
              <a:avLst>
                <a:gd name="adj1" fmla="val 7379"/>
                <a:gd name="adj2" fmla="val 76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68616"/>
            <p:cNvCxnSpPr>
              <a:stCxn id="80" idx="1"/>
              <a:endCxn id="90" idx="2"/>
            </p:cNvCxnSpPr>
            <p:nvPr/>
          </p:nvCxnSpPr>
          <p:spPr>
            <a:xfrm rot="10800000">
              <a:off x="2535120" y="4574520"/>
              <a:ext cx="1771200" cy="648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68617"/>
            <p:cNvCxnSpPr>
              <a:stCxn id="92" idx="1"/>
              <a:endCxn id="90" idx="2"/>
            </p:cNvCxnSpPr>
            <p:nvPr/>
          </p:nvCxnSpPr>
          <p:spPr>
            <a:xfrm rot="10800000">
              <a:off x="2535120" y="4574520"/>
              <a:ext cx="1771200" cy="181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8618"/>
            <p:cNvCxnSpPr>
              <a:stCxn id="94" idx="1"/>
              <a:endCxn id="90" idx="2"/>
            </p:cNvCxnSpPr>
            <p:nvPr/>
          </p:nvCxnSpPr>
          <p:spPr>
            <a:xfrm flipV="1" rot="10800000">
              <a:off x="2535120" y="4250880"/>
              <a:ext cx="1771200" cy="323640"/>
            </a:xfrm>
            <a:prstGeom prst="bentConnector4">
              <a:avLst>
                <a:gd name="adj1" fmla="val 6607"/>
                <a:gd name="adj2" fmla="val 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8619"/>
            <p:cNvCxnSpPr>
              <a:stCxn id="85" idx="1"/>
              <a:endCxn id="96" idx="2"/>
            </p:cNvCxnSpPr>
            <p:nvPr/>
          </p:nvCxnSpPr>
          <p:spPr>
            <a:xfrm rot="10800000">
              <a:off x="2499840" y="2671200"/>
              <a:ext cx="1806480" cy="789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8620"/>
            <p:cNvCxnSpPr>
              <a:stCxn id="98" idx="1"/>
              <a:endCxn id="96" idx="2"/>
            </p:cNvCxnSpPr>
            <p:nvPr/>
          </p:nvCxnSpPr>
          <p:spPr>
            <a:xfrm rot="10800000">
              <a:off x="2499840" y="2671200"/>
              <a:ext cx="1806480" cy="268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68621"/>
            <p:cNvCxnSpPr>
              <a:stCxn id="100" idx="1"/>
              <a:endCxn id="96" idx="2"/>
            </p:cNvCxnSpPr>
            <p:nvPr/>
          </p:nvCxnSpPr>
          <p:spPr>
            <a:xfrm flipV="1" rot="10800000">
              <a:off x="2499840" y="2440080"/>
              <a:ext cx="1806480" cy="231840"/>
            </a:xfrm>
            <a:prstGeom prst="bentConnector4">
              <a:avLst>
                <a:gd name="adj1" fmla="val 6477"/>
                <a:gd name="adj2" fmla="val -94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68622"/>
            <p:cNvCxnSpPr>
              <a:stCxn id="88" idx="1"/>
              <a:endCxn id="102" idx="2"/>
            </p:cNvCxnSpPr>
            <p:nvPr/>
          </p:nvCxnSpPr>
          <p:spPr>
            <a:xfrm rot="10800000">
              <a:off x="2535120" y="1123200"/>
              <a:ext cx="1771200" cy="755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68623"/>
            <p:cNvCxnSpPr>
              <a:stCxn id="104" idx="1"/>
              <a:endCxn id="102" idx="2"/>
            </p:cNvCxnSpPr>
            <p:nvPr/>
          </p:nvCxnSpPr>
          <p:spPr>
            <a:xfrm rot="10800000">
              <a:off x="2535120" y="1123200"/>
              <a:ext cx="1771200" cy="253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68624"/>
            <p:cNvCxnSpPr>
              <a:stCxn id="106" idx="1"/>
              <a:endCxn id="102" idx="2"/>
            </p:cNvCxnSpPr>
            <p:nvPr/>
          </p:nvCxnSpPr>
          <p:spPr>
            <a:xfrm flipV="1" rot="10800000">
              <a:off x="2535120" y="799560"/>
              <a:ext cx="1771200" cy="323640"/>
            </a:xfrm>
            <a:prstGeom prst="bentConnector4">
              <a:avLst>
                <a:gd name="adj1" fmla="val 9087"/>
                <a:gd name="adj2" fmla="val -8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68625"/>
            <p:cNvCxnSpPr>
              <a:stCxn id="90" idx="1"/>
              <a:endCxn id="108" idx="2"/>
            </p:cNvCxnSpPr>
            <p:nvPr/>
          </p:nvCxnSpPr>
          <p:spPr>
            <a:xfrm rot="10800000">
              <a:off x="794160" y="834840"/>
              <a:ext cx="560520" cy="3524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68626"/>
            <p:cNvCxnSpPr>
              <a:stCxn id="96" idx="1"/>
              <a:endCxn id="108" idx="2"/>
            </p:cNvCxnSpPr>
            <p:nvPr/>
          </p:nvCxnSpPr>
          <p:spPr>
            <a:xfrm rot="10800000">
              <a:off x="794160" y="834840"/>
              <a:ext cx="560520" cy="1638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68627"/>
            <p:cNvCxnSpPr>
              <a:stCxn id="102" idx="1"/>
              <a:endCxn id="108" idx="2"/>
            </p:cNvCxnSpPr>
            <p:nvPr/>
          </p:nvCxnSpPr>
          <p:spPr>
            <a:xfrm rot="10800000">
              <a:off x="794160" y="834840"/>
              <a:ext cx="560520" cy="4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68628"/>
            <p:cNvSpPr/>
            <p:nvPr/>
          </p:nvSpPr>
          <p:spPr>
            <a:xfrm>
              <a:off x="457200" y="274680"/>
              <a:ext cx="676440" cy="5608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:\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_s68629"/>
            <p:cNvSpPr/>
            <p:nvPr/>
          </p:nvSpPr>
          <p:spPr>
            <a:xfrm>
              <a:off x="1355040" y="624600"/>
              <a:ext cx="2359080" cy="49932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Картинки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_s68630"/>
            <p:cNvSpPr/>
            <p:nvPr/>
          </p:nvSpPr>
          <p:spPr>
            <a:xfrm>
              <a:off x="1355040" y="2273760"/>
              <a:ext cx="2287800" cy="39780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Игры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_s68631"/>
            <p:cNvSpPr/>
            <p:nvPr/>
          </p:nvSpPr>
          <p:spPr>
            <a:xfrm>
              <a:off x="1355040" y="4143960"/>
              <a:ext cx="2359080" cy="4312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Документы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_s68632"/>
            <p:cNvSpPr/>
            <p:nvPr/>
          </p:nvSpPr>
          <p:spPr>
            <a:xfrm>
              <a:off x="4306680" y="620640"/>
              <a:ext cx="2141640" cy="35964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0017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jpg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_s68633"/>
            <p:cNvSpPr/>
            <p:nvPr/>
          </p:nvSpPr>
          <p:spPr>
            <a:xfrm>
              <a:off x="4306680" y="1195560"/>
              <a:ext cx="2141640" cy="35964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2.bmp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_s68634"/>
            <p:cNvSpPr/>
            <p:nvPr/>
          </p:nvSpPr>
          <p:spPr>
            <a:xfrm>
              <a:off x="4306680" y="1698120"/>
              <a:ext cx="2141640" cy="35964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Мои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_s68635"/>
            <p:cNvSpPr/>
            <p:nvPr/>
          </p:nvSpPr>
          <p:spPr>
            <a:xfrm>
              <a:off x="4306680" y="2273760"/>
              <a:ext cx="2141640" cy="33120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hallo.ex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_s68636"/>
            <p:cNvSpPr/>
            <p:nvPr/>
          </p:nvSpPr>
          <p:spPr>
            <a:xfrm>
              <a:off x="4306680" y="2778120"/>
              <a:ext cx="2167200" cy="3214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Babytype.ex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_s68637"/>
            <p:cNvSpPr/>
            <p:nvPr/>
          </p:nvSpPr>
          <p:spPr>
            <a:xfrm>
              <a:off x="4306680" y="3279960"/>
              <a:ext cx="2141640" cy="36036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Программы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_s68638"/>
            <p:cNvSpPr/>
            <p:nvPr/>
          </p:nvSpPr>
          <p:spPr>
            <a:xfrm>
              <a:off x="4306680" y="4071600"/>
              <a:ext cx="2141640" cy="35964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Чудо.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doc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_s68639"/>
            <p:cNvSpPr/>
            <p:nvPr/>
          </p:nvSpPr>
          <p:spPr>
            <a:xfrm>
              <a:off x="4306680" y="4575240"/>
              <a:ext cx="2141640" cy="36036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Пословицы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txt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_s68640"/>
            <p:cNvSpPr/>
            <p:nvPr/>
          </p:nvSpPr>
          <p:spPr>
            <a:xfrm>
              <a:off x="4306680" y="5077800"/>
              <a:ext cx="2141640" cy="289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Мои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_s68641"/>
            <p:cNvSpPr/>
            <p:nvPr/>
          </p:nvSpPr>
          <p:spPr>
            <a:xfrm>
              <a:off x="6962760" y="1698120"/>
              <a:ext cx="1929600" cy="38952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Солнце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bmp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_s68642"/>
            <p:cNvSpPr/>
            <p:nvPr/>
          </p:nvSpPr>
          <p:spPr>
            <a:xfrm>
              <a:off x="6891120" y="3279960"/>
              <a:ext cx="1997640" cy="36036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Roo.ex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_s68643"/>
            <p:cNvSpPr/>
            <p:nvPr/>
          </p:nvSpPr>
          <p:spPr>
            <a:xfrm>
              <a:off x="6669720" y="4935600"/>
              <a:ext cx="2222640" cy="4312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Автобиография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txt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_s68644"/>
            <p:cNvSpPr/>
            <p:nvPr/>
          </p:nvSpPr>
          <p:spPr>
            <a:xfrm>
              <a:off x="6660000" y="5516280"/>
              <a:ext cx="2232360" cy="36036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Реферат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doc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02T17:14:34Z</dcterms:modified>
  <cp:revision>26</cp:revision>
  <dc:subject/>
  <dc:title>Презентация PowerPoint</dc:title>
</cp:coreProperties>
</file>