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gif" ContentType="image/gif"/>
  <Override PartName="/ppt/media/image8.wmf" ContentType="image/x-wmf"/>
  <Override PartName="/ppt/media/image6.wmf" ContentType="image/x-wmf"/>
  <Override PartName="/ppt/media/image7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E1D7-7592-49AE-9BED-A507795A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7D3D-F1E1-4DF3-8B4F-1E3095B4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414B-739C-4592-8A56-809F1E63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5A6-81C2-4A80-A30A-21E917DA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4C5-641D-4BC8-9CA9-69E9B930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355A-72F1-4CD9-A2E5-4222EFA1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5C61-CEF5-4F2D-AD93-0F9AB78A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A6C-BCC9-4944-8648-ECA0C418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95B4-1F3B-483C-A3B7-76D60D4D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D18-1348-4EB0-B6D0-6CA2C5AC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09A0-DA5B-408E-B7B6-B7E39204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2CC-36CC-40D4-8577-A5ED178C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63C0-6890-4964-BF50-D063E0AA97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84E8-C236-42DA-84BB-5D7A47D911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" Target="slide3.xml"/><Relationship Id="rId1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881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КОМПЬЮТЕРНЫЕ ВИРУСЫ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И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МЕТОДЫ  БОРЬБЫ С НИМ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95640" y="18900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ризнаки зараженности компьютер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1508040" y="225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143208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700280"/>
            <a:ext cx="831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медление работы некоторых програм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величение размеров файл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явление не существовавших ранее «странных» файл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меньшение объема доступной оперативной памят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незапно возникающие разнообразные видео и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вуковые эффект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ризнаки зараженности компьютер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1628640"/>
            <a:ext cx="8388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незапно возникающие разнообразные видео 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вуковые эффект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явление сбоев в работе операционной систем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апись информации на диски в моменты времени, когда этого не должно происходить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екращение работы или неправильная работ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нее нормально функционировавших програм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ступление электронного письма исполняемым приложением от неизвестного корреспондент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7812000" y="6400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3" action="ppaction://hlinksldjump"/>
              </a:rPr>
              <a:t>мен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4892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веты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для спокойной жизн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560" y="2044800"/>
            <a:ext cx="831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Оснастите  свой компьютер современными антивирусными программами,  например  антивирус Касперского,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Nod32,  Doctor Web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и постоянно возобновляйте их версии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Перед считывании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 флэш-карт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информации, записанной на других  компьютерах , всегда проверяйте эти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флэш-карты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на наличие вирусов,  запуская антивирусные программы своего компьютера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Обязательно делайте архивные копии ценной для вас информации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Текст 2" descr=""/>
          <p:cNvPicPr/>
          <p:nvPr/>
        </p:nvPicPr>
        <p:blipFill>
          <a:blip r:embed="rId2"/>
          <a:stretch/>
        </p:blipFill>
        <p:spPr>
          <a:xfrm>
            <a:off x="755640" y="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нтивирусные программ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7416720" cy="527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&amp;Kcy;&amp;acy;&amp;rcy;&amp;tcy;&amp;icy;&amp;ncy;&amp;kcy;&amp;acy; 101 &amp;icy;&amp;zcy; 153130"/>
          <p:cNvPicPr/>
          <p:nvPr/>
        </p:nvPicPr>
        <p:blipFill>
          <a:blip r:embed="rId2"/>
          <a:stretch/>
        </p:blipFill>
        <p:spPr>
          <a:xfrm>
            <a:off x="0" y="0"/>
            <a:ext cx="9144000" cy="679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712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Советы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для спокойной жизн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42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и переносе на свой компьютер файлов  в архивированном виде проверяйте их сразу же после разархивации на жестком  диске, ограничивая область проверки  только вновь записанными файлам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ериодически проверяйте на наличия вирусов, жесткие диски компьюте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спользуйте антивирусные программы для входного контроля всех исполняемых файлов, получаемых из компьютерных сетей.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ачивайте информацию только из безопасных источников интернет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сть обновляйте антивирусную программу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Текст 2" descr=""/>
          <p:cNvPicPr/>
          <p:nvPr/>
        </p:nvPicPr>
        <p:blipFill>
          <a:blip r:embed="rId2"/>
          <a:stretch/>
        </p:blipFill>
        <p:spPr>
          <a:xfrm>
            <a:off x="611280" y="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740720" y="64008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мен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112536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9ed1f"/>
                </a:solidFill>
                <a:uFillTx/>
                <a:latin typeface="Times New Roman"/>
              </a:rPr>
              <a:t>Компьютерные вирусы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являются программами, которые  могут «размножаться» 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скрытно внедрять свои  копии  в файлы, загрузочные сектора дисков и документы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ктивизация компьютерного вирус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жет вызывать  уничтожение программ  и данных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487680"/>
            <a:ext cx="90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9ed1f"/>
                </a:solidFill>
                <a:uFillTx/>
                <a:latin typeface="Times New Roman"/>
              </a:rPr>
              <a:t>Антивирус</a:t>
            </a:r>
            <a:r>
              <a:rPr b="1" lang="ru-RU" sz="3200" spc="-1" strike="noStrike" u="sng">
                <a:solidFill>
                  <a:srgbClr val="cc66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грамма, предназначенная для локализации и уничтожения вируса на конкретном компьютер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4856040"/>
            <a:ext cx="87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9ed1f"/>
                </a:solidFill>
                <a:uFillTx/>
                <a:latin typeface="Times New Roman"/>
              </a:rPr>
              <a:t>Инфицированной</a:t>
            </a:r>
            <a:r>
              <a:rPr b="1" lang="ru-RU" sz="2400" spc="-1" strike="noStrike" u="sng">
                <a:solidFill>
                  <a:srgbClr val="29ed1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зараженной)  программой называется программа, внутри которой находится виру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7524720" y="6308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мен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ed1f"/>
                </a:solidFill>
                <a:latin typeface="Calibri"/>
              </a:rPr>
              <a:t>Вирус под микроскопом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207000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Термин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9ed1f"/>
                </a:solidFill>
                <a:latin typeface="Times New Roman"/>
              </a:rPr>
              <a:t>«компьютерный вирус»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заимствован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 биологии потому, что многие особенности поведения компьютерного вируса сходны с поведением обычных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ирусов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гда инфицированная программа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начинает работу, то сначала управление получае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вирус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5013360"/>
            <a:ext cx="61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79268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ирус заражает другие программы, а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акже выполняет запланированные действия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Текст 2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95280" y="231840"/>
            <a:ext cx="113832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ed1f"/>
                </a:solidFill>
                <a:latin typeface="Arial"/>
              </a:rPr>
              <a:t>Рост компьютерных вирусов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8064360" y="6400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мен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" descr="&amp;Kcy;&amp;acy;&amp;rcy;&amp;tcy;&amp;icy;&amp;ncy;&amp;kcy;&amp;acy; 63 &amp;icy;&amp;zcy; 2803"/>
          <p:cNvPicPr/>
          <p:nvPr/>
        </p:nvPicPr>
        <p:blipFill>
          <a:blip r:embed="rId3"/>
          <a:stretch/>
        </p:blipFill>
        <p:spPr>
          <a:xfrm>
            <a:off x="1042920" y="1773360"/>
            <a:ext cx="7056360" cy="40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ed1f"/>
                </a:solidFill>
                <a:latin typeface="Calibri"/>
              </a:rPr>
              <a:t>Классификация вирус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1591560" y="2174760"/>
            <a:ext cx="729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русы условно классифицируются по следующи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знакам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По среде обитания вирус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По способу заражения среды обитания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По деструктивным возможностя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79360" y="293760"/>
            <a:ext cx="50274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Среда  обита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71680" y="981000"/>
          <a:ext cx="8321400" cy="2316240"/>
        </p:xfrm>
        <a:graphic>
          <a:graphicData uri="http://schemas.openxmlformats.org/drawingml/2006/table">
            <a:tbl>
              <a:tblPr/>
              <a:tblGrid>
                <a:gridCol w="2300040"/>
                <a:gridCol w="602136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тевы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пространяются по компьютерной сет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йловы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недряются в выполняемые файлы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грузочны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недряются в загрузочный  сектор диска </a:t>
                      </a: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BOOT- </a:t>
                      </a: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ктор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187280" y="3567240"/>
            <a:ext cx="65516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Способы зараже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4365720"/>
          <a:ext cx="8136000" cy="1971720"/>
        </p:xfrm>
        <a:graphic>
          <a:graphicData uri="http://schemas.openxmlformats.org/drawingml/2006/table">
            <a:tbl>
              <a:tblPr/>
              <a:tblGrid>
                <a:gridCol w="3095640"/>
                <a:gridCol w="504036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зидентны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пространяются по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пьютерной сет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резидентны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недряются в выполняемы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йлы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Деструктивные возможнос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12840" y="907920"/>
          <a:ext cx="8507160" cy="4805640"/>
        </p:xfrm>
        <a:graphic>
          <a:graphicData uri="http://schemas.openxmlformats.org/drawingml/2006/table">
            <a:tbl>
              <a:tblPr/>
              <a:tblGrid>
                <a:gridCol w="2590560"/>
                <a:gridCol w="5916600"/>
              </a:tblGrid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звред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актически не влияют на работу;  уменьшают свободную память на диске в результате своего распростран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опас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меньшает свободную память, создают звуковые, графические и прочие эффекты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ас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гут привести к серьезным сбоям в работе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чень опас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гут привести к потери программ или системных данных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1908000" y="6021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мен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Вирусные забав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Текст 2" descr=""/>
          <p:cNvPicPr/>
          <p:nvPr/>
        </p:nvPicPr>
        <p:blipFill>
          <a:blip r:embed="rId2"/>
          <a:stretch/>
        </p:blipFill>
        <p:spPr>
          <a:xfrm rot="19702200">
            <a:off x="395280" y="259920"/>
            <a:ext cx="1609560" cy="1808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28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ыводят на экран мешающие текстовые сообщения (поздравления, политические лозунги, фразы с претензией на юмор, нецензурные выражения, рекламу и т.д.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здают звуковые эффект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здают  видеоэффекты (переворачивают или сдвигают экран, имитируют землетрясение, вызывают опадание букв в тексте, имитируют скачущий шарик , выводят на экран рисунки  и картинки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амедляют работу  ЭВМ, постепенно уменьшают объем свободной оперативной памят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величивают износ оборудования (например, головок  дисководов.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Текст 2" descr=""/>
          <p:cNvPicPr/>
          <p:nvPr/>
        </p:nvPicPr>
        <p:blipFill>
          <a:blip r:embed="rId8"/>
          <a:stretch/>
        </p:blipFill>
        <p:spPr>
          <a:xfrm>
            <a:off x="7308720" y="189000"/>
            <a:ext cx="1573200" cy="182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Вирусные  забав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255960" y="2133720"/>
            <a:ext cx="8344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зывают отказ отдельных устройств, зависание или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регрузку компьютера и крах работы всей ЭВ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ничтожаю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T-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блицу, форматируют жесткий диск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ничтожают или искажают дан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уществляют  научный, технический, промышленный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финансовый шпионаж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водят из строя системы защиты информации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ают злоумышленникам тайный доступ к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числительной машин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лают незаконные отчисления с каждой финансово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ерац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24000" y="0"/>
            <a:ext cx="8557920" cy="2297160"/>
            <a:chOff x="324000" y="0"/>
            <a:chExt cx="8557920" cy="2297160"/>
          </a:xfrm>
        </p:grpSpPr>
        <p:pic>
          <p:nvPicPr>
            <p:cNvPr id="70" name="Текст 2" descr=""/>
            <p:cNvPicPr/>
            <p:nvPr/>
          </p:nvPicPr>
          <p:blipFill>
            <a:blip r:embed="rId7"/>
            <a:stretch/>
          </p:blipFill>
          <p:spPr>
            <a:xfrm>
              <a:off x="324000" y="476280"/>
              <a:ext cx="1573200" cy="18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Текст 2" descr=""/>
            <p:cNvPicPr/>
            <p:nvPr/>
          </p:nvPicPr>
          <p:blipFill>
            <a:blip r:embed="rId8"/>
            <a:stretch/>
          </p:blipFill>
          <p:spPr>
            <a:xfrm>
              <a:off x="7308720" y="0"/>
              <a:ext cx="1573200" cy="182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7524720" y="6308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мен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7-09T08:17:57Z</dcterms:modified>
  <cp:revision>27</cp:revision>
  <dc:subject/>
  <dc:title>Презентация PowerPoint</dc:title>
</cp:coreProperties>
</file>