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A3D7-AE08-458A-A86E-834F0B9CE3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EFC5-17A0-4825-82CC-931BB815D75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7434-95C7-4F4C-B2EC-841D9B48099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E5E8-C530-4B96-80B8-B13C6A5C9E5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782B-77B5-46AF-96B8-C288365A020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B694-E324-4308-BB7E-05A61C520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4D6A-A245-4096-A159-0BBB681A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DDBD-3433-426F-9C3A-35F258F46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B079-ECEA-4081-860C-85965C33C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2752-A09E-4E4F-B4F5-1FE18640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60D5-B86E-433A-80EE-B65C7E91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5791-F30A-4165-ACA9-A9BE3905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2243-4CD2-438E-ACBE-B44A3422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6AB7-20C3-4B0A-B75F-A73D12D5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785B-4AAA-4EEC-829C-BB3E480E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0FC4-435B-4225-8F79-F7C38252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719A-7428-49EB-BC61-5EAFAF34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097B-20CA-4637-AC5F-01112DD73F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B7C5-CB14-4E6B-A345-CC53DD22A4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Глобальная компьютерная сеть Интернет. Состав и Адресаци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3"/>
          <p:cNvSpPr/>
          <p:nvPr/>
        </p:nvSpPr>
        <p:spPr>
          <a:xfrm>
            <a:off x="6807240" y="152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3D5C-97D3-4578-B27F-F4B32348255B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3128040" y="1676520"/>
            <a:ext cx="29545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93.162.230.115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2843280" y="981000"/>
            <a:ext cx="804960" cy="397080"/>
          </a:xfrm>
          <a:prstGeom prst="wedgeRoundRectCallout">
            <a:avLst>
              <a:gd name="adj1" fmla="val 37749"/>
              <a:gd name="adj2" fmla="val 120740"/>
              <a:gd name="adj3" fmla="val 16667"/>
            </a:avLst>
          </a:prstGeom>
          <a:solidFill>
            <a:srgbClr val="e7e7ff"/>
          </a:solidFill>
          <a:ln w="0">
            <a:noFill/>
          </a:ln>
          <a:effectLst>
            <a:outerShdw dist="40186" dir="4303641" blurRad="0" rotWithShape="0">
              <a:srgbClr val="cce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0..2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11"/>
          <p:cNvSpPr/>
          <p:nvPr/>
        </p:nvSpPr>
        <p:spPr>
          <a:xfrm>
            <a:off x="3724200" y="982800"/>
            <a:ext cx="804960" cy="397080"/>
          </a:xfrm>
          <a:prstGeom prst="wedgeRoundRectCallout">
            <a:avLst>
              <a:gd name="adj1" fmla="val 6768"/>
              <a:gd name="adj2" fmla="val 126083"/>
              <a:gd name="adj3" fmla="val 16667"/>
            </a:avLst>
          </a:prstGeom>
          <a:solidFill>
            <a:srgbClr val="e7e7ff"/>
          </a:solidFill>
          <a:ln w="0">
            <a:noFill/>
          </a:ln>
          <a:effectLst>
            <a:outerShdw dist="40186" dir="4303641" blurRad="0" rotWithShape="0">
              <a:srgbClr val="cce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0..2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AutoShape 12"/>
          <p:cNvSpPr/>
          <p:nvPr/>
        </p:nvSpPr>
        <p:spPr>
          <a:xfrm>
            <a:off x="4594320" y="971640"/>
            <a:ext cx="804600" cy="397080"/>
          </a:xfrm>
          <a:prstGeom prst="wedgeRoundRectCallout">
            <a:avLst>
              <a:gd name="adj1" fmla="val -10958"/>
              <a:gd name="adj2" fmla="val 142027"/>
              <a:gd name="adj3" fmla="val 16667"/>
            </a:avLst>
          </a:prstGeom>
          <a:solidFill>
            <a:srgbClr val="e7e7ff"/>
          </a:solidFill>
          <a:ln w="0">
            <a:noFill/>
          </a:ln>
          <a:effectLst>
            <a:outerShdw dist="40186" dir="4303641" blurRad="0" rotWithShape="0">
              <a:srgbClr val="cce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0..2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AutoShape 13"/>
          <p:cNvSpPr/>
          <p:nvPr/>
        </p:nvSpPr>
        <p:spPr>
          <a:xfrm>
            <a:off x="5475240" y="960480"/>
            <a:ext cx="804960" cy="397080"/>
          </a:xfrm>
          <a:prstGeom prst="wedgeRoundRectCallout">
            <a:avLst>
              <a:gd name="adj1" fmla="val -30111"/>
              <a:gd name="adj2" fmla="val 136953"/>
              <a:gd name="adj3" fmla="val 16667"/>
            </a:avLst>
          </a:prstGeom>
          <a:solidFill>
            <a:srgbClr val="e7e7ff"/>
          </a:solidFill>
          <a:ln w="0">
            <a:noFill/>
          </a:ln>
          <a:effectLst>
            <a:outerShdw dist="40186" dir="4303641" blurRad="0" rotWithShape="0">
              <a:srgbClr val="cce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0..2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Rectangle 14"/>
          <p:cNvSpPr/>
          <p:nvPr/>
        </p:nvSpPr>
        <p:spPr>
          <a:xfrm>
            <a:off x="923760" y="167796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P-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дрес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AutoShape 16"/>
          <p:cNvSpPr/>
          <p:nvPr/>
        </p:nvSpPr>
        <p:spPr>
          <a:xfrm>
            <a:off x="6300720" y="1916280"/>
            <a:ext cx="2635200" cy="693720"/>
          </a:xfrm>
          <a:prstGeom prst="wedgeRoundRectCallout">
            <a:avLst>
              <a:gd name="adj1" fmla="val -93541"/>
              <a:gd name="adj2" fmla="val -17013"/>
              <a:gd name="adj3" fmla="val 16667"/>
            </a:avLst>
          </a:prstGeom>
          <a:solidFill>
            <a:srgbClr val="e7e7ff"/>
          </a:solidFill>
          <a:ln w="0">
            <a:noFill/>
          </a:ln>
          <a:effectLst>
            <a:outerShdw dist="107932" dir="2700000" blurRad="0" rotWithShape="0">
              <a:srgbClr val="cce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номер сети + номер компьютера в сети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1476360" y="2924280"/>
            <a:ext cx="6838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личество компьютеров, подключенных к Интернету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=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=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3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4 294 967 296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Номер слайда 3"/>
          <p:cNvSpPr/>
          <p:nvPr/>
        </p:nvSpPr>
        <p:spPr>
          <a:xfrm>
            <a:off x="6807240" y="152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939C-5CEF-4BA4-A187-5E97A1819C87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Доменные адреса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401760" y="822240"/>
            <a:ext cx="814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ed1f"/>
                </a:solidFill>
                <a:latin typeface="Arial"/>
              </a:rPr>
              <a:t>Домен</a:t>
            </a:r>
            <a:r>
              <a:rPr b="1" lang="en-US" sz="20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это группа компьютеров, объединенных по некоторому признаку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2415240" y="1413000"/>
            <a:ext cx="40287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www.qqq.microsoft.ru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6496200" y="2224080"/>
            <a:ext cx="1576080" cy="626760"/>
          </a:xfrm>
          <a:prstGeom prst="wedgeRoundRectCallout">
            <a:avLst>
              <a:gd name="adj1" fmla="val -77379"/>
              <a:gd name="adj2" fmla="val -109930"/>
              <a:gd name="adj3" fmla="val 16667"/>
            </a:avLst>
          </a:prstGeom>
          <a:solidFill>
            <a:srgbClr val="e7e7ff"/>
          </a:solidFill>
          <a:ln w="0">
            <a:noFill/>
          </a:ln>
          <a:effectLst>
            <a:outerShdw dist="40186" dir="4303641" blurRad="0" rotWithShape="0">
              <a:srgbClr val="cce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домен 1-ого уровня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AutoShape 7"/>
          <p:cNvSpPr/>
          <p:nvPr/>
        </p:nvSpPr>
        <p:spPr>
          <a:xfrm>
            <a:off x="4643280" y="2205000"/>
            <a:ext cx="1576440" cy="626760"/>
          </a:xfrm>
          <a:prstGeom prst="wedgeRoundRectCallout">
            <a:avLst>
              <a:gd name="adj1" fmla="val -36212"/>
              <a:gd name="adj2" fmla="val -105393"/>
              <a:gd name="adj3" fmla="val 16667"/>
            </a:avLst>
          </a:prstGeom>
          <a:solidFill>
            <a:srgbClr val="e7e7ff"/>
          </a:solidFill>
          <a:ln w="0">
            <a:noFill/>
          </a:ln>
          <a:effectLst>
            <a:outerShdw dist="40186" dir="4303641" blurRad="0" rotWithShape="0">
              <a:srgbClr val="cce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домен 2-ого уровня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2749680" y="2224080"/>
            <a:ext cx="1576080" cy="626760"/>
          </a:xfrm>
          <a:prstGeom prst="wedgeRoundRectCallout">
            <a:avLst>
              <a:gd name="adj1" fmla="val 3569"/>
              <a:gd name="adj2" fmla="val -102120"/>
              <a:gd name="adj3" fmla="val 16667"/>
            </a:avLst>
          </a:prstGeom>
          <a:solidFill>
            <a:srgbClr val="e7e7ff"/>
          </a:solidFill>
          <a:ln w="0">
            <a:noFill/>
          </a:ln>
          <a:effectLst>
            <a:outerShdw dist="40186" dir="4303641" blurRad="0" rotWithShape="0">
              <a:srgbClr val="cce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домен 3-ого уровня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AutoShape 9"/>
          <p:cNvSpPr/>
          <p:nvPr/>
        </p:nvSpPr>
        <p:spPr>
          <a:xfrm>
            <a:off x="876240" y="2224080"/>
            <a:ext cx="1576440" cy="626760"/>
          </a:xfrm>
          <a:prstGeom prst="wedgeRoundRectCallout">
            <a:avLst>
              <a:gd name="adj1" fmla="val 69314"/>
              <a:gd name="adj2" fmla="val -109412"/>
              <a:gd name="adj3" fmla="val 16667"/>
            </a:avLst>
          </a:prstGeom>
          <a:solidFill>
            <a:srgbClr val="e7e7ff"/>
          </a:solidFill>
          <a:ln w="0">
            <a:noFill/>
          </a:ln>
          <a:effectLst>
            <a:outerShdw dist="40186" dir="4303641" blurRad="0" rotWithShape="0">
              <a:srgbClr val="cce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домен 4-ого уровня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468360" y="2997360"/>
            <a:ext cx="814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ed1f"/>
                </a:solidFill>
                <a:latin typeface="Arial"/>
              </a:rPr>
              <a:t>Домены 1-ого уровня</a:t>
            </a:r>
            <a:r>
              <a:rPr b="1" lang="en-US" sz="2000" spc="-1" strike="noStrike">
                <a:solidFill>
                  <a:srgbClr val="29ed1f"/>
                </a:solidFill>
                <a:latin typeface="Arial"/>
              </a:rPr>
              <a:t> (</a:t>
            </a:r>
            <a:r>
              <a:rPr b="1" lang="ru-RU" sz="2000" spc="-1" strike="noStrike">
                <a:solidFill>
                  <a:srgbClr val="29ed1f"/>
                </a:solidFill>
                <a:latin typeface="Arial"/>
              </a:rPr>
              <a:t>доменные зоны</a:t>
            </a:r>
            <a:r>
              <a:rPr b="1" lang="en-US" sz="2000" spc="-1" strike="noStrike">
                <a:solidFill>
                  <a:srgbClr val="29ed1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55480" y="3508200"/>
          <a:ext cx="8244000" cy="2921040"/>
        </p:xfrm>
        <a:graphic>
          <a:graphicData uri="http://schemas.openxmlformats.org/drawingml/2006/table">
            <a:tbl>
              <a:tblPr/>
              <a:tblGrid>
                <a:gridCol w="4122720"/>
                <a:gridCol w="4121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Вид организ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Стра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.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com</a:t>
                      </a: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коммерческие организ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.ru   </a:t>
                      </a: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Росс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.edu</a:t>
                      </a: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образо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.ua</a:t>
                      </a: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Укра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.gov</a:t>
                      </a: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правительство СШ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.by</a:t>
                      </a: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Белорусс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.mil     </a:t>
                      </a: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военные ведомства СШ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.uk</a:t>
                      </a: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Великобрит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.org</a:t>
                      </a: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.net</a:t>
                      </a: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разные организ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.it</a:t>
                      </a: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Итал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.info  </a:t>
                      </a: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информационные сай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.jp</a:t>
                      </a: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Япо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.biz     </a:t>
                      </a: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бизне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.cn</a:t>
                      </a: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Кита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99" name="AutoShape 7"/>
          <p:cNvSpPr/>
          <p:nvPr/>
        </p:nvSpPr>
        <p:spPr>
          <a:xfrm>
            <a:off x="4643280" y="2205000"/>
            <a:ext cx="1576440" cy="626760"/>
          </a:xfrm>
          <a:prstGeom prst="wedgeRoundRectCallout">
            <a:avLst>
              <a:gd name="adj1" fmla="val -36212"/>
              <a:gd name="adj2" fmla="val -105393"/>
              <a:gd name="adj3" fmla="val 16667"/>
            </a:avLst>
          </a:prstGeom>
          <a:solidFill>
            <a:srgbClr val="e7e7ff"/>
          </a:solidFill>
          <a:ln w="0">
            <a:noFill/>
          </a:ln>
          <a:effectLst>
            <a:outerShdw dist="40186" dir="4303641" blurRad="0" rotWithShape="0">
              <a:srgbClr val="cce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домен 2-ого уровня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AutoShape 8"/>
          <p:cNvSpPr/>
          <p:nvPr/>
        </p:nvSpPr>
        <p:spPr>
          <a:xfrm>
            <a:off x="2749680" y="2224080"/>
            <a:ext cx="1576080" cy="626760"/>
          </a:xfrm>
          <a:prstGeom prst="wedgeRoundRectCallout">
            <a:avLst>
              <a:gd name="adj1" fmla="val 3569"/>
              <a:gd name="adj2" fmla="val -102120"/>
              <a:gd name="adj3" fmla="val 16667"/>
            </a:avLst>
          </a:prstGeom>
          <a:solidFill>
            <a:srgbClr val="e7e7ff"/>
          </a:solidFill>
          <a:ln w="0">
            <a:noFill/>
          </a:ln>
          <a:effectLst>
            <a:outerShdw dist="40186" dir="4303641" blurRad="0" rotWithShape="0">
              <a:srgbClr val="cce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домен 3-ого уровня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AutoShape 9"/>
          <p:cNvSpPr/>
          <p:nvPr/>
        </p:nvSpPr>
        <p:spPr>
          <a:xfrm>
            <a:off x="876240" y="2224080"/>
            <a:ext cx="1576440" cy="626760"/>
          </a:xfrm>
          <a:prstGeom prst="wedgeRoundRectCallout">
            <a:avLst>
              <a:gd name="adj1" fmla="val 69314"/>
              <a:gd name="adj2" fmla="val -109412"/>
              <a:gd name="adj3" fmla="val 16667"/>
            </a:avLst>
          </a:prstGeom>
          <a:solidFill>
            <a:srgbClr val="e7e7ff"/>
          </a:solidFill>
          <a:ln w="0">
            <a:noFill/>
          </a:ln>
          <a:effectLst>
            <a:outerShdw dist="40186" dir="4303641" blurRad="0" rotWithShape="0">
              <a:srgbClr val="cce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домен 4-ого уровня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6516720" y="2205000"/>
            <a:ext cx="1576440" cy="626760"/>
          </a:xfrm>
          <a:prstGeom prst="wedgeRoundRectCallout">
            <a:avLst>
              <a:gd name="adj1" fmla="val -77370"/>
              <a:gd name="adj2" fmla="val -10993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40186" dir="4303641" blurRad="0" rotWithShape="0">
              <a:srgbClr val="cce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домен 1-ого уровня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AutoShape 7"/>
          <p:cNvSpPr/>
          <p:nvPr/>
        </p:nvSpPr>
        <p:spPr>
          <a:xfrm>
            <a:off x="4664160" y="2185920"/>
            <a:ext cx="1576440" cy="626760"/>
          </a:xfrm>
          <a:prstGeom prst="wedgeRoundRectCallout">
            <a:avLst>
              <a:gd name="adj1" fmla="val -36212"/>
              <a:gd name="adj2" fmla="val -10539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40186" dir="4303641" blurRad="0" rotWithShape="0">
              <a:srgbClr val="cce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домен 2-ого уровня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2770200" y="2205000"/>
            <a:ext cx="1576440" cy="626760"/>
          </a:xfrm>
          <a:prstGeom prst="wedgeRoundRectCallout">
            <a:avLst>
              <a:gd name="adj1" fmla="val 3560"/>
              <a:gd name="adj2" fmla="val -10212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40186" dir="4303641" blurRad="0" rotWithShape="0">
              <a:srgbClr val="cce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домен 3-ого уровня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AutoShape 9"/>
          <p:cNvSpPr/>
          <p:nvPr/>
        </p:nvSpPr>
        <p:spPr>
          <a:xfrm>
            <a:off x="896760" y="2205000"/>
            <a:ext cx="1576440" cy="626760"/>
          </a:xfrm>
          <a:prstGeom prst="wedgeRoundRectCallout">
            <a:avLst>
              <a:gd name="adj1" fmla="val 69314"/>
              <a:gd name="adj2" fmla="val -109412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40186" dir="4303641" blurRad="0" rotWithShape="0">
              <a:srgbClr val="cce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домен 4-ого уровня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&amp;Kcy;&amp;acy;&amp;rcy;&amp;tcy;&amp;icy;&amp;ncy;&amp;kcy;&amp;acy; 90 &amp;icy;&amp;zcy; 56608"/>
          <p:cNvPicPr/>
          <p:nvPr/>
        </p:nvPicPr>
        <p:blipFill>
          <a:blip r:embed="rId2"/>
          <a:stretch/>
        </p:blipFill>
        <p:spPr>
          <a:xfrm>
            <a:off x="539640" y="1413000"/>
            <a:ext cx="8064720" cy="4032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Запишите доменное им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Задач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8750520" cy="318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Задач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1628640"/>
            <a:ext cx="9144000" cy="336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Задач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8964720" cy="33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Задач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Файл размером 4 Кбайта передаётся через некоторое соединение со скоростью 2048 бит в секунду. Определите размер файла (в байтах), который можно передать за то же время через другое соединение со скоростью 512 бит в секунду. В ответе укажите одно число – размер файла в байтах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3"/>
          <p:cNvSpPr/>
          <p:nvPr/>
        </p:nvSpPr>
        <p:spPr>
          <a:xfrm>
            <a:off x="686592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3D66-1710-4413-9865-30510EDB1FEF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Типы сетей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422280" y="954000"/>
            <a:ext cx="82756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9ed1f"/>
                </a:solidFill>
                <a:latin typeface="Arial"/>
              </a:rPr>
              <a:t>Локальные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LAN = Local Area Network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) –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оединяют компьютеры в одном или нескольких соседних зданиях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63520" indent="-26352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9ed1f"/>
                </a:solidFill>
                <a:latin typeface="Arial"/>
              </a:rPr>
              <a:t>Корпоративные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– соединяют компьютеры одной фирмы, возможно в разных городах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63520" indent="-26352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9ed1f"/>
                </a:solidFill>
                <a:latin typeface="Arial"/>
              </a:rPr>
              <a:t>Муниципальные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(общегородские) – сети органов управления (милиция, паспортный стол, и т.д.)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63520" indent="-26352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ed1f"/>
                </a:solidFill>
                <a:latin typeface="Arial"/>
              </a:rPr>
              <a:t>Региональные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– сети в пределах одного региона (города, страны, континента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63520" indent="-26352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9ed1f"/>
                </a:solidFill>
                <a:latin typeface="Arial"/>
              </a:rPr>
              <a:t>Глобальные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(общемировые), например, Интернет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3"/>
          <p:cNvSpPr/>
          <p:nvPr/>
        </p:nvSpPr>
        <p:spPr>
          <a:xfrm>
            <a:off x="6807240" y="152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95AE-42CA-4DED-8EF7-B98C85F99447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Что такое Интернет?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3195720" y="901800"/>
            <a:ext cx="205560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ed1f"/>
                </a:solidFill>
                <a:latin typeface="Arial"/>
              </a:rPr>
              <a:t>InterNe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1298520" y="1679400"/>
            <a:ext cx="2793960" cy="568440"/>
          </a:xfrm>
          <a:prstGeom prst="wedgeRoundRectCallout">
            <a:avLst>
              <a:gd name="adj1" fmla="val 36023"/>
              <a:gd name="adj2" fmla="val -109217"/>
              <a:gd name="adj3" fmla="val 16667"/>
            </a:avLst>
          </a:prstGeom>
          <a:solidFill>
            <a:srgbClr val="e7e7ff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inter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«между»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AutoShape 7"/>
          <p:cNvSpPr/>
          <p:nvPr/>
        </p:nvSpPr>
        <p:spPr>
          <a:xfrm>
            <a:off x="4446720" y="1689120"/>
            <a:ext cx="3708360" cy="568440"/>
          </a:xfrm>
          <a:prstGeom prst="wedgeRoundRectCallout">
            <a:avLst>
              <a:gd name="adj1" fmla="val -44648"/>
              <a:gd name="adj2" fmla="val -109217"/>
              <a:gd name="adj3" fmla="val 16667"/>
            </a:avLst>
          </a:prstGeom>
          <a:solidFill>
            <a:srgbClr val="e7e7ff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net, network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«сеть»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500040" y="2390760"/>
            <a:ext cx="814068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ed1f"/>
                </a:solidFill>
                <a:latin typeface="Arial"/>
              </a:rPr>
              <a:t>Интернет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это глобальная сеть, объединяющая компьютерные сет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ed1f"/>
                </a:solidFill>
                <a:latin typeface="Arial"/>
              </a:rPr>
              <a:t>Каналы связи</a:t>
            </a:r>
            <a:r>
              <a:rPr b="0" lang="en-US" sz="2400" spc="-1" strike="noStrike">
                <a:solidFill>
                  <a:srgbClr val="29ed1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990720" indent="-360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лектрические кабел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990720" indent="-360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птоволоконны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990720" indent="-360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путниковая радиосвязь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ed1f"/>
                </a:solidFill>
                <a:latin typeface="Arial"/>
              </a:rPr>
              <a:t>Провайде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это фирма, предоставляющая конечным пользователям выход в Интернет через её локальную сеть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867280" y="620640"/>
            <a:ext cx="289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ост Интернет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" descr="&amp;Kcy;&amp;acy;&amp;rcy;&amp;tcy;&amp;icy;&amp;ncy;&amp;kcy;&amp;acy; 3 &amp;icy;&amp;zcy; 156761"/>
          <p:cNvPicPr/>
          <p:nvPr/>
        </p:nvPicPr>
        <p:blipFill>
          <a:blip r:embed="rId2"/>
          <a:stretch/>
        </p:blipFill>
        <p:spPr>
          <a:xfrm>
            <a:off x="0" y="0"/>
            <a:ext cx="577836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гиональные компьютерные сети, объединенные в глобальную сеть Интерне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" descr="&amp;Kcy;&amp;acy;&amp;rcy;&amp;tcy;&amp;icy;&amp;ncy;&amp;kcy;&amp;acy; 1 &amp;icy;&amp;zcy; 6289"/>
          <p:cNvPicPr/>
          <p:nvPr/>
        </p:nvPicPr>
        <p:blipFill>
          <a:blip r:embed="rId2"/>
          <a:stretch/>
        </p:blipFill>
        <p:spPr>
          <a:xfrm>
            <a:off x="179280" y="1484280"/>
            <a:ext cx="8820360" cy="506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одключение к сети Интерне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оптоволоконным линиям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коммутируемым телефонным каналам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еспроводное подключение с помощью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-F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C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технология использующая электрические сет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Модем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ОДЕ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— устройство для передачи данных (напр., по телефонной линии), преобразующее, цифровые сигналы в аналоговые и обратно.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" descr="&amp;Kcy;&amp;acy;&amp;rcy;&amp;tcy;&amp;icy;&amp;ncy;&amp;kcy;&amp;acy; 11 &amp;icy;&amp;zcy; 153237"/>
          <p:cNvPicPr/>
          <p:nvPr/>
        </p:nvPicPr>
        <p:blipFill>
          <a:blip r:embed="rId2"/>
          <a:stretch/>
        </p:blipFill>
        <p:spPr>
          <a:xfrm>
            <a:off x="250920" y="3552840"/>
            <a:ext cx="5113080" cy="28303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&amp;Kcy;&amp;acy;&amp;rcy;&amp;tcy;&amp;icy;&amp;ncy;&amp;kcy;&amp;acy; 24 &amp;icy;&amp;zcy; 153237"/>
          <p:cNvPicPr/>
          <p:nvPr/>
        </p:nvPicPr>
        <p:blipFill>
          <a:blip r:embed="rId3"/>
          <a:stretch/>
        </p:blipFill>
        <p:spPr>
          <a:xfrm>
            <a:off x="5651640" y="3808440"/>
            <a:ext cx="3205080" cy="262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одключение через модем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" descr="&amp;Kcy;&amp;acy;&amp;rcy;&amp;tcy;&amp;icy;&amp;ncy;&amp;kcy;&amp;acy; 25 &amp;icy;&amp;zcy; 3366"/>
          <p:cNvPicPr/>
          <p:nvPr/>
        </p:nvPicPr>
        <p:blipFill>
          <a:blip r:embed="rId2"/>
          <a:stretch/>
        </p:blipFill>
        <p:spPr>
          <a:xfrm>
            <a:off x="1116000" y="1413000"/>
            <a:ext cx="7197840" cy="514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IP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 адресаци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P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-адрес — уникальная 32-разрядная последовательность нулей и единиц, однозначно идентифицирующая компьютер в сети Интернет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Для удобства человека 32 разряда разбиваются на 4 части (октеты) по 8 битов в каждой и переводятся в десятичное число, величина которого не может превышать 255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4941720"/>
            <a:ext cx="876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0110000 10111000 11100011 10011001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558972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95.34.166.11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05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10:55:06Z</dcterms:created>
  <dc:creator>Марат-Вера</dc:creator>
  <dc:description/>
  <dc:language>en-US</dc:language>
  <cp:lastModifiedBy>Доронин</cp:lastModifiedBy>
  <dcterms:modified xsi:type="dcterms:W3CDTF">2012-07-13T06:33:42Z</dcterms:modified>
  <cp:revision>27</cp:revision>
  <dc:subject/>
  <dc:title>Презентация PowerPoint</dc:title>
</cp:coreProperties>
</file>