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FFCF-D5A8-436E-93D2-5C33CD8B2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E5DF-3ABE-44D0-B1CE-4E6AC6C0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BAA4-867A-48BE-B236-F26B7C302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1B38-7D02-4892-818A-4DA14EAD1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209A-2744-4350-ACAE-09A2DAA8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862C-ED08-4BA9-A983-61BB23BF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C918-98A4-4576-BC12-67314521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89A8-1470-4D44-9E18-05ACF471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C888-AB7C-46C3-8D6E-318E7C38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26C6-97BB-4973-89AF-51E4EF5A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4C73-863B-46BB-AB95-5ACCADC7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695A-1366-43D4-84D7-F0D0535E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0A1E-C781-41DE-B8C6-51D4455C99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71F6-722F-41CB-BE14-230562E269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аршрутизация и транспортировка данных по компьютерным сетям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аршрутизация данных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ршрутизация данных обеспечивает передачу информации между компьютерами сети.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даваемая по сети информация «упаковывается в конверт», на котором «пишутся» Интернет-адреса компьютеров получателя и отправителя, например «Кому: 198.78.213.185», «От кого: 193.124.5.33»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держимое конверта на компьютерном языке называется Интернет-пакетом и представляет собой набор байтов.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аршрутизация данных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" descr="&amp;Kcy;&amp;acy;&amp;rcy;&amp;tcy;&amp;icy;&amp;ncy;&amp;kcy;&amp;acy; 7 &amp;icy;&amp;zcy; 31117"/>
          <p:cNvPicPr/>
          <p:nvPr/>
        </p:nvPicPr>
        <p:blipFill>
          <a:blip r:embed="rId2"/>
          <a:stretch/>
        </p:blipFill>
        <p:spPr>
          <a:xfrm>
            <a:off x="468360" y="1628640"/>
            <a:ext cx="8424720" cy="434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Маршрут прохождения информации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" descr="&amp;Kcy;&amp;acy;&amp;rcy;&amp;tcy;&amp;icy;&amp;ncy;&amp;kcy;&amp;acy; 2 &amp;icy;&amp;zcy; 58564"/>
          <p:cNvPicPr/>
          <p:nvPr/>
        </p:nvPicPr>
        <p:blipFill>
          <a:blip r:embed="rId2"/>
          <a:stretch/>
        </p:blipFill>
        <p:spPr>
          <a:xfrm>
            <a:off x="1403280" y="1220760"/>
            <a:ext cx="6624720" cy="563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Транспортировка данных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портировка данны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— производится путем разбиения файлов на Интернет-пакеты на компьютере-отправителе, индивидуальной маршрутизации каждого пакета и сборки файлов из пакетов в первоначальном порядке на компьютере-получателе.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отокол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CP/IP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ршрутизация и транспортировка данных в Интернете производится на основе протокола TCP/IP, который является основным «законом» Интернета. Термин TCP/IP включает название двух протоколов передачи данных: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* TCP (Transmission Contorol Protocol - транспортный протокол);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* IP (Internet Protocol - протокол маршрутизации).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0:55:06Z</dcterms:created>
  <dc:creator>Марат-Вера</dc:creator>
  <dc:description/>
  <dc:language>en-US</dc:language>
  <cp:lastModifiedBy>Доронин</cp:lastModifiedBy>
  <dcterms:modified xsi:type="dcterms:W3CDTF">2012-07-13T07:13:57Z</dcterms:modified>
  <cp:revision>26</cp:revision>
  <dc:subject/>
  <dc:title>Презентация PowerPoint</dc:title>
</cp:coreProperties>
</file>