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CEF-AACD-40D7-B703-40F1780D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9E8-5B90-4128-ADBE-67DBF56E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75E-B8C6-4B27-8CEE-870B4B3F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9D8-8CFC-4F16-99F3-9CF5635B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3C0-5883-45DF-B31F-3019AAD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CAC-3096-4538-8256-203F52FC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FB8A-74E8-4A2D-A84E-4253CBE0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692-A812-4BBA-A992-F90E730C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780-C73F-4D74-96AE-0902E3E6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6B7-57B4-4A65-9AD6-2A747E13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6A5-B109-46E7-8329-9B30858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5F2-D089-4663-B2A9-7ACB2261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60E-4D17-48F4-8325-C46D4047C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329-B52F-4BEB-B77C-71A5ACBA3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айловые архив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ы для повтор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 означает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то такое гиперссылк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з каких частей состоит гиперссылк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ипертекст – это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помощью какого языка создается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страниц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6.   Какие существуют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-страницы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7.   URL что означают эти буквы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8.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ttp://schools.keldysh.ru/info2000/index.ht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сшифруйте запис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рверы файловых архив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Интернете хранятся сотни миллионов файлов различных типов. Эти файлы расположены на специальных серверах Интернета – на серверах файловых архивах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45520" indent="-24552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оступ к таким файлам возможен по протоколу НТТР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Hyper Text Transfer Protocol)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и по специальному протоколу передачи данных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TP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File  Transfer Protocol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1948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ля загрузки с сервера файлового архива необходимо указать URL-адрес этого файл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пример: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URL-адрес файла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ute4232.exe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 сервера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ftp.cuteftp.com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омпани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Global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cap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://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cuteftp.com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pub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ute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://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 протокол доступ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cuteftp.com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 доменное имя сервера файлового архива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pub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uteftp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ute4232.exe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– путь к файлу и имя файла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агружать файл на локальный компьютер можно с помощью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2000160"/>
            <a:ext cx="8929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раузеров – которые включают в себя менеджеры загрузки файлов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Download Manager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just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ециализированных менеджеров загрузки файлов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Go!Zilla,ReGet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ужба передачи файлов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428920"/>
            <a:ext cx="3995640" cy="439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На сервере хранится набор файлов самого разного назначени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программы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графические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звуковые файл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000680" y="2357280"/>
            <a:ext cx="5000400" cy="459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лиент соединяется по протоколу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TP c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ервером и после этого может работать с файлами на сервере как в своей папк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сматривать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ртировать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пирова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57840" y="171468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TP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- клиент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85840" y="17146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FTP –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сервер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382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274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Доронина</dc:creator>
  <dc:description/>
  <dc:language>en-US</dc:language>
  <cp:lastModifiedBy>Доронин</cp:lastModifiedBy>
  <dcterms:modified xsi:type="dcterms:W3CDTF">2013-06-03T18:54:20Z</dcterms:modified>
  <cp:revision>29</cp:revision>
  <dc:subject/>
  <dc:title>Презентация PowerPoint</dc:title>
</cp:coreProperties>
</file>