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4528A-4DA1-4F64-9F12-0EE61377CE6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у выполнил: Скипин Андр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ачано с сайта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skian.r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C9CA6-34E5-4CB2-AC0C-A7C92EBF394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D42F-9CC8-4100-A13E-EDB071B71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52CA-158B-4043-839C-5A1478F50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B6AA-4AE2-4723-93C8-928F4A014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BBBF-5F8E-4668-AB61-175097819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6BF9-411C-4C49-8A14-FBEFE0392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DB11-D884-4FB0-8352-E7E1BF60D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C0C0-3F48-4E70-A6B6-F6562B7F3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E5A2-56A9-403E-AC9A-3E381B907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62CC-AED2-47F7-9669-8E2124E29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11F9-3D35-427E-8D77-92108194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BC82-2885-46D4-BFD3-49D1D78B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A5B5-3E51-4FF9-9431-6A649EE98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2FA2C-249D-4FFC-8653-8A3BD7423D1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D1107-67E4-4496-8B10-F60DFFA67C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hyperlink" Target="http://900igr.net/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36760" y="2141640"/>
            <a:ext cx="6859440" cy="13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ИНФОРМАЦИОННЫЕ РЕСУРСЫ ИНТЕРНЕТ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76720" y="3429000"/>
            <a:ext cx="3157560" cy="2441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5567400" y="3960720"/>
            <a:ext cx="3576600" cy="28972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ЧЕМ СОЕДИНИТЬ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8000" y="9079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одключится теперь очень просто – достаточно обеспечить соединение телефона и компьютера с помощью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Bluetooth;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инфракрасного порта;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дата-кабеля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3"/>
          <a:stretch/>
        </p:blipFill>
        <p:spPr>
          <a:xfrm>
            <a:off x="539640" y="429264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"/>
          <p:cNvPicPr/>
          <p:nvPr/>
        </p:nvPicPr>
        <p:blipFill>
          <a:blip r:embed="rId4"/>
          <a:stretch/>
        </p:blipFill>
        <p:spPr>
          <a:xfrm rot="20073000">
            <a:off x="3446640" y="3959280"/>
            <a:ext cx="2325600" cy="232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"/>
          <p:cNvPicPr/>
          <p:nvPr/>
        </p:nvPicPr>
        <p:blipFill>
          <a:blip r:embed="rId2"/>
          <a:stretch/>
        </p:blipFill>
        <p:spPr>
          <a:xfrm>
            <a:off x="6218280" y="3852720"/>
            <a:ext cx="2449440" cy="18417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КАК ПОДКЛЮЧИТЬ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24000" y="981000"/>
            <a:ext cx="849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Настроить мобильный интернет можно, посетив сайт оператора мобильной связи. В разделе мобильный интернет нужно найти порядок настройки подключения, и, скачав требуемое программное обеспечение, подключить телефон к компьютеру и подключиться к интернету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3"/>
          <a:stretch/>
        </p:blipFill>
        <p:spPr>
          <a:xfrm>
            <a:off x="3276720" y="4119480"/>
            <a:ext cx="2158920" cy="2158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"/>
          <p:cNvPicPr/>
          <p:nvPr/>
        </p:nvPicPr>
        <p:blipFill>
          <a:blip r:embed="rId4"/>
          <a:stretch/>
        </p:blipFill>
        <p:spPr>
          <a:xfrm>
            <a:off x="372960" y="4119480"/>
            <a:ext cx="2311560" cy="2303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"/>
          <p:cNvPicPr/>
          <p:nvPr/>
        </p:nvPicPr>
        <p:blipFill>
          <a:blip r:embed="rId5"/>
          <a:stretch/>
        </p:blipFill>
        <p:spPr>
          <a:xfrm>
            <a:off x="2627280" y="4898880"/>
            <a:ext cx="806400" cy="762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"/>
          <p:cNvPicPr/>
          <p:nvPr/>
        </p:nvPicPr>
        <p:blipFill>
          <a:blip r:embed="rId6"/>
          <a:stretch/>
        </p:blipFill>
        <p:spPr>
          <a:xfrm rot="15177000">
            <a:off x="5313960" y="4775400"/>
            <a:ext cx="762120" cy="804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"/>
          <p:cNvPicPr/>
          <p:nvPr/>
        </p:nvPicPr>
        <p:blipFill>
          <a:blip r:embed="rId2"/>
          <a:stretch/>
        </p:blipFill>
        <p:spPr>
          <a:xfrm>
            <a:off x="5827680" y="3419640"/>
            <a:ext cx="3316320" cy="34383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И БЕЗ КОМПЬЮТЕРА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4000" y="981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 случае если нет возможности использовать персональный компьютер или ноутбук, можно выйти в интернет через мобильный телефон, карманный персональный компьютер или смартфон. В этом случае можно получить доступ к сети, используя мобильный интернет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даже в тех местах, где использование         обычного соединения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совершенно неприемлемо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–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 командировке, на отдыхе,                                      в ресторане или на деловой                         встрече..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КАКИЕ ПРЕИМУЩЕСТВА И  НЕДОСТАТКИ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Использовать мобильный интернет, получая доступ с мобильного терминала – это действительно мобильный и автономный способ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Плюсы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Малые габариты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ес мобильного устройства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Минус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Маленький размер экрана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"/>
          <p:cNvPicPr/>
          <p:nvPr/>
        </p:nvPicPr>
        <p:blipFill>
          <a:blip r:embed="rId2"/>
          <a:srcRect l="0" t="0" r="0" b="17326"/>
          <a:stretch/>
        </p:blipFill>
        <p:spPr>
          <a:xfrm>
            <a:off x="1835280" y="5464080"/>
            <a:ext cx="1143000" cy="1258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"/>
          <p:cNvPicPr/>
          <p:nvPr/>
        </p:nvPicPr>
        <p:blipFill>
          <a:blip r:embed="rId3"/>
          <a:stretch/>
        </p:blipFill>
        <p:spPr>
          <a:xfrm>
            <a:off x="5772240" y="3932280"/>
            <a:ext cx="3371760" cy="29257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2560" y="-24300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ЕСТЬ АЛЬТЕРНАТИВА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9280" y="1197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Лучшим решением является КПК - тут и экран побольше, и к работе всегда готов, и функций полезных широкий выбор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Немалым преимуществом является и возможность длительной работы без зарядки батареи – до 12 часов непрерывной работы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Кроме того, существуют   специальные мобильные                              версии программ для КПК,  такие как ICQ или почтовый   агент…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4"/>
          <a:stretch/>
        </p:blipFill>
        <p:spPr>
          <a:xfrm>
            <a:off x="3479760" y="5661000"/>
            <a:ext cx="814320" cy="78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Общение в Интернете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680" y="1267920"/>
            <a:ext cx="753768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В последнее время все более широко распространяется общение в Интернете в реальном режиме времени. Увеличившаяся скорость передачи данных и возросшая производительность компьютеров дают пользователям возможность не только обмениваться в реальном времени текстовыми сообщениями, но и осуществлять аудио- и видеосвязь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148360" y="4292640"/>
            <a:ext cx="297000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-473400"/>
            <a:ext cx="7543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>
            <a:off x="1835280" y="620640"/>
            <a:ext cx="5111640" cy="936720"/>
          </a:xfrm>
          <a:prstGeom prst="roundRect">
            <a:avLst>
              <a:gd name="adj" fmla="val 16667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4365720"/>
            <a:ext cx="2303640" cy="863640"/>
          </a:xfrm>
          <a:prstGeom prst="roundRect">
            <a:avLst>
              <a:gd name="adj" fmla="val 16667"/>
            </a:avLst>
          </a:prstGeom>
          <a:solidFill>
            <a:srgbClr val="29ed1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Интернет-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телефония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6156360" y="4365720"/>
            <a:ext cx="2449440" cy="863640"/>
          </a:xfrm>
          <a:prstGeom prst="roundRect">
            <a:avLst>
              <a:gd name="adj" fmla="val 16667"/>
            </a:avLst>
          </a:prstGeom>
          <a:solidFill>
            <a:srgbClr val="29ed1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поиск в сети людей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>
            <a:off x="6300720" y="2492280"/>
            <a:ext cx="2448000" cy="1008000"/>
          </a:xfrm>
          <a:prstGeom prst="roundRect">
            <a:avLst>
              <a:gd name="adj" fmla="val 16667"/>
            </a:avLst>
          </a:prstGeom>
          <a:solidFill>
            <a:srgbClr val="29ed1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Голосовая и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видеосвязь(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kype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2492280"/>
            <a:ext cx="2305080" cy="1009800"/>
          </a:xfrm>
          <a:prstGeom prst="roundRect">
            <a:avLst>
              <a:gd name="adj" fmla="val 16667"/>
            </a:avLst>
          </a:prstGeom>
          <a:solidFill>
            <a:srgbClr val="29ed1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электронная почта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"/>
          <p:cNvSpPr/>
          <p:nvPr/>
        </p:nvSpPr>
        <p:spPr>
          <a:xfrm rot="3048000">
            <a:off x="5399280" y="1808640"/>
            <a:ext cx="936720" cy="576360"/>
          </a:xfrm>
          <a:prstGeom prst="rightArrow">
            <a:avLst>
              <a:gd name="adj1" fmla="val 50000"/>
              <a:gd name="adj2" fmla="val 40631"/>
            </a:avLst>
          </a:prstGeom>
          <a:solidFill>
            <a:srgbClr val="29ed1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 rot="19388400">
            <a:off x="2700360" y="1773360"/>
            <a:ext cx="936720" cy="504720"/>
          </a:xfrm>
          <a:prstGeom prst="leftArrow">
            <a:avLst>
              <a:gd name="adj1" fmla="val 50000"/>
              <a:gd name="adj2" fmla="val 46398"/>
            </a:avLst>
          </a:prstGeom>
          <a:solidFill>
            <a:srgbClr val="29ed1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"/>
          <p:cNvSpPr/>
          <p:nvPr/>
        </p:nvSpPr>
        <p:spPr>
          <a:xfrm rot="20047800">
            <a:off x="5148000" y="2060640"/>
            <a:ext cx="576000" cy="1584360"/>
          </a:xfrm>
          <a:prstGeom prst="downArrow">
            <a:avLst>
              <a:gd name="adj1" fmla="val 50000"/>
              <a:gd name="adj2" fmla="val 68766"/>
            </a:avLst>
          </a:prstGeom>
          <a:solidFill>
            <a:srgbClr val="29ed1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 rot="2181600">
            <a:off x="3276720" y="2133360"/>
            <a:ext cx="581040" cy="1511280"/>
          </a:xfrm>
          <a:prstGeom prst="downArrow">
            <a:avLst>
              <a:gd name="adj1" fmla="val 50000"/>
              <a:gd name="adj2" fmla="val 65025"/>
            </a:avLst>
          </a:prstGeom>
          <a:solidFill>
            <a:srgbClr val="29ed1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2050920" y="765000"/>
            <a:ext cx="454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ff"/>
                </a:solidFill>
                <a:uFillTx/>
                <a:latin typeface="Tahoma"/>
              </a:rPr>
              <a:t>Существуют различные формы общения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4508640"/>
            <a:ext cx="2447640" cy="865080"/>
          </a:xfrm>
          <a:prstGeom prst="roundRect">
            <a:avLst>
              <a:gd name="adj" fmla="val 16667"/>
            </a:avLst>
          </a:prstGeom>
          <a:solidFill>
            <a:srgbClr val="29ed1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передача файлов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4211640" y="2997360"/>
            <a:ext cx="576360" cy="1081080"/>
          </a:xfrm>
          <a:prstGeom prst="downArrow">
            <a:avLst>
              <a:gd name="adj1" fmla="val 50000"/>
              <a:gd name="adj2" fmla="val 46893"/>
            </a:avLst>
          </a:prstGeom>
          <a:solidFill>
            <a:srgbClr val="29ed1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alibri"/>
              </a:rPr>
              <a:t>Интернет-телефония 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4247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Интернет-телефония используется для передачи голосовых данных через компьютерную сеть Интернет. Провайдеры Интернет-телефонии с помощью специального оборудования связывают между собой компьютерную сеть Интернет и обычную телефонную сеть и предоставляют пользователю с помощью специального программного обеспечения возможность звонить с компьютера на обычный телефон.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796000" y="3645000"/>
            <a:ext cx="1903320" cy="26906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 flipH="1" flipV="1">
            <a:off x="6732360" y="4723920"/>
            <a:ext cx="36036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kyp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4960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Скайп (или Skype) — это бесплатная программа, позволяющая общаться через  Интернет со своими коллегами, друзьями, родственниками по всему миру. С помощью этой программы можно не только обмениваться мгновенными сообщениями, но и (что гораздо удобнее, выгоднее, экономичней) поговорить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с собеседником. Одной из составляющих скайпа является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Чат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4572000" y="3933720"/>
            <a:ext cx="4103640" cy="2600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Обмен текстовыми сообщениями (чат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836280"/>
            <a:ext cx="754380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Чат— это обмен сообщениями, набираемыми с клавиатуры. Вы вводите сообщение с клавиатуры, и оно высвечивается в окне, которое одновременно видят все участники встречи. Для того чтобы вы могли видеть друг друга, т. е. обмениваться видеоизображениями, к компьютерам должны быть подключены Web-камеры.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356000" y="3500280"/>
            <a:ext cx="3745080" cy="311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76360" y="189000"/>
            <a:ext cx="690552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Интерактивное общение с помощью системы ICQ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 последние годы большую популярность приобрело интерактивное общение через серверы ICQ (эта трехбуквенная аббревиатура образована из созвучия слов «I seek you» — «Я ищу тебя»)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651640" y="5445000"/>
            <a:ext cx="2147760" cy="1059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1835280" y="3357720"/>
            <a:ext cx="2633400" cy="2801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МОБИЛЬНЫЙ ИНТЕРНЕ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Интернет через мобильный телефон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4051440" y="907920"/>
            <a:ext cx="2124000" cy="2847960"/>
          </a:xfrm>
          <a:prstGeom prst="rect">
            <a:avLst/>
          </a:prstGeom>
          <a:ln w="0">
            <a:noFill/>
          </a:ln>
        </p:spPr>
      </p:pic>
      <p:sp>
        <p:nvSpPr>
          <p:cNvPr id="83" name="Скругленный прямоугольник 4">
            <a:hlinkClick r:id="rId3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КАК ПОДКЛЮЧАЕТСЯ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Используя мобильный интернет, пользователь может подключаться к интернету без использования телефонной линии. Для подключения к сети интернет через мобильный телефон требуется только телефон, поддерживающий стандарты GPRS, EDGE или 3G и компьютер (ноутбук)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8T10:55:06Z</dcterms:created>
  <dc:creator>Доронина</dc:creator>
  <dc:description/>
  <dc:language>en-US</dc:language>
  <cp:lastModifiedBy>Доронин</cp:lastModifiedBy>
  <dcterms:modified xsi:type="dcterms:W3CDTF">2013-06-19T11:38:26Z</dcterms:modified>
  <cp:revision>28</cp:revision>
  <dc:subject/>
  <dc:title>Презентация PowerPoint</dc:title>
</cp:coreProperties>
</file>