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9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E8F-65D3-4DB3-82A9-2C9BC6CD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22EF-5454-41B3-923A-39AED0C1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D398-6119-4242-B3ED-DC70497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3898-032F-4B93-B7E7-AD5306DA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914-B33F-4B8C-97C3-D515BB6E4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5E9C-5EE1-4C01-8CF7-4CEBCC89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B20F-D2A2-4BB2-9F5B-6CBA3DE4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968E-4A93-4204-AFE2-EA1D9B0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99E5-8AFD-4E84-B77A-655DB002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32AE-AFD6-49C6-BBD3-E6C0F4A0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06B-732B-46BA-81E2-E74F0878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A71-E444-4FE1-8497-23E05738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9843-4218-474D-BF00-0D16A1538EE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15EE-AA1F-4D12-95FA-E7E8A9080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оиск информации в Интернете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003640" y="3333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7704000" cy="22813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2349360"/>
            <a:ext cx="8388360" cy="418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1413000"/>
            <a:ext cx="7764480" cy="2143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7000" y="3933720"/>
            <a:ext cx="9117000" cy="16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008920" cy="1952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25280" y="3860640"/>
            <a:ext cx="9018720" cy="16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11200" y="1662120"/>
            <a:ext cx="8123040" cy="35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539640" y="1844640"/>
            <a:ext cx="8358120" cy="411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7"/>
          <p:cNvSpPr/>
          <p:nvPr/>
        </p:nvSpPr>
        <p:spPr>
          <a:xfrm>
            <a:off x="2745720" y="692280"/>
            <a:ext cx="350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Типы поиска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1046520" y="1844640"/>
            <a:ext cx="47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оиск по адресам UR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1108440" y="2492280"/>
            <a:ext cx="445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Поисковые системы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5"/>
          <p:cNvSpPr/>
          <p:nvPr/>
        </p:nvSpPr>
        <p:spPr>
          <a:xfrm>
            <a:off x="971640" y="1700280"/>
            <a:ext cx="72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исковые машины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это автоматические системы, опрашивающие серверы, подключенные к глобальной сети, и сохраняющие в своей базе информацию об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меющихся на серверах данных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Line 6"/>
          <p:cNvSpPr/>
          <p:nvPr/>
        </p:nvSpPr>
        <p:spPr>
          <a:xfrm flipH="1">
            <a:off x="1258560" y="3789360"/>
            <a:ext cx="863640" cy="13683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56000" y="508464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БОТ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Line 8"/>
          <p:cNvSpPr/>
          <p:nvPr/>
        </p:nvSpPr>
        <p:spPr>
          <a:xfrm>
            <a:off x="3564000" y="3716280"/>
            <a:ext cx="0" cy="14400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846520" y="50846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НДЕКС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5078520" y="5157720"/>
            <a:ext cx="224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ГРАММА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БРАБОТ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ПРОСОВ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Line 11"/>
          <p:cNvSpPr/>
          <p:nvPr/>
        </p:nvSpPr>
        <p:spPr>
          <a:xfrm>
            <a:off x="5364000" y="3573360"/>
            <a:ext cx="792360" cy="16574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2310840" y="500040"/>
            <a:ext cx="461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Поисковые систем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Российские поисковые серверы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Яндекс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andex.ru;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«Гугл» -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gle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Рамблер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mbler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Апорт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port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Gogo»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 —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ogo.ru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4752720" cy="3449880"/>
          </a:xfrm>
          <a:prstGeom prst="rect">
            <a:avLst/>
          </a:prstGeom>
          <a:ln w="9360">
            <a:solidFill>
              <a:srgbClr val="000080"/>
            </a:solidFill>
            <a:miter/>
          </a:ln>
        </p:spPr>
      </p:pic>
      <p:pic>
        <p:nvPicPr>
          <p:cNvPr id="56" name="Picture 9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5761080" cy="29844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57" name="Picture 10" descr=""/>
          <p:cNvPicPr/>
          <p:nvPr/>
        </p:nvPicPr>
        <p:blipFill>
          <a:blip r:embed="rId4"/>
          <a:stretch/>
        </p:blipFill>
        <p:spPr>
          <a:xfrm>
            <a:off x="3780000" y="4076640"/>
            <a:ext cx="4811400" cy="2540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pic>
        <p:nvPicPr>
          <p:cNvPr id="58" name="Picture 11" descr=""/>
          <p:cNvPicPr/>
          <p:nvPr/>
        </p:nvPicPr>
        <p:blipFill>
          <a:blip r:embed="rId5"/>
          <a:stretch/>
        </p:blipFill>
        <p:spPr>
          <a:xfrm>
            <a:off x="5267160" y="907920"/>
            <a:ext cx="3876840" cy="1660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6012000" y="2781360"/>
            <a:ext cx="3313080" cy="260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1476360" y="765000"/>
            <a:ext cx="61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Технология поиска в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Georgia"/>
              </a:rPr>
              <a:t>поисковых системах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743400" y="2428920"/>
            <a:ext cx="49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1. Поиск по рубрикатору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737640" y="3213000"/>
            <a:ext cx="59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eorgia"/>
              </a:rPr>
              <a:t>2. Поиск по ключевым словам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703880" y="404640"/>
            <a:ext cx="638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eorgia"/>
              </a:rPr>
              <a:t>Поиск по рубрикатору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7362720" cy="526752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67" name="Freeform 7"/>
          <p:cNvSpPr/>
          <p:nvPr/>
        </p:nvSpPr>
        <p:spPr>
          <a:xfrm>
            <a:off x="1841400" y="3038400"/>
            <a:ext cx="820800" cy="3366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Freeform 8"/>
          <p:cNvSpPr/>
          <p:nvPr/>
        </p:nvSpPr>
        <p:spPr>
          <a:xfrm>
            <a:off x="1820880" y="3462480"/>
            <a:ext cx="1495440" cy="3110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Freeform 9"/>
          <p:cNvSpPr/>
          <p:nvPr/>
        </p:nvSpPr>
        <p:spPr>
          <a:xfrm>
            <a:off x="3419640" y="3789360"/>
            <a:ext cx="1636560" cy="5508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8064720" cy="5689440"/>
          </a:xfrm>
          <a:prstGeom prst="rect">
            <a:avLst/>
          </a:prstGeom>
          <a:ln w="0">
            <a:noFill/>
          </a:ln>
        </p:spPr>
      </p:pic>
      <p:sp>
        <p:nvSpPr>
          <p:cNvPr id="71" name="Freeform 11"/>
          <p:cNvSpPr/>
          <p:nvPr/>
        </p:nvSpPr>
        <p:spPr>
          <a:xfrm>
            <a:off x="262080" y="1616040"/>
            <a:ext cx="3279600" cy="54468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Freeform 12"/>
          <p:cNvSpPr/>
          <p:nvPr/>
        </p:nvSpPr>
        <p:spPr>
          <a:xfrm>
            <a:off x="3598920" y="2003400"/>
            <a:ext cx="552240" cy="42840"/>
          </a:xfrm>
          <a:prstGeom prst="pie">
            <a:avLst/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13" descr=""/>
          <p:cNvPicPr/>
          <p:nvPr/>
        </p:nvPicPr>
        <p:blipFill>
          <a:blip r:embed="rId4"/>
          <a:stretch/>
        </p:blipFill>
        <p:spPr>
          <a:xfrm>
            <a:off x="179280" y="189000"/>
            <a:ext cx="8209080" cy="5957640"/>
          </a:xfrm>
          <a:prstGeom prst="rect">
            <a:avLst/>
          </a:prstGeom>
          <a:ln w="0">
            <a:noFill/>
          </a:ln>
        </p:spPr>
      </p:pic>
      <p:sp>
        <p:nvSpPr>
          <p:cNvPr id="74" name="Freeform 14"/>
          <p:cNvSpPr/>
          <p:nvPr/>
        </p:nvSpPr>
        <p:spPr>
          <a:xfrm>
            <a:off x="287280" y="1617840"/>
            <a:ext cx="1876320" cy="873000"/>
          </a:xfrm>
          <a:prstGeom prst="pie">
            <a:avLst/>
          </a:pr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5"/>
          <p:cNvSpPr/>
          <p:nvPr/>
        </p:nvSpPr>
        <p:spPr>
          <a:xfrm>
            <a:off x="1297080" y="33336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Поиск по ключевым слова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ля поиска внутри одного предложения слова в запросе разделяют пробелом или знаком &amp;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пример, «приключенческий роман» или «приключенческий&amp;роман». Несколько набранных в запросе слов, разделенных пробелами, означают, что все они должны входить в одно предложение искомого документа.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1297080" y="33336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Поиск по ключевым слова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поиске синонимов или близких по значению слов между словами можно поставить вертикальную черту «|»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пример, по запросу «ребенок | малыш | младенец» будут найдены документы с любым из этих слов.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297080" y="333360"/>
            <a:ext cx="631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eorgia"/>
              </a:rPr>
              <a:t>Поиск по ключевым слова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ли вы хотите, чтобы были отобраны только те документы, в которых встретилось каждое слово, указанное в запросе, поставьте перед каждым из них знак плюс «+». Если вы, наоборот, хотите исключить какие-либо слова из результата поиска, поставьте перед этим словом минус «-». Знаки « + » и «-» надо писать через пробел от предыдущего и слитно со следующим словом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пример, по запросу «Волга -автомобиль» будут найдены документы, в которых есть слово «Волга» и нет слова «автомобиль».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Автор: Доронина Екатерина Валерьевна, МКОУ СОШ № 1, Г. Коркино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10:55:06Z</dcterms:created>
  <dc:creator>Доронина</dc:creator>
  <dc:description/>
  <dc:language>en-US</dc:language>
  <cp:lastModifiedBy>Доронин</cp:lastModifiedBy>
  <dcterms:modified xsi:type="dcterms:W3CDTF">2013-06-19T13:19:48Z</dcterms:modified>
  <cp:revision>31</cp:revision>
  <dc:subject/>
  <dc:title>Презентация PowerPoint</dc:title>
</cp:coreProperties>
</file>