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901-2FE0-46D9-9731-FDACF65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C5B-7AD8-4026-B636-29036ED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CBA-AF76-47E5-9019-54695DCF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183-387C-497F-A48E-B4602EAA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0F9-7955-4B89-9657-679C6E7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7CE-1F47-42E5-A4C6-F3F985C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EF9-AA56-459D-8BD8-C49625CC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0AA-19EE-4445-86F0-06E4C3A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60D-ADAF-4950-A5F1-995297F7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AF1-5350-42ED-9857-B7F28C3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95F-DC49-4C9F-A721-9708449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EF6-253C-4473-A57D-8AE98356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DBBE-B756-49FD-B21F-8D5BC826FF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DD7-90CC-4409-A1B2-3BAFCCB61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103320" y="2584440"/>
            <a:ext cx="8632800" cy="23954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2051" descr=""/>
          <p:cNvPicPr/>
          <p:nvPr/>
        </p:nvPicPr>
        <p:blipFill>
          <a:blip r:embed="rId3"/>
          <a:stretch/>
        </p:blipFill>
        <p:spPr>
          <a:xfrm>
            <a:off x="5929200" y="4071960"/>
            <a:ext cx="2327400" cy="24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ределите цвета, если заданы интенсивности базовых цветов в системе цветопередачи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125360"/>
          <a:ext cx="8229600" cy="5175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нсивность базовых ц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12289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098800" cy="2098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дди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2292"/>
          <p:cNvSpPr/>
          <p:nvPr/>
        </p:nvSpPr>
        <p:spPr>
          <a:xfrm>
            <a:off x="324000" y="170028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цветовых оттенков можно закодировать в палитр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G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12293"/>
          <p:cNvSpPr/>
          <p:nvPr/>
        </p:nvSpPr>
        <p:spPr>
          <a:xfrm>
            <a:off x="626760" y="3429000"/>
            <a:ext cx="39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56 = 16 777 21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убтрак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Rectangle 13315"/>
          <p:cNvSpPr/>
          <p:nvPr/>
        </p:nvSpPr>
        <p:spPr>
          <a:xfrm>
            <a:off x="1763640" y="1197000"/>
            <a:ext cx="57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нгл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subtract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«вычитать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Rectangle 1331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317"/>
          <p:cNvSpPr/>
          <p:nvPr/>
        </p:nvSpPr>
        <p:spPr>
          <a:xfrm>
            <a:off x="4695840" y="1936800"/>
            <a:ext cx="426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ая бумага отражает все цвета спект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няя бумага поглощает все цвета, кроме синего, т.е. отражается только синий цве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синюю бумагу осветить красным светом, то мы увидим черную бумаг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убтрак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сновными цветами являю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голубой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урпурный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желт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ждый из них поглощает (вычитает) определенные цвета из белого света, падающего на печатаемую палит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убтрак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Rectangle 15364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460872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убтрак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-за особенностей типографских красок смесь трех цветов дает не черный, а грязно – коричневый цвет. Поэтому к основным цветам добавляют еще и черн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a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голубой;</a:t>
            </a:r>
            <a:br>
              <a:rPr sz="3200"/>
            </a:b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nta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урпурный;</a:t>
            </a:r>
            <a:br>
              <a:rPr sz="3200"/>
            </a:b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low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желтый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ac</a:t>
            </a: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рн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51640" y="4797360"/>
            <a:ext cx="30114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пределите цвета, если заданы интенсивности базовых цветов в системе цветопередачи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MY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52320" y="1730520"/>
          <a:ext cx="7915320" cy="4394160"/>
        </p:xfrm>
        <a:graphic>
          <a:graphicData uri="http://schemas.openxmlformats.org/drawingml/2006/table">
            <a:tbl>
              <a:tblPr/>
              <a:tblGrid>
                <a:gridCol w="3957480"/>
                <a:gridCol w="395784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цве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=0, M=0, Y=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+M=W-G-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+C=W-R-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+C=W-R-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-R=G+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-G=R+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-B=R+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кройте редактор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кройте диалоговое окно «Изменение палитры» (Палитра – Изменить палитру – определить цвет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здайте в модел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лый, красный, черный, синий, серый, … цвет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58204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857088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5123"/>
          <p:cNvSpPr/>
          <p:nvPr/>
        </p:nvSpPr>
        <p:spPr>
          <a:xfrm>
            <a:off x="684360" y="83664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Shape 5125"/>
          <p:cNvSpPr/>
          <p:nvPr/>
        </p:nvSpPr>
        <p:spPr>
          <a:xfrm>
            <a:off x="1547640" y="2421000"/>
            <a:ext cx="216000" cy="107928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Shape 5126"/>
          <p:cNvSpPr/>
          <p:nvPr/>
        </p:nvSpPr>
        <p:spPr>
          <a:xfrm>
            <a:off x="1979640" y="2205000"/>
            <a:ext cx="936720" cy="7923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Shape 5127"/>
          <p:cNvSpPr/>
          <p:nvPr/>
        </p:nvSpPr>
        <p:spPr>
          <a:xfrm rot="5864400">
            <a:off x="2700000" y="1484280"/>
            <a:ext cx="215640" cy="107964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1573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Shape 5128"/>
          <p:cNvSpPr/>
          <p:nvPr/>
        </p:nvSpPr>
        <p:spPr>
          <a:xfrm rot="7539600">
            <a:off x="2484000" y="763200"/>
            <a:ext cx="936360" cy="7938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16758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Shape 5129"/>
          <p:cNvSpPr/>
          <p:nvPr/>
        </p:nvSpPr>
        <p:spPr>
          <a:xfrm rot="4677600">
            <a:off x="178920" y="2563560"/>
            <a:ext cx="936720" cy="79380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1962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Shape 5130"/>
          <p:cNvSpPr/>
          <p:nvPr/>
        </p:nvSpPr>
        <p:spPr>
          <a:xfrm rot="2161200">
            <a:off x="2340000" y="260280"/>
            <a:ext cx="360360" cy="93672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1944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Rectangle 5131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5606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5134"/>
          <p:cNvSpPr/>
          <p:nvPr/>
        </p:nvSpPr>
        <p:spPr>
          <a:xfrm>
            <a:off x="3348000" y="1844640"/>
            <a:ext cx="2736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Straight Connector 5135"/>
          <p:cNvSpPr/>
          <p:nvPr/>
        </p:nvSpPr>
        <p:spPr>
          <a:xfrm>
            <a:off x="3348000" y="2133720"/>
            <a:ext cx="2736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Straight Connector 5136"/>
          <p:cNvSpPr/>
          <p:nvPr/>
        </p:nvSpPr>
        <p:spPr>
          <a:xfrm>
            <a:off x="3348000" y="2421000"/>
            <a:ext cx="2736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5137"/>
          <p:cNvSpPr/>
          <p:nvPr/>
        </p:nvSpPr>
        <p:spPr>
          <a:xfrm>
            <a:off x="-181080" y="5661000"/>
            <a:ext cx="9649080" cy="151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Straight Connector 5138"/>
          <p:cNvSpPr/>
          <p:nvPr/>
        </p:nvSpPr>
        <p:spPr>
          <a:xfrm>
            <a:off x="2195640" y="3284640"/>
            <a:ext cx="2449440" cy="23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Straight Connector 5139"/>
          <p:cNvSpPr/>
          <p:nvPr/>
        </p:nvSpPr>
        <p:spPr>
          <a:xfrm>
            <a:off x="1835280" y="3284640"/>
            <a:ext cx="2449440" cy="23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traight Connector 5140"/>
          <p:cNvSpPr/>
          <p:nvPr/>
        </p:nvSpPr>
        <p:spPr>
          <a:xfrm>
            <a:off x="1474920" y="3284640"/>
            <a:ext cx="2449440" cy="23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Straight Connector 5141"/>
          <p:cNvSpPr/>
          <p:nvPr/>
        </p:nvSpPr>
        <p:spPr>
          <a:xfrm flipV="1">
            <a:off x="4284720" y="2637000"/>
            <a:ext cx="2374920" cy="30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Straight Connector 5142"/>
          <p:cNvSpPr/>
          <p:nvPr/>
        </p:nvSpPr>
        <p:spPr>
          <a:xfrm flipV="1">
            <a:off x="4643280" y="2565000"/>
            <a:ext cx="2374920" cy="302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traight Connector 5143"/>
          <p:cNvSpPr/>
          <p:nvPr/>
        </p:nvSpPr>
        <p:spPr>
          <a:xfrm>
            <a:off x="3924360" y="5661000"/>
            <a:ext cx="28728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5144"/>
          <p:cNvSpPr/>
          <p:nvPr/>
        </p:nvSpPr>
        <p:spPr>
          <a:xfrm>
            <a:off x="3540960" y="133524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лучаемый све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5146"/>
          <p:cNvSpPr/>
          <p:nvPr/>
        </p:nvSpPr>
        <p:spPr>
          <a:xfrm rot="18391800">
            <a:off x="5240520" y="3912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раженный све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6048360" cy="56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147"/>
          <p:cNvSpPr txBox="1"/>
          <p:nvPr/>
        </p:nvSpPr>
        <p:spPr>
          <a:xfrm>
            <a:off x="2700360" y="620640"/>
            <a:ext cx="42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67" name="TextBox 6148"/>
          <p:cNvSpPr/>
          <p:nvPr/>
        </p:nvSpPr>
        <p:spPr>
          <a:xfrm>
            <a:off x="3492360" y="1341360"/>
            <a:ext cx="246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уча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хо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149"/>
          <p:cNvSpPr txBox="1"/>
          <p:nvPr/>
        </p:nvSpPr>
        <p:spPr>
          <a:xfrm>
            <a:off x="5003640" y="2924280"/>
            <a:ext cx="3527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29ed1f"/>
                    </a:gs>
                  </a:gsLst>
                  <a:lin ang="5400000"/>
                </a:gradFill>
                <a:latin typeface="Arial"/>
              </a:rPr>
              <a:t>от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29ed1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Rectangle 6150"/>
          <p:cNvSpPr txBox="1"/>
          <p:nvPr/>
        </p:nvSpPr>
        <p:spPr>
          <a:xfrm>
            <a:off x="395280" y="2924280"/>
            <a:ext cx="352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излуч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0" name="TextBox 6151"/>
          <p:cNvSpPr/>
          <p:nvPr/>
        </p:nvSpPr>
        <p:spPr>
          <a:xfrm>
            <a:off x="3419640" y="364500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ыва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6152"/>
          <p:cNvSpPr txBox="1"/>
          <p:nvPr/>
        </p:nvSpPr>
        <p:spPr>
          <a:xfrm>
            <a:off x="468360" y="450864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аддитив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дел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2" name="Rectangle 6153"/>
          <p:cNvSpPr txBox="1"/>
          <p:nvPr/>
        </p:nvSpPr>
        <p:spPr>
          <a:xfrm>
            <a:off x="4859280" y="4508640"/>
            <a:ext cx="35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бтрактив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одел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43280" y="1268280"/>
            <a:ext cx="792000" cy="15130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1268280"/>
            <a:ext cx="504720" cy="15130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410920" y="3357720"/>
            <a:ext cx="360360" cy="115092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3357720"/>
            <a:ext cx="287280" cy="115092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дди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63280" y="1196640"/>
            <a:ext cx="575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нгл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add”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– «присоединять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7171"/>
          <p:cNvSpPr/>
          <p:nvPr/>
        </p:nvSpPr>
        <p:spPr>
          <a:xfrm>
            <a:off x="395280" y="2421000"/>
            <a:ext cx="8353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вет получается в результате суммирования трех цветов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го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леного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него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Oval 7173"/>
          <p:cNvSpPr/>
          <p:nvPr/>
        </p:nvSpPr>
        <p:spPr>
          <a:xfrm>
            <a:off x="4356000" y="3213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Oval 7174"/>
          <p:cNvSpPr/>
          <p:nvPr/>
        </p:nvSpPr>
        <p:spPr>
          <a:xfrm>
            <a:off x="5435640" y="400536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Oval 7175"/>
          <p:cNvSpPr/>
          <p:nvPr/>
        </p:nvSpPr>
        <p:spPr>
          <a:xfrm>
            <a:off x="4356000" y="47973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92920" y="5353200"/>
            <a:ext cx="2786040" cy="131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дди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8195"/>
          <p:cNvSpPr/>
          <p:nvPr/>
        </p:nvSpPr>
        <p:spPr>
          <a:xfrm>
            <a:off x="468360" y="1844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мотрите на белый экран монитора через лупу. Что вы видит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дди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Rectangle 9220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9221"/>
          <p:cNvSpPr/>
          <p:nvPr/>
        </p:nvSpPr>
        <p:spPr>
          <a:xfrm rot="17812200">
            <a:off x="1757520" y="2642400"/>
            <a:ext cx="288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Красный 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9222"/>
          <p:cNvSpPr/>
          <p:nvPr/>
        </p:nvSpPr>
        <p:spPr>
          <a:xfrm>
            <a:off x="3203640" y="5157720"/>
            <a:ext cx="288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Зеленый  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9223"/>
          <p:cNvSpPr/>
          <p:nvPr/>
        </p:nvSpPr>
        <p:spPr>
          <a:xfrm rot="3427800">
            <a:off x="5069160" y="2642400"/>
            <a:ext cx="21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Синий 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9224"/>
          <p:cNvSpPr/>
          <p:nvPr/>
        </p:nvSpPr>
        <p:spPr>
          <a:xfrm>
            <a:off x="7020000" y="5661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лубой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Straight Connector 9225"/>
          <p:cNvSpPr/>
          <p:nvPr/>
        </p:nvSpPr>
        <p:spPr>
          <a:xfrm flipH="1" flipV="1">
            <a:off x="5580000" y="4581360"/>
            <a:ext cx="2376720" cy="12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9226"/>
          <p:cNvSpPr/>
          <p:nvPr/>
        </p:nvSpPr>
        <p:spPr>
          <a:xfrm>
            <a:off x="250920" y="5445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Желтый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9228"/>
          <p:cNvSpPr/>
          <p:nvPr/>
        </p:nvSpPr>
        <p:spPr>
          <a:xfrm rot="19300800">
            <a:off x="-323280" y="32839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урпурный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Straight Connector 9229"/>
          <p:cNvSpPr/>
          <p:nvPr/>
        </p:nvSpPr>
        <p:spPr>
          <a:xfrm flipV="1">
            <a:off x="1187280" y="2997000"/>
            <a:ext cx="2953080" cy="115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9230"/>
          <p:cNvSpPr/>
          <p:nvPr/>
        </p:nvSpPr>
        <p:spPr>
          <a:xfrm rot="921000">
            <a:off x="7019640" y="162828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Белый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Straight Connector 9231"/>
          <p:cNvSpPr/>
          <p:nvPr/>
        </p:nvSpPr>
        <p:spPr>
          <a:xfrm flipH="1">
            <a:off x="4572000" y="2637000"/>
            <a:ext cx="324000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Straight Connector 9232"/>
          <p:cNvSpPr/>
          <p:nvPr/>
        </p:nvSpPr>
        <p:spPr>
          <a:xfrm flipV="1">
            <a:off x="1116000" y="4581000"/>
            <a:ext cx="2448000" cy="1008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Аддитивная мод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палитре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каждый из цветов может менять свою интенсивность от 0 до 255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 – интенсивность цвета минималь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55 – интенсивность цвета максималь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0243"/>
          <p:cNvSpPr/>
          <p:nvPr/>
        </p:nvSpPr>
        <p:spPr>
          <a:xfrm>
            <a:off x="592200" y="3851280"/>
            <a:ext cx="547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вет: (255; 0; 0) -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0; 255; 0) -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0; 0; 255) -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8-23T05:54:41Z</dcterms:modified>
  <cp:revision>27</cp:revision>
  <dc:subject/>
  <dc:title>Презентация PowerPoint</dc:title>
</cp:coreProperties>
</file>