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7.gif" ContentType="image/gif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926-E36E-4AF4-8E58-56736062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837-E191-4B67-B8FC-631A482F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819-1ECF-447E-84EB-00FEC808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695-266E-4226-8957-1ECF080C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935-791E-43AA-A679-9517D26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A83-AAC2-4635-8077-51DBA80F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943-7F9F-499F-B85B-588C256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122-D7F8-45C6-A07B-2001A2B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A18-E3A5-4E2E-8851-0E965DD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BE0-0B85-4A8F-A0A5-6382DE9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E17-5C5D-4B97-ADD4-EF40BA7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2B4-0067-4A17-8B2F-345F139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BAE5-ABE1-4225-A7D3-D5274B3EF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CCD-290F-45A9-B1E5-33C92C01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oin.wav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5610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Компьютерная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рафи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5950080"/>
            <a:ext cx="6248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156B-F665-459A-A22C-59C657DD1BDC}" type="datetime">
              <a:rPr b="1" lang="en-US" sz="20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439" r="0" b="0"/>
          <a:stretch/>
        </p:blipFill>
        <p:spPr>
          <a:xfrm>
            <a:off x="1979640" y="2276640"/>
            <a:ext cx="43927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Растр  -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от англ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ster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 – представление изображения в виде двумерного массива точек (пикселов), упорядоченных в ряды и столбц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1219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современных ПК обычно используются 4 основных размера изображения или разрешающих способностей экрана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40х480, 800х600, 1024х768, 1280х1024 пиксел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1280" y="836640"/>
            <a:ext cx="7361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рафический режим вывода изображения на экран определяется </a:t>
            </a:r>
            <a:r>
              <a:rPr b="0" lang="en-US" sz="3600" spc="-1" strike="noStrike">
                <a:solidFill>
                  <a:srgbClr val="29ed1f"/>
                </a:solidFill>
                <a:latin typeface="Arial"/>
              </a:rPr>
              <a:t>разрешающей способностью экрана</a:t>
            </a: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9ed1f"/>
                </a:solidFill>
                <a:latin typeface="Arial"/>
              </a:rPr>
              <a:t>глубиной (интенсивностью) цвета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лная информация о всех точках изображения, хранящаяся в видеопамяти, называется </a:t>
            </a:r>
            <a:r>
              <a:rPr b="0" lang="en-US" sz="3600" spc="-1" strike="noStrike">
                <a:solidFill>
                  <a:srgbClr val="29ed1f"/>
                </a:solidFill>
                <a:latin typeface="Arial"/>
              </a:rPr>
              <a:t>битовой картой изображения</a:t>
            </a:r>
            <a:r>
              <a:rPr b="0" lang="en-US" sz="3600" spc="-1" strike="noStrike">
                <a:solidFill>
                  <a:srgbClr val="29ed1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Основные проблемы при работе с растровой графикой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25720"/>
            <a:ext cx="43308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Большие объемы данных. Для обработки растровых изображений требуются высокопроизводительные компьютеры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Увеличение изображения приводит к эффекту пикселизации, иллюстрация искажаетс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Текст 2" descr=""/>
          <p:cNvPicPr/>
          <p:nvPr/>
        </p:nvPicPr>
        <p:blipFill>
          <a:blip r:embed="rId2"/>
          <a:stretch/>
        </p:blipFill>
        <p:spPr>
          <a:xfrm>
            <a:off x="5715000" y="2494080"/>
            <a:ext cx="190512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212920" cy="30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79640" y="620640"/>
            <a:ext cx="4573440" cy="533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8728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екторная графика строится по графическим примитива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Основным элементом векторного изображения является контур (линия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4508640"/>
            <a:ext cx="1873080" cy="1225440"/>
          </a:xfrm>
          <a:custGeom>
            <a:avLst/>
            <a:gdLst>
              <a:gd name="textAreaLeft" fmla="*/ 440280 w 1873080"/>
              <a:gd name="textAreaRight" fmla="*/ 1431720 w 187308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708280"/>
            <a:ext cx="2951280" cy="2736720"/>
          </a:xfrm>
          <a:prstGeom prst="sun">
            <a:avLst>
              <a:gd name="adj" fmla="val 25000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Векторное изображение хранится в памяти в виде формул и числовых параметров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260676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08200" y="2440080"/>
            <a:ext cx="44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ямоугольник (0,0,60,6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резок (0,60) – (30,8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резок (30,80) - (60,60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476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ожные объекты векторной графики при увеличении можно рассматривать более подробн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" descr="Географическая"/>
          <p:cNvPicPr/>
          <p:nvPr/>
        </p:nvPicPr>
        <p:blipFill>
          <a:blip r:embed="rId2"/>
          <a:stretch/>
        </p:blipFill>
        <p:spPr>
          <a:xfrm>
            <a:off x="971640" y="1197000"/>
            <a:ext cx="662472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ed1f"/>
                </a:solidFill>
                <a:latin typeface="Calibri"/>
              </a:rPr>
              <a:t>Сравнительная характеристика растровой и векторной граф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557360"/>
          <a:ext cx="8228160" cy="4680000"/>
        </p:xfrm>
        <a:graphic>
          <a:graphicData uri="http://schemas.openxmlformats.org/drawingml/2006/table">
            <a:tbl>
              <a:tblPr/>
              <a:tblGrid>
                <a:gridCol w="3106800"/>
                <a:gridCol w="2560680"/>
                <a:gridCol w="2560680"/>
              </a:tblGrid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тровая граф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кторная граф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рный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ксель (то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ур и внутренняя обл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об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окупность точек (матриц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окупность объек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тографическое ка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печатка на принте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г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огда не печатаются или выглядят не т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 памя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чень больш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сительно небольш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штабирование и вращ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жела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ировка и разгруппир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MP, GIF, JPG, PCX, 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MF, EPS, DXF, CG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slow">
    <p:wheel spokes="1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9760" y="420480"/>
            <a:ext cx="81691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Области примен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разработке электронных (мультимедийных) и полиграфических изд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Интерне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46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27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4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2920" y="2138040"/>
            <a:ext cx="424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екламных агентства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изайнерских бюр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едакциях и издательства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ывод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268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ed1f"/>
                </a:solidFill>
                <a:latin typeface="Times New Roman"/>
              </a:rPr>
              <a:t>Растровая граф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2654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ed1f"/>
                </a:solidFill>
                <a:latin typeface="Times New Roman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slow">
    <p:wheel spokes="1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зучив эту тему вы узнает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ды графических компьютерных изображений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нципы формирования графических изображений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ипы форматов графических изображе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Форматы файлов растровой граф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8229600" cy="476388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b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tmap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Стандартный формат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ndows.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 размер файлов из-за отсутствия сжатия изображ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jp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p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oint Photographic Experts Grou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Предназначен для хранения многоцветных изображений (фотографий). Отличается огромной степенью сжатия за счет потери информации. Степень сжатия можно регулироват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g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ый «плотный». Фиксированное количество цветов (256). Позволяет создавать прозрачность фона и анимацию изображ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Форматы файлов растровой граф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484280"/>
          <a:ext cx="8229600" cy="474660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ti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gged Image File Format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Формат предназначен для хранения растровых изображений высокого качества. Неплохая степень сжатия. Возможность наложения аннотаций и примеча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ps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oto Shop Document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Позволяет запоминать параметры слоев, каналов, степени прозрачности, множества масок. Большой объем файл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06872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3743280" cy="283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76876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76720" y="3809880"/>
            <a:ext cx="231444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ды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стровая граф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64500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ды компьютерной графики отличаются принципами формирования изображ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" descr="&amp;Kcy;&amp;acy;&amp;rcy;&amp;tcy;&amp;icy;&amp;ncy;&amp;kcy;&amp;acy; 1 &amp;icy;&amp;zcy; 153389"/>
          <p:cNvPicPr/>
          <p:nvPr/>
        </p:nvPicPr>
        <p:blipFill>
          <a:blip r:embed="rId2"/>
          <a:stretch/>
        </p:blipFill>
        <p:spPr>
          <a:xfrm>
            <a:off x="4788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Растровая графика строится по точкам (</a:t>
            </a: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пикселям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яется при разработке электронных и полиграфических изд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Интернете применяются только растровые иллюстрац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&amp;Kcy;&amp;acy;&amp;rcy;&amp;tcy;&amp;icy;&amp;ncy;&amp;kcy;&amp;acy; 3 &amp;icy;&amp;zcy; 153389"/>
          <p:cNvPicPr/>
          <p:nvPr/>
        </p:nvPicPr>
        <p:blipFill>
          <a:blip r:embed="rId2"/>
          <a:stretch/>
        </p:blipFill>
        <p:spPr>
          <a:xfrm>
            <a:off x="4500720" y="2276640"/>
            <a:ext cx="4284360" cy="24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Основным элементом растрового изображения является точка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1728360"/>
            <a:ext cx="403884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решение изображения выражает количество точек в единице длины 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i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– количество точек на дюйм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изображение экранное, то эта точка называется </a:t>
            </a:r>
            <a:r>
              <a:rPr b="0" lang="ru-RU" sz="2800" spc="-1" strike="noStrike">
                <a:solidFill>
                  <a:srgbClr val="29ed1f"/>
                </a:solidFill>
                <a:latin typeface="Arial"/>
              </a:rPr>
              <a:t>пикселе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Текст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1951200"/>
            <a:ext cx="380988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иксел (пиксель) -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от англ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icture element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элемент картинки) – наименьший элемент растрового изображ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71640" y="54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ростейшем случае (черно-белое изображение без градаций серого цвета). Каждая точка экрана может иметь лишь два состояния – «черная» или «белая», т.е. для хранения ее состояния необходим 1 бит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7286400" cy="35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4762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бражение может иметь различный размер, которое определяется количеством точек по горизонтали и вертика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26920" y="2565360"/>
            <a:ext cx="4822560" cy="3313080"/>
            <a:chOff x="826920" y="2565360"/>
            <a:chExt cx="4822560" cy="3313080"/>
          </a:xfrm>
        </p:grpSpPr>
        <p:grpSp>
          <p:nvGrpSpPr>
            <p:cNvPr id="67" name=""/>
            <p:cNvGrpSpPr/>
            <p:nvPr/>
          </p:nvGrpSpPr>
          <p:grpSpPr>
            <a:xfrm>
              <a:off x="1545840" y="3141720"/>
              <a:ext cx="4103640" cy="2736720"/>
              <a:chOff x="1545840" y="3141720"/>
              <a:chExt cx="4103640" cy="2736720"/>
            </a:xfrm>
          </p:grpSpPr>
          <p:sp>
            <p:nvSpPr>
              <p:cNvPr id="68" name=""/>
              <p:cNvSpPr/>
              <p:nvPr/>
            </p:nvSpPr>
            <p:spPr>
              <a:xfrm>
                <a:off x="1545840" y="3141720"/>
                <a:ext cx="4103640" cy="2736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1761840" y="3286080"/>
                <a:ext cx="360360" cy="2375640"/>
                <a:chOff x="1761840" y="3286080"/>
                <a:chExt cx="360360" cy="23756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76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76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76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6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76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265120" y="3286080"/>
                <a:ext cx="360360" cy="2375640"/>
                <a:chOff x="2265120" y="3286080"/>
                <a:chExt cx="360360" cy="2375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6512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26512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6512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26512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26512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2841480" y="3286080"/>
                <a:ext cx="360360" cy="2375640"/>
                <a:chOff x="2841480" y="3286080"/>
                <a:chExt cx="360360" cy="2375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841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841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1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841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41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417480" y="3286080"/>
                <a:ext cx="360360" cy="2375640"/>
                <a:chOff x="3417480" y="3286080"/>
                <a:chExt cx="360360" cy="23756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417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17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17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17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17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922560" y="3286080"/>
                <a:ext cx="360360" cy="2375640"/>
                <a:chOff x="3922560" y="3286080"/>
                <a:chExt cx="360360" cy="23756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922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922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922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22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22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498560" y="3286080"/>
                <a:ext cx="360360" cy="2375640"/>
                <a:chOff x="4498560" y="3286080"/>
                <a:chExt cx="360360" cy="2375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498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98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498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98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98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001840" y="3286080"/>
                <a:ext cx="360360" cy="2375640"/>
                <a:chOff x="5001840" y="3286080"/>
                <a:chExt cx="360360" cy="23756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00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0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00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0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00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834920" y="2781360"/>
              <a:ext cx="33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49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620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1840" y="256536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200" y="3429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200" y="551664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4200" y="342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4076640"/>
              <a:ext cx="5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19280" y="2708280"/>
            <a:ext cx="3167280" cy="1295280"/>
            <a:chOff x="5219280" y="2708280"/>
            <a:chExt cx="3167280" cy="1295280"/>
          </a:xfrm>
        </p:grpSpPr>
        <p:sp>
          <p:nvSpPr>
            <p:cNvPr id="120" name=""/>
            <p:cNvSpPr/>
            <p:nvPr/>
          </p:nvSpPr>
          <p:spPr>
            <a:xfrm flipH="1">
              <a:off x="5219280" y="3139920"/>
              <a:ext cx="143964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514920" y="2708280"/>
              <a:ext cx="1871640" cy="433440"/>
              <a:chOff x="6514920" y="2708280"/>
              <a:chExt cx="1871640" cy="433440"/>
            </a:xfrm>
          </p:grpSpPr>
          <p:sp>
            <p:nvSpPr>
              <p:cNvPr id="122" name=""/>
              <p:cNvSpPr/>
              <p:nvPr/>
            </p:nvSpPr>
            <p:spPr>
              <a:xfrm>
                <a:off x="6659280" y="3141720"/>
                <a:ext cx="15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14920" y="270828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Пиксель 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6012000" y="350028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ed1f"/>
                </a:solidFill>
                <a:latin typeface="Arial"/>
              </a:rPr>
              <a:t>Растр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x N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графическая сетк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2-08-23T06:03:10Z</dcterms:modified>
  <cp:revision>26</cp:revision>
  <dc:subject/>
  <dc:title>Презентация PowerPoint</dc:title>
</cp:coreProperties>
</file>