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16C-A0A1-42EA-9FDA-CA9D4A80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BA1-CA76-4372-97E8-17B692D1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903-A419-4C36-8604-857C7FEA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CD1-9CDC-4AA6-A7E5-D75B40B2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D22-D059-46EF-BB28-31BEF12F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BD1-A3DB-4220-ADAF-D0E499A6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187-9CAC-475B-89A8-077AFEC0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051-7B7E-4560-85C5-0CDCBF9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8DA-C195-4ED9-B45E-7B8EF038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4FF-E972-4378-98F8-89EBD234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A87-E8BA-438F-B759-F63E6A9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6E2-25BD-4796-8C96-F2EB69F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417B-E0D2-4A74-8321-E098B729B0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4157-E330-4CE1-8252-7E41042CD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Коды и кодирование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4560"/>
            <a:ext cx="82296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29ed1f"/>
                </a:solidFill>
                <a:latin typeface="Calibri"/>
              </a:rPr>
              <a:t>Код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это система условных знаков для представления информац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29ed1f"/>
                </a:solidFill>
                <a:latin typeface="Calibri"/>
              </a:rPr>
              <a:t>Кодирован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это перевод информации в удобную для передачи, обработки или хранения форму с помощью некоторого код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1773360"/>
            <a:ext cx="89917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4) К номеру каждой буквы сообщения добавляется номер буквы из заранее выбранного текст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пам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яти компьютера информация представлена в двоичном коде …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ТУЛА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0   21  13  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3   17   1   1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357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1911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3  38  14 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717640" y="3352680"/>
            <a:ext cx="1016280" cy="1676520"/>
            <a:chOff x="2717640" y="3352680"/>
            <a:chExt cx="1016280" cy="1676520"/>
          </a:xfrm>
        </p:grpSpPr>
        <p:sp>
          <p:nvSpPr>
            <p:cNvPr id="185" name=""/>
            <p:cNvSpPr/>
            <p:nvPr/>
          </p:nvSpPr>
          <p:spPr>
            <a:xfrm>
              <a:off x="2717640" y="3352680"/>
              <a:ext cx="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38560" y="3352680"/>
              <a:ext cx="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33920" y="3352680"/>
              <a:ext cx="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0020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Х    Д    М   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2280" y="1387440"/>
            <a:ext cx="8991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К номеру каждой буквы сообщения добавляется номер буквы из заранее выбранного текст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пам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яти компьютера информация представлена в двоичном коде …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ТУЛА</a:t>
            </a:r>
            <a:r>
              <a:rPr b="1" lang="en-US" sz="2400" spc="-1" strike="noStrike">
                <a:solidFill>
                  <a:srgbClr val="29ed1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0   21  13  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3   17   1   1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3  38  14 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3352680"/>
            <a:ext cx="2362320" cy="1676520"/>
            <a:chOff x="2057400" y="3352680"/>
            <a:chExt cx="2362320" cy="1676520"/>
          </a:xfrm>
        </p:grpSpPr>
        <p:sp>
          <p:nvSpPr>
            <p:cNvPr id="197" name=""/>
            <p:cNvSpPr/>
            <p:nvPr/>
          </p:nvSpPr>
          <p:spPr>
            <a:xfrm>
              <a:off x="2057400" y="4191120"/>
              <a:ext cx="2362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717640" y="3352680"/>
              <a:ext cx="1016280" cy="1676520"/>
              <a:chOff x="2717640" y="3352680"/>
              <a:chExt cx="1016280" cy="1676520"/>
            </a:xfrm>
          </p:grpSpPr>
          <p:sp>
            <p:nvSpPr>
              <p:cNvPr id="199" name=""/>
              <p:cNvSpPr/>
              <p:nvPr/>
            </p:nvSpPr>
            <p:spPr>
              <a:xfrm>
                <a:off x="2717640" y="3352680"/>
                <a:ext cx="0" cy="16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238560" y="3352680"/>
                <a:ext cx="0" cy="16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33920" y="3352680"/>
                <a:ext cx="0" cy="16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160020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Х    Д    М   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50920" y="6219720"/>
            <a:ext cx="8636040" cy="392040"/>
            <a:chOff x="250920" y="6219720"/>
            <a:chExt cx="8636040" cy="392040"/>
          </a:xfrm>
        </p:grpSpPr>
        <p:pic>
          <p:nvPicPr>
            <p:cNvPr id="204" name="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23320" y="62341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219720"/>
              <a:ext cx="86508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480060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ПЩОЯ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32004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17  27  16  33  1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3  17    1  14  3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6291360" y="4191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14  10  15  19  12</a:t>
            </a:r>
            <a:r>
              <a:rPr b="1" lang="en-US" sz="2400" spc="-1" strike="noStrike">
                <a:solidFill>
                  <a:srgbClr val="29ed1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М   И   Н   С   К</a:t>
            </a:r>
            <a:r>
              <a:rPr b="0" lang="en-US" sz="2400" spc="-1" strike="noStrike">
                <a:solidFill>
                  <a:srgbClr val="29ed1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372360" y="3357720"/>
            <a:ext cx="2361960" cy="1676160"/>
            <a:chOff x="6372360" y="3357720"/>
            <a:chExt cx="2361960" cy="1676160"/>
          </a:xfrm>
        </p:grpSpPr>
        <p:sp>
          <p:nvSpPr>
            <p:cNvPr id="212" name=""/>
            <p:cNvSpPr/>
            <p:nvPr/>
          </p:nvSpPr>
          <p:spPr>
            <a:xfrm>
              <a:off x="6372360" y="4195800"/>
              <a:ext cx="2361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6832440" y="3357720"/>
              <a:ext cx="1015560" cy="1676160"/>
              <a:chOff x="6832440" y="3357720"/>
              <a:chExt cx="1015560" cy="1676160"/>
            </a:xfrm>
          </p:grpSpPr>
          <p:sp>
            <p:nvSpPr>
              <p:cNvPr id="214" name=""/>
              <p:cNvSpPr/>
              <p:nvPr/>
            </p:nvSpPr>
            <p:spPr>
              <a:xfrm>
                <a:off x="6832440" y="3357720"/>
                <a:ext cx="0" cy="167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52640" y="3357720"/>
                <a:ext cx="0" cy="167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48000" y="3357720"/>
                <a:ext cx="0" cy="167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8339040" y="3357720"/>
              <a:ext cx="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095880" y="33526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38148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graphics08" descr=""/>
          <p:cNvPicPr/>
          <p:nvPr/>
        </p:nvPicPr>
        <p:blipFill>
          <a:blip r:embed="rId2"/>
          <a:stretch/>
        </p:blipFill>
        <p:spPr>
          <a:xfrm>
            <a:off x="1724040" y="1828800"/>
            <a:ext cx="3228840" cy="4495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-380880" y="2219400"/>
            <a:ext cx="4724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260280"/>
            <a:ext cx="7696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504d"/>
                </a:solidFill>
                <a:latin typeface="Arial"/>
              </a:rPr>
              <a:t>Автоматическое кодирование и декодирование сообщений осуществляют специальные устройства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52578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Шифровальная машина «Энигма», Англия, 1940 г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19720"/>
            <a:ext cx="865080" cy="37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22200" y="1773360"/>
            <a:ext cx="8821800" cy="40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Для 5 букв латинского алфавита заданы их двоичные коды (для некоторых букв – из двух бит, для некоторых – из трех). Эти  коды представлены в таблиц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ить, какой набор букв закодирован двоичной строкой 0110100011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) EBCE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) BDDE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) BDCEA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) EBAE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627280" y="3213000"/>
          <a:ext cx="3234960" cy="1368000"/>
        </p:xfrm>
        <a:graphic>
          <a:graphicData uri="http://schemas.openxmlformats.org/drawingml/2006/table">
            <a:tbl>
              <a:tblPr/>
              <a:tblGrid>
                <a:gridCol w="646920"/>
                <a:gridCol w="647280"/>
                <a:gridCol w="646920"/>
                <a:gridCol w="646920"/>
                <a:gridCol w="646920"/>
              </a:tblGrid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1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11475" t="15741" r="27504" b="12849"/>
          <a:stretch/>
        </p:blipFill>
        <p:spPr>
          <a:xfrm>
            <a:off x="755640" y="0"/>
            <a:ext cx="7777080" cy="682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rcRect l="9837" t="30616" r="40281" b="14254"/>
          <a:stretch/>
        </p:blipFill>
        <p:spPr>
          <a:xfrm>
            <a:off x="611280" y="0"/>
            <a:ext cx="8208720" cy="6804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збука Морз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634160" cy="46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ляшущие человеч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137440" cy="33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олшебный квадр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7340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844640"/>
            <a:ext cx="83818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) Замена буквы её порядковым номером в алфавите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1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2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3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33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200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ЗАГАДКА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657600" y="3200400"/>
            <a:ext cx="5181480" cy="457200"/>
            <a:chOff x="3657600" y="3200400"/>
            <a:chExt cx="5181480" cy="457200"/>
          </a:xfrm>
        </p:grpSpPr>
        <p:sp>
          <p:nvSpPr>
            <p:cNvPr id="53" name=""/>
            <p:cNvSpPr/>
            <p:nvPr/>
          </p:nvSpPr>
          <p:spPr>
            <a:xfrm>
              <a:off x="3657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1972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20040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0572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67480" y="320040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29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780000" y="3213000"/>
            <a:ext cx="4952520" cy="459720"/>
            <a:chOff x="3780000" y="3213000"/>
            <a:chExt cx="4952520" cy="459720"/>
          </a:xfrm>
        </p:grpSpPr>
        <p:sp>
          <p:nvSpPr>
            <p:cNvPr id="61" name=""/>
            <p:cNvSpPr/>
            <p:nvPr/>
          </p:nvSpPr>
          <p:spPr>
            <a:xfrm>
              <a:off x="3780000" y="32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41760" y="32130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03880" y="32130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65640" y="32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27760" y="32130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13560" y="321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51640" y="32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1844640"/>
            <a:ext cx="83818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1) Замена буквы её порядковым номером в алфавите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1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2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3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33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200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ЗАГАДКА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657600" y="3200400"/>
            <a:ext cx="5181480" cy="457200"/>
            <a:chOff x="3657600" y="3200400"/>
            <a:chExt cx="5181480" cy="457200"/>
          </a:xfrm>
        </p:grpSpPr>
        <p:sp>
          <p:nvSpPr>
            <p:cNvPr id="72" name=""/>
            <p:cNvSpPr/>
            <p:nvPr/>
          </p:nvSpPr>
          <p:spPr>
            <a:xfrm>
              <a:off x="3657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81480" y="320040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3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0572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320040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29600" y="320040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200400"/>
            <a:ext cx="4953240" cy="459720"/>
            <a:chOff x="3809880" y="3200400"/>
            <a:chExt cx="4953240" cy="459720"/>
          </a:xfrm>
        </p:grpSpPr>
        <p:sp>
          <p:nvSpPr>
            <p:cNvPr id="80" name=""/>
            <p:cNvSpPr/>
            <p:nvPr/>
          </p:nvSpPr>
          <p:spPr>
            <a:xfrm>
              <a:off x="380988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588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38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188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39640" y="4292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14  16  19  12  3 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81280" y="4267080"/>
            <a:ext cx="4419720" cy="457200"/>
            <a:chOff x="3581280" y="4267080"/>
            <a:chExt cx="4419720" cy="457200"/>
          </a:xfrm>
        </p:grpSpPr>
        <p:sp>
          <p:nvSpPr>
            <p:cNvPr id="89" name=""/>
            <p:cNvSpPr/>
            <p:nvPr/>
          </p:nvSpPr>
          <p:spPr>
            <a:xfrm>
              <a:off x="3581280" y="426708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43400" y="426708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5520" y="426708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4267080"/>
              <a:ext cx="60984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426708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4267080"/>
              <a:ext cx="609480" cy="45720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657600" y="4267080"/>
            <a:ext cx="4343400" cy="459720"/>
            <a:chOff x="3657600" y="4267080"/>
            <a:chExt cx="4343400" cy="459720"/>
          </a:xfrm>
        </p:grpSpPr>
        <p:sp>
          <p:nvSpPr>
            <p:cNvPr id="96" name=""/>
            <p:cNvSpPr/>
            <p:nvPr/>
          </p:nvSpPr>
          <p:spPr>
            <a:xfrm>
              <a:off x="36576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197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434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828800"/>
            <a:ext cx="83822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2) Замена буквы следующей за ней по алфавиту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Б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В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Г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1" lang="en-US" sz="2300" spc="-1" strike="noStrike">
                <a:solidFill>
                  <a:srgbClr val="c0504d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ЁОЙОДСБ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62320" y="3200400"/>
            <a:ext cx="6552720" cy="469440"/>
            <a:chOff x="2362320" y="3200400"/>
            <a:chExt cx="6552720" cy="469440"/>
          </a:xfrm>
        </p:grpSpPr>
        <p:grpSp>
          <p:nvGrpSpPr>
            <p:cNvPr id="106" name=""/>
            <p:cNvGrpSpPr/>
            <p:nvPr/>
          </p:nvGrpSpPr>
          <p:grpSpPr>
            <a:xfrm>
              <a:off x="4648320" y="3200400"/>
              <a:ext cx="4266720" cy="456840"/>
              <a:chOff x="4648320" y="3200400"/>
              <a:chExt cx="4266720" cy="456840"/>
            </a:xfrm>
          </p:grpSpPr>
          <p:sp>
            <p:nvSpPr>
              <p:cNvPr id="107" name=""/>
              <p:cNvSpPr/>
              <p:nvPr/>
            </p:nvSpPr>
            <p:spPr>
              <a:xfrm>
                <a:off x="4648320" y="3200400"/>
                <a:ext cx="60948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1008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3404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5800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305560" y="3200400"/>
                <a:ext cx="60948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886200" y="3213000"/>
              <a:ext cx="60948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3213000"/>
              <a:ext cx="60984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2320" y="3213000"/>
              <a:ext cx="60948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533680" y="3200400"/>
            <a:ext cx="6248520" cy="459720"/>
            <a:chOff x="2533680" y="3200400"/>
            <a:chExt cx="6248520" cy="459720"/>
          </a:xfrm>
        </p:grpSpPr>
        <p:sp>
          <p:nvSpPr>
            <p:cNvPr id="117" name=""/>
            <p:cNvSpPr/>
            <p:nvPr/>
          </p:nvSpPr>
          <p:spPr>
            <a:xfrm>
              <a:off x="25336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194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25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33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54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76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293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51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009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828800"/>
            <a:ext cx="83822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2) Замена буквы следующей за ней по алфавиту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Б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В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Г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А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7136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МЁОЙОДСБ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362320" y="3200400"/>
            <a:ext cx="6552720" cy="469440"/>
            <a:chOff x="2362320" y="3200400"/>
            <a:chExt cx="6552720" cy="469440"/>
          </a:xfrm>
        </p:grpSpPr>
        <p:grpSp>
          <p:nvGrpSpPr>
            <p:cNvPr id="130" name=""/>
            <p:cNvGrpSpPr/>
            <p:nvPr/>
          </p:nvGrpSpPr>
          <p:grpSpPr>
            <a:xfrm>
              <a:off x="4648320" y="3200400"/>
              <a:ext cx="4266720" cy="456840"/>
              <a:chOff x="4648320" y="3200400"/>
              <a:chExt cx="4266720" cy="456840"/>
            </a:xfrm>
          </p:grpSpPr>
          <p:sp>
            <p:nvSpPr>
              <p:cNvPr id="131" name=""/>
              <p:cNvSpPr/>
              <p:nvPr/>
            </p:nvSpPr>
            <p:spPr>
              <a:xfrm>
                <a:off x="4648320" y="3200400"/>
                <a:ext cx="60948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1008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13404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800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81960" y="3200400"/>
                <a:ext cx="60912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05560" y="3200400"/>
                <a:ext cx="609480" cy="45684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886200" y="3213000"/>
              <a:ext cx="60948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24080" y="3213000"/>
              <a:ext cx="60984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2320" y="3213000"/>
              <a:ext cx="609480" cy="456840"/>
            </a:xfrm>
            <a:prstGeom prst="rect">
              <a:avLst/>
            </a:prstGeom>
            <a:noFill/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33680" y="3200400"/>
            <a:ext cx="6248520" cy="459720"/>
            <a:chOff x="2533680" y="3200400"/>
            <a:chExt cx="6248520" cy="459720"/>
          </a:xfrm>
        </p:grpSpPr>
        <p:sp>
          <p:nvSpPr>
            <p:cNvPr id="141" name=""/>
            <p:cNvSpPr/>
            <p:nvPr/>
          </p:nvSpPr>
          <p:spPr>
            <a:xfrm>
              <a:off x="25336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94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433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0548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67600" y="320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293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151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0096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57200" y="4024440"/>
            <a:ext cx="83818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3) Замена буквы на букву, номер которой на 2 больше исходного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В, Б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Г, В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Д, …, Я </a:t>
            </a:r>
            <a:r>
              <a:rPr b="1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Б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80880" y="5626080"/>
            <a:ext cx="8457480" cy="469800"/>
            <a:chOff x="380880" y="5626080"/>
            <a:chExt cx="8457480" cy="469800"/>
          </a:xfrm>
        </p:grpSpPr>
        <p:sp>
          <p:nvSpPr>
            <p:cNvPr id="152" name=""/>
            <p:cNvSpPr/>
            <p:nvPr/>
          </p:nvSpPr>
          <p:spPr>
            <a:xfrm>
              <a:off x="380880" y="5626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УОРНЖПУМ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048120" y="5626080"/>
              <a:ext cx="5790240" cy="469800"/>
              <a:chOff x="3048120" y="5626080"/>
              <a:chExt cx="5790240" cy="4698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572000" y="5626080"/>
                <a:ext cx="4266360" cy="457200"/>
                <a:chOff x="4572000" y="5626080"/>
                <a:chExt cx="4266360" cy="457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72000" y="5626080"/>
                  <a:ext cx="60948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333760" y="5626080"/>
                  <a:ext cx="60912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057720" y="5626080"/>
                  <a:ext cx="60912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781320" y="5626080"/>
                  <a:ext cx="60912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05280" y="5626080"/>
                  <a:ext cx="60912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228880" y="5626080"/>
                  <a:ext cx="609480" cy="457200"/>
                </a:xfrm>
                <a:prstGeom prst="rect">
                  <a:avLst/>
                </a:prstGeom>
                <a:noFill/>
                <a:ln w="7632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3809880" y="5638680"/>
                <a:ext cx="609120" cy="45720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8120" y="5638680"/>
                <a:ext cx="609480" cy="457200"/>
              </a:xfrm>
              <a:prstGeom prst="rect">
                <a:avLst/>
              </a:prstGeom>
              <a:noFill/>
              <a:ln w="7632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3124080" y="5626080"/>
            <a:ext cx="5639040" cy="459720"/>
            <a:chOff x="3124080" y="5626080"/>
            <a:chExt cx="5639040" cy="459720"/>
          </a:xfrm>
        </p:grpSpPr>
        <p:sp>
          <p:nvSpPr>
            <p:cNvPr id="164" name=""/>
            <p:cNvSpPr/>
            <p:nvPr/>
          </p:nvSpPr>
          <p:spPr>
            <a:xfrm>
              <a:off x="3124080" y="5626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5626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48320" y="5626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6400" y="562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2200" y="562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562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0120" y="562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1880" y="5626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9ed1f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280" y="1387440"/>
            <a:ext cx="89917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4) К номеру каждой буквы сообщения добавляется номер буквы из заранее выбранного текст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В памяти компьютера информация представлена в двоичном коде …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ТУЛА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Способы кодировани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3213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ed1f"/>
                </a:solidFill>
                <a:latin typeface="Arial"/>
              </a:rPr>
              <a:t>20   21  13  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5T10:45:52Z</dcterms:modified>
  <cp:revision>25</cp:revision>
  <dc:subject/>
  <dc:title>Презентация PowerPoint</dc:title>
</cp:coreProperties>
</file>