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7E3-7A9E-4233-BC10-AF5C4DBD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C55-37B2-4540-95E9-6A37B952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C671-308A-43F1-AD85-7FF2E9C3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A838-9CF1-448A-9BCB-E67E2326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8CD-8D79-4846-AB27-64563EF2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16F-BBD6-437B-AAD8-9EFF428F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443-9CBE-48D0-8A41-ECAF3FF4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038-5EA1-4121-9FC9-C8ADF734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131-3DC1-4219-88CE-403167CB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8D8-9AB6-407B-AEA9-3A891409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160-57D9-4710-9DF6-5CED0256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8A0-4161-48AB-B561-54F56475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13BD-601F-4491-B25F-735D8332EE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88DD-022F-423E-8117-3B54C35DC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6280" y="1314360"/>
            <a:ext cx="8229600" cy="2970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e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оличество информации, как мера уменьшения неопределенности знаний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55280" y="368280"/>
            <a:ext cx="77770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Рассмотрим еще один пример. Ученик на экзамене может получить одну из четырех оценок «5», «4», «3», «2» с равной вероятностью. На вопрос: «Что получил?», он ответил: «4». Сколько бит информации содержится в ответе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 rot="19996800">
            <a:off x="1422360" y="4463640"/>
            <a:ext cx="80316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7000" y="3878280"/>
            <a:ext cx="80352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357720" y="3924360"/>
            <a:ext cx="80316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 rot="1752600">
            <a:off x="7046640" y="4554360"/>
            <a:ext cx="80316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728280"/>
            <a:ext cx="8272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а книжном стеллаже 8 полок. Сколько информации содержит сообщение о том, где находится книга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67000" y="3608280"/>
            <a:ext cx="1459080" cy="149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Формула Хартл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133720"/>
            <a:ext cx="82296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д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— количество возможных равноверо-ятных событий (неопределенность знаний)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— количество информации, получен-ное в результате совершения событ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2771640" y="1584360"/>
            <a:ext cx="2664000" cy="988920"/>
          </a:xfrm>
          <a:prstGeom prst="rect">
            <a:avLst/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ffffff"/>
                </a:solidFill>
                <a:latin typeface="Arial"/>
              </a:rPr>
              <a:t>N = 2</a:t>
            </a:r>
            <a:r>
              <a:rPr b="1" sz="6000" spc="-1" strike="noStrike" baseline="60000">
                <a:solidFill>
                  <a:srgbClr val="ffffff"/>
                </a:solidFill>
                <a:latin typeface="Monotype Corsiva"/>
              </a:rPr>
              <a:t>i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71640" y="1341360"/>
            <a:ext cx="756108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аблица степен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Текст 2"/>
              <p:cNvSpPr txBox="1"/>
              <p:nvPr/>
            </p:nvSpPr>
            <p:spPr>
              <a:xfrm>
                <a:off x="1332000" y="1341360"/>
                <a:ext cx="2468520" cy="46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Текст 2"/>
              <p:cNvSpPr txBox="1"/>
              <p:nvPr/>
            </p:nvSpPr>
            <p:spPr>
              <a:xfrm>
                <a:off x="4932360" y="1341360"/>
                <a:ext cx="3257640" cy="44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57200" y="189000"/>
          <a:ext cx="8229600" cy="6616440"/>
        </p:xfrm>
        <a:graphic>
          <a:graphicData uri="http://schemas.openxmlformats.org/drawingml/2006/table">
            <a:tbl>
              <a:tblPr/>
              <a:tblGrid>
                <a:gridCol w="735120"/>
                <a:gridCol w="919080"/>
                <a:gridCol w="735120"/>
                <a:gridCol w="909360"/>
                <a:gridCol w="733680"/>
                <a:gridCol w="909360"/>
                <a:gridCol w="735120"/>
                <a:gridCol w="895320"/>
                <a:gridCol w="747720"/>
                <a:gridCol w="909720"/>
              </a:tblGrid>
              <a:tr h="474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(бит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(бит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(бит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(бит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(бит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39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35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93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3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45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39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95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35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5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52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42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97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37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5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45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39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3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6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49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0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40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5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52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0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42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8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75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55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06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44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8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5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08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45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1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85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61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10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47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3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9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6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12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49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45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95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67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1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50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5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1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52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0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72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1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53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8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08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75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20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55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,9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12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78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22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5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1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8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24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5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08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20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83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26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1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24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85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2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61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24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28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88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30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629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,3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3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,90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32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,6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alibri"/>
              </a:rPr>
              <a:t>Задача № 1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В рулетке общее количество лунок равно 32. Какое количество информации мы получаем в зрительном сообщении об остановке шарика в одной из лунок?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alibri"/>
              </a:rPr>
              <a:t>Задача № 2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Какое количество информации получит второй игрок при игре в крестики-нолики на поле 8х8, после первого хода первого игрока, играющего крестиками?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1640" y="368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alibri"/>
              </a:rPr>
              <a:t>Задача № 3 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alibri"/>
              </a:rPr>
              <a:t>В коробке хранятся черный, белый, желтый и зеленый шарики. Какое количество информации содержится в сообщении о выборе одного из них?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alibri"/>
              </a:rPr>
              <a:t>Задача № 4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библиотеке 16 стеллажей с книгами. На каждом стеллаже 8 полок. Книга находится на 5 стеллаже на 3 сверху полке. Сколько информации в этом сообщении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6*3=128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=128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=7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ит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7858080" y="1808280"/>
            <a:ext cx="450720" cy="45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7407360" y="2168640"/>
            <a:ext cx="450720" cy="45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8442360" y="1538280"/>
            <a:ext cx="450720" cy="45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8307360" y="2303640"/>
            <a:ext cx="450720" cy="45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2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324000"/>
            <a:ext cx="8229600" cy="34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libri"/>
              </a:rPr>
              <a:t>Задача № </a:t>
            </a:r>
            <a:r>
              <a:rPr b="1" lang="en-US" sz="35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кое количество информации получит при игре в шахматы играющий черными после первого хода белых (при условии, что ходить конями запрещено), а все остальные ходы равновероятны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6821280" cy="625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libri"/>
              </a:rPr>
              <a:t>Задача № </a:t>
            </a:r>
            <a:r>
              <a:rPr b="1" lang="en-US" sz="35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Какое количество информации получит второй игрок после первого хода первого игрока в игре в крестики-нолики на поле 4х4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Calibri"/>
              </a:rPr>
              <a:t>Задача № </a:t>
            </a:r>
            <a:r>
              <a:rPr b="1" lang="en-US" sz="35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Calibri"/>
              </a:rPr>
              <a:t>Какое было количество возможных событий, если после реализации одного из них мы получили количество информации, равное 3 битам? 7 битам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06640" y="3787920"/>
            <a:ext cx="75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акие из перечисленных процессов являются информационными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роцессы строительства зданий и сооружени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процессы химической и механической очистки вод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процессы получения, поиска, хранения, передачи, обработки и использования информации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процессы производства чугун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49720"/>
            <a:ext cx="7786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акое из нижеприведенных утверждений ближе всего раскрывает смысл понятия “информация, используемая в бытовом общении”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оследовательность знаков некоторого алфавита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сообщение, передаваемое в форме знаков или сигналов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сообщение, уменьшающее неопределенность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сведения об окружающем мире и протекающих в нем процессах, воспринимаемые человеком непосредственно или с помощью специальных устройств (термометр, барометр и пр.)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) сведения, содержащиеся в научных теориях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900000" cy="30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0920" y="5049720"/>
            <a:ext cx="900000" cy="30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1280" y="547560"/>
            <a:ext cx="85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я, которая не зависит от личного мнения или суждения, называется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достовер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актуаль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объектив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полез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560680"/>
            <a:ext cx="870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я, которая отражает истинное положение дел, называется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онят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достовер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объектив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пол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475200" y="4508640"/>
            <a:ext cx="793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я, которая важна в настоящий момент, называется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олезно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актуаль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достовер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объектив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27360" y="1673280"/>
            <a:ext cx="900000" cy="29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681280" y="3429000"/>
            <a:ext cx="900000" cy="29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681280" y="5094360"/>
            <a:ext cx="900000" cy="29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97000" y="322200"/>
            <a:ext cx="855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я, которая поможет решить поставленную задачу, называется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онят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актуаль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достовер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полез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22360" y="2560680"/>
            <a:ext cx="819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я, объем которой достаточен для решения поставленной задачи, называется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олез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актуаль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пол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достовер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820800" y="4554360"/>
            <a:ext cx="743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нформация, полученная на доступном языке, называется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пол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) полез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) актуальной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) понятной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771640" y="1719360"/>
            <a:ext cx="900360" cy="29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951280" y="3699000"/>
            <a:ext cx="900000" cy="29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862360" y="5724360"/>
            <a:ext cx="900000" cy="30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332000" y="324000"/>
            <a:ext cx="6264360" cy="6264000"/>
            <a:chOff x="1332000" y="324000"/>
            <a:chExt cx="6264360" cy="6264000"/>
          </a:xfrm>
        </p:grpSpPr>
        <p:sp>
          <p:nvSpPr>
            <p:cNvPr id="59" name=""/>
            <p:cNvSpPr/>
            <p:nvPr/>
          </p:nvSpPr>
          <p:spPr>
            <a:xfrm>
              <a:off x="1332000" y="324000"/>
              <a:ext cx="6264360" cy="6264000"/>
            </a:xfrm>
            <a:prstGeom prst="ellipse">
              <a:avLst/>
            </a:prstGeom>
            <a:solidFill>
              <a:srgbClr val="ffff00"/>
            </a:solidFill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63640" y="3014640"/>
              <a:ext cx="5329440" cy="968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29ed1f"/>
                  </a:solidFill>
                  <a:latin typeface="Arial"/>
                </a:rPr>
                <a:t>Знание</a:t>
              </a:r>
              <a:endParaRPr b="0" lang="en-US" sz="7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1" name=""/>
          <p:cNvSpPr/>
          <p:nvPr/>
        </p:nvSpPr>
        <p:spPr>
          <a:xfrm rot="19821600">
            <a:off x="612000" y="5444640"/>
            <a:ext cx="10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 rot="2323800">
            <a:off x="250200" y="3428640"/>
            <a:ext cx="10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 rot="19821600">
            <a:off x="396000" y="141228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 rot="2106600">
            <a:off x="1331280" y="323640"/>
            <a:ext cx="10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 rot="19821600">
            <a:off x="6588720" y="-36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 rot="2521800">
            <a:off x="7523640" y="155700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 rot="19821600">
            <a:off x="7741440" y="3789000"/>
            <a:ext cx="10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 rot="1707600">
            <a:off x="7308000" y="544464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499"/>
                            </p:stCondLst>
                            <p:childTnLst>
                              <p:par>
                                <p:cTn id="1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998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497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996"/>
                            </p:stCondLst>
                            <p:childTnLst>
                              <p:par>
                                <p:cTn id="1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7495"/>
                            </p:stCondLst>
                            <p:childTnLst>
                              <p:par>
                                <p:cTn id="2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994"/>
                            </p:stCondLst>
                            <p:childTnLst>
                              <p:par>
                                <p:cTn id="2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493"/>
                            </p:stCondLst>
                            <p:childTnLst>
                              <p:par>
                                <p:cTn id="2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6280" y="2214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e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ed1f"/>
                </a:solidFill>
                <a:latin typeface="Calibri"/>
              </a:rPr>
              <a:t>Неопределенность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знания о результате некоторого события — это число возможных  результатов событ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21640" y="324000"/>
            <a:ext cx="1628640" cy="162864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1601640" y="4643280"/>
            <a:ext cx="1852560" cy="771480"/>
            <a:chOff x="1601640" y="4643280"/>
            <a:chExt cx="1852560" cy="771480"/>
          </a:xfrm>
        </p:grpSpPr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1601640" y="4643280"/>
              <a:ext cx="77148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4"/>
            <a:stretch/>
          </p:blipFill>
          <p:spPr>
            <a:xfrm>
              <a:off x="2682720" y="4643280"/>
              <a:ext cx="771480" cy="77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ed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ed1f"/>
                </a:solidFill>
                <a:latin typeface="Calibri"/>
              </a:rPr>
              <a:t>Равновероятные события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— ни одно из них не имеет преимуществ: при возрастании числа опытов, количество появлений каждого из них постепенно сближаетс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ри бросании монеты с одинаковой вероятностью может выпасть «орел» или «решка». Значит, эти события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равновероятн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Равновероятные событ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-988920"/>
            <a:ext cx="988920" cy="988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155080" y="-988920"/>
            <a:ext cx="988920" cy="98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7 L -0.01267 0.97106 E">
                                      <p:cBhvr>
                                        <p:cTn id="294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5185E-006 L 0.00781 0.94491 E">
                                      <p:cBhvr>
                                        <p:cTn id="297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Единицы измерения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За единицу количества информации принято такое количество информации, которое содержит сообщение, уменьшающее неопределённость знания в два раза. Такая единица названа </a:t>
            </a:r>
            <a:r>
              <a:rPr b="1" i="1" lang="en-US" sz="3200" spc="-1" strike="noStrike">
                <a:solidFill>
                  <a:srgbClr val="29ed1f"/>
                </a:solidFill>
                <a:latin typeface="Calibri"/>
              </a:rPr>
              <a:t>бит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Бросаем монету. Число возможных равновероятных событий — выпадение «орла» или «решки» — дв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оличество полученной информации —1 би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18900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ed1f"/>
                </a:solidFill>
                <a:latin typeface="Calibri"/>
              </a:rPr>
              <a:t>Число возможных событий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cc00cc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29ed1f"/>
                </a:solidFill>
                <a:latin typeface="Calibri"/>
              </a:rPr>
              <a:t>Количество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4176720" y="944280"/>
            <a:ext cx="792000" cy="576360"/>
          </a:xfrm>
          <a:prstGeom prst="leftRightArrow">
            <a:avLst>
              <a:gd name="adj1" fmla="val 50000"/>
              <a:gd name="adj2" fmla="val 27356"/>
            </a:avLst>
          </a:prstGeom>
          <a:solidFill>
            <a:srgbClr val="95cf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645000" y="4221000"/>
            <a:ext cx="1852560" cy="771480"/>
            <a:chOff x="3645000" y="4221000"/>
            <a:chExt cx="1852560" cy="77148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3645000" y="4221000"/>
              <a:ext cx="77148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4726080" y="4221000"/>
              <a:ext cx="771480" cy="77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6-05T11:02:53Z</dcterms:modified>
  <cp:revision>26</cp:revision>
  <dc:subject/>
  <dc:title>Презентация PowerPoint</dc:title>
</cp:coreProperties>
</file>