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827-D86C-48C5-AC8D-3CB42C7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89D-B25D-457F-93AD-959E3BC2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B4B-E012-4CF2-935D-9F0ABA5E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0A5-B46C-462F-8D07-1250C410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1E7-40FF-478D-8E06-5D0C332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780-3970-4310-8F13-D947790A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DE9-422C-405D-97AD-183A9B5E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7A4-8C57-4C47-A382-3B191734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74D-4338-4C73-BE0E-E119514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91A-9ADA-4812-BA41-7F110CC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A01-6E09-4AE7-BE13-4397E7C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A83-1F1D-4028-88F3-5E17CE3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EB42-CCB8-415E-810D-8E325A230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163-5F9B-4463-A944-2D2D2D6FF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Измерение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Алфавитный подх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а № 1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оробке 16 черных, 16 белых, 16 желтых и 16 зеленых носков. Какое количество информации содержится в сообщении о выборе одного из них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а № 1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нига, набранная на компьютере, содержит 150 страниц по 40 строк, на строке — по 60 символов. Каков информационный объем книги? Сколько книг такого объема можно записать на дискету и на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D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диск емкостью 640 Мбайт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6019920"/>
            <a:ext cx="1371600" cy="65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34446" r="0" b="18887"/>
          <a:stretch/>
        </p:blipFill>
        <p:spPr>
          <a:xfrm>
            <a:off x="5651640" y="2492280"/>
            <a:ext cx="1828800" cy="7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8002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лфавит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то набор используемых в языке символ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лфавит, содержащий всего два символа, называется двоичным алфавитом ил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двоичным кодом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меры двоичных алфавитов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•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0 1        Да Н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1 би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—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информационный вес символа двоичного алфавит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it — binary digit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31920" cy="253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0960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484360" y="1916280"/>
            <a:ext cx="303120" cy="25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9880" y="2031840"/>
            <a:ext cx="346320" cy="25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057400" y="203040"/>
            <a:ext cx="260280" cy="25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68360" y="1916280"/>
            <a:ext cx="345960" cy="24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715000" y="404640"/>
            <a:ext cx="347760" cy="21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916360" y="1916280"/>
            <a:ext cx="345960" cy="25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876920" y="1905120"/>
            <a:ext cx="317520" cy="25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7162920" y="228600"/>
            <a:ext cx="280800" cy="25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400800" y="1676520"/>
            <a:ext cx="345960" cy="249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505320" y="457200"/>
            <a:ext cx="331560" cy="2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7508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г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 мощность алфавит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—        количество символов в алфавит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онный ве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имвол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 количество информации, которое несет один симво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инимальная мощность алфавита, пригодного для передачи информации, равна двум. Докажите эт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685800"/>
            <a:ext cx="2209680" cy="83808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ffff"/>
                </a:solidFill>
                <a:latin typeface="Times New Roman"/>
              </a:rPr>
              <a:t>N = 2</a:t>
            </a:r>
            <a:r>
              <a:rPr b="1" sz="4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аблица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зависимости мощности алфавита от информационного веса символа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63520" y="1905120"/>
          <a:ext cx="8575560" cy="4744800"/>
        </p:xfrm>
        <a:graphic>
          <a:graphicData uri="http://schemas.openxmlformats.org/drawingml/2006/table">
            <a:tbl>
              <a:tblPr/>
              <a:tblGrid>
                <a:gridCol w="1413000"/>
                <a:gridCol w="4495680"/>
                <a:gridCol w="26668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бит)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-ционный вес симво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мволы алфави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 алфави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                      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 = 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0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1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11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 = 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001          010     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 = 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11      101          110      1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…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000000…       …111111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56 = 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2520" y="3657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6095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8485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личество информации, которое содержит сообщение, закодированное с помощью знаковой системы, можно определить по формул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, г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личество информации в сообщени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количество знаков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онный вес знак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имвол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819520"/>
            <a:ext cx="1981080" cy="83808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sz="4400" spc="-1" strike="noStrike">
                <a:solidFill>
                  <a:srgbClr val="ffffff"/>
                </a:solidFill>
                <a:latin typeface="Times New Roman"/>
              </a:rPr>
              <a:t> = к</a:t>
            </a:r>
            <a:r>
              <a:rPr b="1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sz="5400" spc="-1" strike="noStrike">
                <a:solidFill>
                  <a:srgbClr val="ffffff"/>
                </a:solidFill>
                <a:latin typeface="Monotype Corsiva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78487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корость передачи информации – количество переданной информации в единицу времен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, г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корость передачи информаци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личество информации в сообщени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ремя, затраченное на передачу сообщ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Единицей измерения скорости передачи информации является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бит в секунду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809720"/>
            <a:ext cx="2361960" cy="116208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ffffff"/>
                </a:solidFill>
                <a:latin typeface="Times New Roman"/>
              </a:rPr>
              <a:t>v = —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676520"/>
            <a:ext cx="533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752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286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а № 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ом алфавите, русском или английском, одна буква несет больше информации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а № 8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лфавит племени Мульти состоит из 8 букв. Какое количество информации несет одна буква этого алфавит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585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а № 9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(записать в тетрадь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кст, набранный на компьютер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занимает пять страниц. На каждой странице размещается  30 строк по 70 символов в строке. Какой объем оперативной памяти занимает этот текс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местится ли текст на дискет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а № 10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(записать в тетрадь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корость модема 1200бит/с. Сколько времени будет передаваться картинка размером 300 бай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848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Задача № 1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при игре в шахматы играющий черными после первого хода белых (при условии, что ходить конями запрещено), а все остальные ходы равновероятны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Задача № 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играющий черными шахматист после первого хода белых (при условии, что ходить пешками запрещено)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Задача № 1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Происходит выбор одной карты из колоды в 32 карты. Какое количество информации мы получаем в зрительном сообщении о выборе дамы червей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43800" y="4876920"/>
            <a:ext cx="1327320" cy="1592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972200">
            <a:off x="7391520" y="2285640"/>
            <a:ext cx="94140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1:12:03Z</dcterms:modified>
  <cp:revision>26</cp:revision>
  <dc:subject/>
  <dc:title>Презентация PowerPoint</dc:title>
</cp:coreProperties>
</file>