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3B2-476F-42FB-A615-F9A6914D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C43-909B-4C7F-A419-B1861EA7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74B-9B9F-4239-B15F-59B2D0C9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555-0203-4AE4-B8A1-9BB275C2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5E7-BA11-4FD3-A8D5-BA11623D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F95-462A-405B-8043-584FF57C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144-249B-4711-B465-5D74815D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0C2-BFC4-4B3D-B88E-22A88CF3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601-38DF-4274-BB96-0B996F0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5FF-CB53-4B2D-B754-D524355C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D40-B2D9-4C08-BDFC-85BA0967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B4F-2B1B-4D31-948F-4AC0BC6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569F-E3DC-4DE9-8F22-D23214CD3E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D5B4-31BF-4067-8DC5-D054A4E3E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граммное обеспечение. Графический интерфейс операционных систем и приложени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" descr="&amp;Kcy;&amp;acy;&amp;rcy;&amp;tcy;&amp;icy;&amp;ncy;&amp;kcy;&amp;acy; 8 &amp;icy;&amp;zcy; 5248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579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кна папок и приложен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&amp;Kcy;&amp;acy;&amp;rcy;&amp;tcy;&amp;icy;&amp;ncy;&amp;kcy;&amp;acy; 1 &amp;icy;&amp;zcy; 5048"/>
          <p:cNvPicPr/>
          <p:nvPr/>
        </p:nvPicPr>
        <p:blipFill>
          <a:blip r:embed="rId2"/>
          <a:stretch/>
        </p:blipFill>
        <p:spPr>
          <a:xfrm>
            <a:off x="2268360" y="1197000"/>
            <a:ext cx="4330800" cy="56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43" name="_s61453"/>
            <p:cNvCxnSpPr>
              <a:stCxn id="44" idx="0"/>
              <a:endCxn id="45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6" name="_s61452"/>
            <p:cNvCxnSpPr>
              <a:stCxn id="47" idx="0"/>
              <a:endCxn id="45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8" name="_s61451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5" name="_s61447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Программное 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обеспечение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_s61448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Системное ПО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_s61449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Прикладное ПО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_s61450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Системы 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программирования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истемное П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ужебное П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для работы с файлам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ерационная систем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перационная систем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ерационная система – набор программ, обеспечивающих совместное функционирование всех устройств компьютера и предоставляющих пользователю доступ к его ресурса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&amp;Kcy;&amp;acy;&amp;rcy;&amp;tcy;&amp;icy;&amp;ncy;&amp;kcy;&amp;acy; 15 &amp;icy;&amp;zcy; 204764"/>
          <p:cNvPicPr/>
          <p:nvPr/>
        </p:nvPicPr>
        <p:blipFill>
          <a:blip r:embed="rId2"/>
          <a:stretch/>
        </p:blipFill>
        <p:spPr>
          <a:xfrm>
            <a:off x="900000" y="0"/>
            <a:ext cx="727236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кладное ПО (приложения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ложения общего назначения (текстовые, графические, звуковые  редакторы, калькуляторы, электронные таблицы, мультимедиа проигрыватели, программы разработки презентаций, системы управления базами данных, коммуникационные программы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риложения специального назначения: (системы компьютерного черчения, компьютерные словари и переводчики, энциклопедии, системы распознавания текста, бухгалтерские программы, обучающие программы, электронные учебники, тесты, конструкторы, компьютерные игры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кладное ПО (приложения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рафический интерфей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ический интерфейс позволяет осуществлять взаимодействие человека с компьютером в форме диалога с использованием окон и мен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&amp;Kcy;&amp;acy;&amp;rcy;&amp;tcy;&amp;icy;&amp;ncy;&amp;kcy;&amp;acy; 32 &amp;icy;&amp;zcy; 5248"/>
          <p:cNvPicPr/>
          <p:nvPr/>
        </p:nvPicPr>
        <p:blipFill>
          <a:blip r:embed="rId2"/>
          <a:stretch/>
        </p:blipFill>
        <p:spPr>
          <a:xfrm>
            <a:off x="1835280" y="549360"/>
            <a:ext cx="5535360" cy="630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908000" y="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лементы диалогового ок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09T09:26:01Z</dcterms:modified>
  <cp:revision>26</cp:revision>
  <dc:subject/>
  <dc:title>Презентация PowerPoint</dc:title>
</cp:coreProperties>
</file>