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gif" ContentType="image/gif"/>
  <Override PartName="/ppt/media/image8.wmf" ContentType="image/x-wmf"/>
  <Override PartName="/ppt/media/image6.wmf" ContentType="image/x-wmf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530-541F-4BB3-87B7-8434B540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15D-EA2E-479C-8011-FD5D2520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867-DE3B-4B3A-B977-F1D32FC0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5ED-CC48-4195-9583-2A90EDBF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79D-EF98-4FA5-9690-4DDF3C3B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60D9-7F4B-47DD-9E95-47933A51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EE6-035A-4A92-82ED-AE305928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1EF-10BB-4EF4-A52A-F3A70EF7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425-499E-42C5-B96D-FC34CD69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7E0-0D5A-45F8-A307-CBD6293E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EAF-C06F-422C-8BAE-2EEF5DC1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DF6-070F-43D8-A47B-BE8E2C48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1360-12DB-434D-80CD-1AC2BE30D8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55FD-B295-462C-A0CD-0BC7DC607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" Target="slide3.xml"/><Relationship Id="rId1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881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ОМПЬЮТЕРНЫЕ ВИРУСЫ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И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МЕТОДЫ  БОРЬБЫ С НИМ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9564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ризнаки зараженности компьютер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1508040" y="225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14320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700280"/>
            <a:ext cx="831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медление работы некоторых програм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величение размеров файл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явление не существовавших ранее «странных» файл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меньшение объема доступной оперативной памят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незапно возникающие разнообразные видео 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вуковые эффект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ризнаки зараженности компьютер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1628640"/>
            <a:ext cx="8388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незапно возникающие разнообразные видео 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вуковые эффект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явление сбоев в работе операционной систем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пись информации на диски в моменты времени, когда этого не должно происходить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кращение работы или неправильная работ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нее нормально функционировавших програм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ступление электронного письма исполняемым приложением от неизвестного корреспондент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812000" y="6400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4892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веты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для спокойной жизн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204480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Оснастите  свой компьютер современными антивирусными программами,  например  антивирус Касперского,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Nod32,  Doctor Web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и постоянно возобновляйте их версии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Перед считывании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 флэш-карт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информации, записанной на других  компьютерах , всегда проверяйте эти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лэш-карты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на наличие вирусов,  запуская антивирусные программы своего компьютер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Обязательно делайте архивные копии ценной для вас информации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Текст 2" descr=""/>
          <p:cNvPicPr/>
          <p:nvPr/>
        </p:nvPicPr>
        <p:blipFill>
          <a:blip r:embed="rId2"/>
          <a:stretch/>
        </p:blipFill>
        <p:spPr>
          <a:xfrm>
            <a:off x="755640" y="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нтивирусные программ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7416720" cy="52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&amp;Kcy;&amp;acy;&amp;rcy;&amp;tcy;&amp;icy;&amp;ncy;&amp;kcy;&amp;acy; 101 &amp;icy;&amp;zcy; 153130"/>
          <p:cNvPicPr/>
          <p:nvPr/>
        </p:nvPicPr>
        <p:blipFill>
          <a:blip r:embed="rId2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712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Советы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для спокойной жизн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42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и переносе на свой компьютер файлов  в архивированном виде проверяйте их сразу же после разархивации на жестком  диске, ограничивая область проверки  только вновь записанными файлам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риодически проверяйте на наличия вирусов, жесткие диски компьют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спользуйте антивирусные программы для входного контроля всех исполняемых файлов, получаемых из компьютерных сетей.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чивайте информацию только из безопасных источников интернет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ь обновляйте антивирусную программу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Текст 2" descr=""/>
          <p:cNvPicPr/>
          <p:nvPr/>
        </p:nvPicPr>
        <p:blipFill>
          <a:blip r:embed="rId2"/>
          <a:stretch/>
        </p:blipFill>
        <p:spPr>
          <a:xfrm>
            <a:off x="611280" y="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740720" y="64008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112536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9ed1f"/>
                </a:solidFill>
                <a:uFillTx/>
                <a:latin typeface="Times New Roman"/>
              </a:rPr>
              <a:t>Компьютерные вирусы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вляются программами, которые  могут «размножаться» 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крытно внедрять свои  копии  в файлы, загрузочные сектора дисков и документы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ктивизация компьютерного вирус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жет вызывать  уничтожение программ  и данных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487680"/>
            <a:ext cx="90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9ed1f"/>
                </a:solidFill>
                <a:uFillTx/>
                <a:latin typeface="Times New Roman"/>
              </a:rPr>
              <a:t>Антивирус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грамма, предназначенная для локализации и уничтожения вируса на конкретном компьютер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85604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9ed1f"/>
                </a:solidFill>
                <a:uFillTx/>
                <a:latin typeface="Times New Roman"/>
              </a:rPr>
              <a:t>Инфицированной</a:t>
            </a:r>
            <a:r>
              <a:rPr b="1" lang="ru-RU" sz="2400" spc="-1" strike="noStrike" u="sng">
                <a:solidFill>
                  <a:srgbClr val="29ed1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зараженной)  программой называется программа, внутри которой находится виру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7524720" y="630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ed1f"/>
                </a:solidFill>
                <a:latin typeface="Calibri"/>
              </a:rPr>
              <a:t>Вирус под микроскопо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207000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Термин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9ed1f"/>
                </a:solidFill>
                <a:latin typeface="Times New Roman"/>
              </a:rPr>
              <a:t>«компьютерный вирус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заимствован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 биологии потому, что многие особенности поведения компьютерного вируса сходны с поведением обычны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ирусов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гда инфицированная программ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ачинает работу, то сначала управление получае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ирус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5013360"/>
            <a:ext cx="61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79268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ирус заражает другие программы, 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акже выполняет запланированные действия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Текст 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95280" y="231840"/>
            <a:ext cx="113832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ed1f"/>
                </a:solidFill>
                <a:latin typeface="Arial"/>
              </a:rPr>
              <a:t>Рост компьютерных вирус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8064360" y="6400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" descr="&amp;Kcy;&amp;acy;&amp;rcy;&amp;tcy;&amp;icy;&amp;ncy;&amp;kcy;&amp;acy; 63 &amp;icy;&amp;zcy; 2803"/>
          <p:cNvPicPr/>
          <p:nvPr/>
        </p:nvPicPr>
        <p:blipFill>
          <a:blip r:embed="rId3"/>
          <a:stretch/>
        </p:blipFill>
        <p:spPr>
          <a:xfrm>
            <a:off x="1042920" y="1773360"/>
            <a:ext cx="7056360" cy="40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ed1f"/>
                </a:solidFill>
                <a:latin typeface="Calibri"/>
              </a:rPr>
              <a:t>Классификация вирус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591560" y="2174760"/>
            <a:ext cx="729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русы условно классифицируются по следующи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знакам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По среде обитания вирус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По способу заражения среды обитания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По деструктивным возможностя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79360" y="293760"/>
            <a:ext cx="5027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Среда  обита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71680" y="981000"/>
          <a:ext cx="8321400" cy="2316240"/>
        </p:xfrm>
        <a:graphic>
          <a:graphicData uri="http://schemas.openxmlformats.org/drawingml/2006/table">
            <a:tbl>
              <a:tblPr/>
              <a:tblGrid>
                <a:gridCol w="2300040"/>
                <a:gridCol w="60213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тев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пространяются по компьютерной се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йлов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дряются в выполняемые файл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грузочн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дряются в загрузочный  сектор диска 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BOOT- </a:t>
                      </a: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ктор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187280" y="3567240"/>
            <a:ext cx="6551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Способы зараж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4365720"/>
          <a:ext cx="8136000" cy="1971720"/>
        </p:xfrm>
        <a:graphic>
          <a:graphicData uri="http://schemas.openxmlformats.org/drawingml/2006/table">
            <a:tbl>
              <a:tblPr/>
              <a:tblGrid>
                <a:gridCol w="3095640"/>
                <a:gridCol w="504036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идентн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пространяются п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ьютерной се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резидентн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дряются в выполняем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йл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Деструктивные возможнос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12840" y="907920"/>
          <a:ext cx="8507160" cy="4805640"/>
        </p:xfrm>
        <a:graphic>
          <a:graphicData uri="http://schemas.openxmlformats.org/drawingml/2006/table">
            <a:tbl>
              <a:tblPr/>
              <a:tblGrid>
                <a:gridCol w="2590560"/>
                <a:gridCol w="5916600"/>
              </a:tblGrid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звред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ктически не влияют на работу;  уменьшают свободную память на диске в результате своего распростран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опа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меньшает свободную память, создают звуковые, графические и прочие эффект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а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гут привести к серьезным сбоям в работе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чень опа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гут привести к потери программ или системных данны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908000" y="6021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Вирусные забав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Текст 2" descr=""/>
          <p:cNvPicPr/>
          <p:nvPr/>
        </p:nvPicPr>
        <p:blipFill>
          <a:blip r:embed="rId2"/>
          <a:stretch/>
        </p:blipFill>
        <p:spPr>
          <a:xfrm rot="19702200">
            <a:off x="395280" y="259920"/>
            <a:ext cx="1609560" cy="1808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водят на экран мешающие текстовые сообщения (поздравления, политические лозунги, фразы с претензией на юмор, нецензурные выражения, рекламу и т.д.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здают звуковые эффект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здают  видеоэффекты (переворачивают или сдвигают экран, имитируют землетрясение, вызывают опадание букв в тексте, имитируют скачущий шарик , выводят на экран рисунки  и картинки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медляют работу  ЭВМ, постепенно уменьшают объем свободной оперативной памят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величивают износ оборудования (например, головок  дисководов.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Текст 2" descr=""/>
          <p:cNvPicPr/>
          <p:nvPr/>
        </p:nvPicPr>
        <p:blipFill>
          <a:blip r:embed="rId8"/>
          <a:stretch/>
        </p:blipFill>
        <p:spPr>
          <a:xfrm>
            <a:off x="7308720" y="189000"/>
            <a:ext cx="1573200" cy="182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Вирусные  забав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255960" y="2133720"/>
            <a:ext cx="8344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зывают отказ отдельных устройств, зависание ил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грузку компьютера и крах работы всей ЭВ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ничтожаю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T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блицу, форматируют жесткий диск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ничтожают или искажают дан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ществляют  научный, технический, промышленный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финансовый шпионаж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ят из строя системы защиты информации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ают злоумышленникам тайный доступ к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числительной машин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лают незаконные отчисления с каждой финансово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ер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24000" y="0"/>
            <a:ext cx="8557920" cy="2297160"/>
            <a:chOff x="324000" y="0"/>
            <a:chExt cx="8557920" cy="2297160"/>
          </a:xfrm>
        </p:grpSpPr>
        <p:pic>
          <p:nvPicPr>
            <p:cNvPr id="70" name="Текст 2" descr=""/>
            <p:cNvPicPr/>
            <p:nvPr/>
          </p:nvPicPr>
          <p:blipFill>
            <a:blip r:embed="rId7"/>
            <a:stretch/>
          </p:blipFill>
          <p:spPr>
            <a:xfrm>
              <a:off x="324000" y="476280"/>
              <a:ext cx="1573200" cy="18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Текст 2" descr=""/>
            <p:cNvPicPr/>
            <p:nvPr/>
          </p:nvPicPr>
          <p:blipFill>
            <a:blip r:embed="rId8"/>
            <a:stretch/>
          </p:blipFill>
          <p:spPr>
            <a:xfrm>
              <a:off x="7308720" y="0"/>
              <a:ext cx="1573200" cy="182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7524720" y="630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09T08:17:57Z</dcterms:modified>
  <cp:revision>27</cp:revision>
  <dc:subject/>
  <dc:title>Презентация PowerPoint</dc:title>
</cp:coreProperties>
</file>