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7C3-D81B-4730-BAE3-DB318629FE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граммные, информационные и аппаратные ресурсы: общие программы, базы данных, принтеры, диски, мод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A08-B85D-436C-A1A8-9D58AA29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A2F-AB3B-45C0-B265-2E8647B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742-DE34-4806-9156-A56C376A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5F8-B61B-4293-BF3A-57A69878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4D9-9336-4F3B-84E8-84745059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0A4-7CA8-4D31-9464-44688DC2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445-FDFB-4CAD-855D-C3EFFC6D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44C-204B-451C-BDE5-7F8F8FE6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983-2A28-4EA7-A3B0-AB35DEAA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D16-8B76-48A9-BE0F-C182FD9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8C7-0088-41F3-82D8-A2E4462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883-8376-4D42-A5C5-FF5852D7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D506-5B05-41D7-8E9A-8AEC3C655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761-F8BA-4D52-8F29-F286E3C3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ередача информаци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Локальные компьютер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0920" y="3068640"/>
            <a:ext cx="4897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«Общая шин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2438280"/>
            <a:ext cx="6191280" cy="780840"/>
            <a:chOff x="1447920" y="2438280"/>
            <a:chExt cx="6191280" cy="780840"/>
          </a:xfrm>
        </p:grpSpPr>
        <p:sp>
          <p:nvSpPr>
            <p:cNvPr id="76" name=""/>
            <p:cNvSpPr/>
            <p:nvPr/>
          </p:nvSpPr>
          <p:spPr>
            <a:xfrm>
              <a:off x="1849680" y="304776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479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28195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41911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55627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6858360" y="24382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4000" y="3716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Общая шин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все компьютеры параллельно подключаются к одной линии связи. Информация от каждого компьютера одновременно передается всем остальным компьютер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rcRect l="0" t="8176" r="0" b="0"/>
          <a:stretch/>
        </p:blipFill>
        <p:spPr>
          <a:xfrm>
            <a:off x="6443640" y="549360"/>
            <a:ext cx="2413080" cy="16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Звезд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2696760"/>
            <a:ext cx="0" cy="1484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76160" y="3828960"/>
            <a:ext cx="1322640" cy="425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36760" y="4254480"/>
            <a:ext cx="726840" cy="1627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493720" y="4254480"/>
            <a:ext cx="662040" cy="1697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92440" y="3900240"/>
            <a:ext cx="1322280" cy="353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347920" y="3682800"/>
            <a:ext cx="1800360" cy="54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17680" y="2439720"/>
            <a:ext cx="36720" cy="18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28480" y="3659040"/>
            <a:ext cx="1811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3259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79480" y="5280120"/>
            <a:ext cx="71748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17960" y="5356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98720" y="206064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817800" y="3333600"/>
            <a:ext cx="717840" cy="766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2692440" y="3687480"/>
            <a:ext cx="1322280" cy="42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13372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Звезд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все компьютеры, используя отдельную линию связи, соединяются с центральным узлом - сервер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763640" y="357336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Кольцо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64000" y="2349360"/>
            <a:ext cx="3543480" cy="3143160"/>
            <a:chOff x="5364000" y="2349360"/>
            <a:chExt cx="3543480" cy="3143160"/>
          </a:xfrm>
        </p:grpSpPr>
        <p:sp>
          <p:nvSpPr>
            <p:cNvPr id="103" name=""/>
            <p:cNvSpPr/>
            <p:nvPr/>
          </p:nvSpPr>
          <p:spPr>
            <a:xfrm flipV="1">
              <a:off x="5703840" y="2574720"/>
              <a:ext cx="136836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2200" y="2574720"/>
              <a:ext cx="144144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3840" y="3511440"/>
              <a:ext cx="360360" cy="1368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80200" y="5311800"/>
              <a:ext cx="1584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008920" y="3367080"/>
              <a:ext cx="503280" cy="151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754680" y="2349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536400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812628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7669080" y="4635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764320" y="47116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79280" y="1844640"/>
            <a:ext cx="46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льц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компьютеры последовательно объединены в кольцо. Передача информации в кольце всегда производится только в одном направлении. Каждый из компьютеров работает как повторит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Сетевой адапт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4114800"/>
            <a:ext cx="86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евая карта воспринимает команды и данные от сетевой операционной системы и передает их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Линии связ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058480" y="1055520"/>
            <a:ext cx="50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бель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01720" y="349416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еспровод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61657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диорелей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718160" y="6165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утник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92360" y="4005360"/>
            <a:ext cx="5257800" cy="2160000"/>
            <a:chOff x="1692360" y="4005360"/>
            <a:chExt cx="5257800" cy="21600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1692360" y="4005360"/>
              <a:ext cx="52578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190836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334800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2700360" y="4365360"/>
              <a:ext cx="542880" cy="11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тая па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61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итая пара представляет собой два изолированных медных проводника, скрученных один относительно другого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кручивание проводов снижает влияние внешних электромагнитных поме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Кабель на основе витых пар довольно гибкий,  удобный для прокладки и дешевы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032360" cy="21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аксиальны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оаксиальный кабель — кабель, состоящий из медного провода и металлической оплетки (экрана), разделенных между собой слоем внутренней изоляции и помещенных в общую внешнюю оболоч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абель имеет более высокую помехозащищенность, большие допустимые расстояния передач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онтаж коаксиального кабеля существенно сложнее, а стоимость его выш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 настоящее время считается, что коаксиальный кабель устарел, в большинстве случаев его вполне может заменить витая пара или оптоволоконный каб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592360" cy="13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Оптоволоконный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1484280"/>
            <a:ext cx="477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олоконно-оптический кабель — это прозрачное стекловолокно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Информация по оптоволокну передается с помощью светового сигнал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птоволоконный кабель обладает исключительной помехозащищенностью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амый большой недостаток кабеля — высокая сложность монтаж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32092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607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7049880" cy="465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5616720" cy="34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Бескабельные каналы связи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Бескабельные каналы используются там, где прокладка кабелей затруднена или невозможн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Для передачи информации используется радиоканал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Передача информации осуществляется с помощью  радиоволн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Виды радиосвязи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Радиорелейная связь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путниковая связь;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отовая связ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276640"/>
            <a:ext cx="1800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правитель информации (источ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492280"/>
            <a:ext cx="3529080" cy="792360"/>
          </a:xfrm>
          <a:prstGeom prst="leftRightArrow">
            <a:avLst>
              <a:gd name="adj1" fmla="val 50000"/>
              <a:gd name="adj2" fmla="val 88665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2781360"/>
            <a:ext cx="2619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 обмена информаци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349360"/>
            <a:ext cx="216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атель информации (приём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836640"/>
            <a:ext cx="796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схема передачи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5840" y="4383000"/>
            <a:ext cx="614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ускная способность канала равна количеству информации, которое может передаваться по нему в единицу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нцип рабо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Текст 2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119640" cy="38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лассификаци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утниковые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нал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диокана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50072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именение беспроводных каналов связ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утниковая связ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левидение, телефония, компьютерные сети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диоканалы (радиоуправление, рация, радио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 – F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компьютерные сети, телефония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ed1f"/>
                </a:solidFill>
                <a:latin typeface="Calibri"/>
              </a:rPr>
              <a:t>Задания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. Представим себе одинокий остров, где размещена метеорологическая или геофизическая станция. Каким каналом связи вы воспользуетесь чтобы передавать данные с этого острова на материк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. Вы владелец крупной кампании. Часто находитесь в командировках в разных частях света.  Вам нужна трансляция биржевых новостей или курса акций в реальном масштабе времени. Каким каналом связи вы воспользуетесь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. Вы директор завода который входит в огромную корпорацию с центром в г.Москве , вам нужна постоянная связь для передачи показателей производительности вашего завода в эту корпорацию. Каким каналом связи вы воспользуетесь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Максимальная скорость передачи данных по модемному протоколу V.92 составляет 56000 бит/c. Какое максимальное количество байт можно передать за 5 секунд по этому протокол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Файл размером 8 Кбайт передаётся через некоторое соединение со скоростью 4096 бит в секунду. Определите размер файла (в байтах), который можно передать за то же время через другое соединение со скоростью 256 бит в секунду. В ответе укажите одно число — размер файла в байт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Единицы измерения пропускной способности каналов передач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628640"/>
            <a:ext cx="37432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1024 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842508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— это система обмена информацией между компьют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значение компьютерных сетей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стное использование программных, информационных и аппаратных ресурс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окаль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Локальная сеть объединяет компьютеры, установленные на сравнительно небольшом удалении друг от друга (в одном здании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лассификация сетей по способу управл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665080"/>
            <a:ext cx="8066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способу управления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дноранговые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дноранговые се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се компьютеры равноправ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ed1f"/>
                </a:solidFill>
                <a:latin typeface="Calibri"/>
              </a:rPr>
              <a:t>Недостаток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– слабая защищенность информации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&amp;Kcy;&amp;acy;&amp;rcy;&amp;tcy;&amp;icy;&amp;ncy;&amp;kcy;&amp;acy; 2 &amp;icy;&amp;zcy; 29516"/>
          <p:cNvPicPr/>
          <p:nvPr/>
        </p:nvPicPr>
        <p:blipFill>
          <a:blip r:embed="rId2"/>
          <a:stretch/>
        </p:blipFill>
        <p:spPr>
          <a:xfrm>
            <a:off x="4643280" y="1628640"/>
            <a:ext cx="40482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рвер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редоставляющий свои ресурсы (файлы, программы, внешние устройства) в общее использова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айл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ервер печа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чт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иент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ользующийся услугами серве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&amp;Kcy;&amp;acy;&amp;rcy;&amp;tcy;&amp;icy;&amp;ncy;&amp;kcy;&amp;acy; 2 &amp;icy;&amp;zcy; 82166"/>
          <p:cNvPicPr/>
          <p:nvPr/>
        </p:nvPicPr>
        <p:blipFill>
          <a:blip r:embed="rId2"/>
          <a:stretch/>
        </p:blipFill>
        <p:spPr>
          <a:xfrm>
            <a:off x="3924360" y="2133720"/>
            <a:ext cx="521964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7800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сет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способ соединения компьютеров в се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топологии связей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Общая шин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Звезд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Кольцо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 выборе топологии необходимо учитывать стоимость и надежность работы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7:00:30Z</dcterms:modified>
  <cp:revision>28</cp:revision>
  <dc:subject/>
  <dc:title>Презентация PowerPoint</dc:title>
</cp:coreProperties>
</file>