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18.wmf" ContentType="image/x-wmf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32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10.wmf" ContentType="image/x-wmf"/>
  <Override PartName="/ppt/media/image2.gif" ContentType="image/gif"/>
  <Override PartName="/ppt/media/image19.jpeg" ContentType="image/jpeg"/>
  <Override PartName="/ppt/media/image25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EA4-A1A9-49F9-80C5-47918D39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99E-6C85-463C-AECF-77B8237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93F-BD1E-4D5E-8B2F-B75357F6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D07-5D4B-42E2-AB5F-351D20D1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47A-E191-4956-89C6-9534159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CFF-83E6-4D64-862A-83FFE6D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BE5-FD9E-41FB-BF40-75EDB95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544-15A0-4C91-9385-5E902FD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B9D-F267-4FD3-820D-0C720A7C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B59-69A2-4352-977A-28D25C4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5FB-454D-40DD-AD4F-6F5E7D6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A01-7B50-4EA4-BC55-0C3C152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5060-CAF1-4345-9EBC-FC765F2AD2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9957-1018-431F-99AE-CC11DFA02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 и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1125360"/>
            <a:ext cx="4249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енсорный эк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45259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ветовое п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33684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игитай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3279600"/>
            <a:ext cx="3240360" cy="285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ка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3068640"/>
            <a:ext cx="4032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тативно-страни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шетно-офис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тевые (скоростные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коформатны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916280"/>
            <a:ext cx="40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о-белые (до 64 оттенков серого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(256 – 16 млн. цве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95280" y="3645000"/>
            <a:ext cx="3075120" cy="262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695320" cy="200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46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виатуры бывают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бра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3484800" cy="12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388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аждой клавиш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нструкция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од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силие нажат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ме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е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5556" r="0" b="50014"/>
          <a:stretch/>
        </p:blipFill>
        <p:spPr>
          <a:xfrm>
            <a:off x="0" y="33336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0" t="50033" r="0" b="0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стройства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E97-36CD-4FF1-A562-1065655F30B7}" type="datetime2">
              <a:rPr b="1" lang="en-US" sz="1800" spc="-1" strike="noStrike">
                <a:solidFill>
                  <a:srgbClr val="ffffff"/>
                </a:solidFill>
                <a:latin typeface="Arial"/>
              </a:rPr>
              <a:t>Wednesday, July 29, 20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48320" y="485784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 основное устройство, служит для вывода информации на экра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работает под управлением видеоадап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и видеоадаптер образуют видеосистему компью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деопамять хранит изображение, выводимое на экран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984320" cy="181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ппаратные средства (собственно само устройство ввода и управляющее устройство – контроллер) для преобразования информации из формы понятной человеку, в форму, воспринимаемую компьютер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кар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— это устройство, управляющее монитором и обеспечивающее вывод изображений на экран. Она определяет разрешающую способность монитора и количество отображаемых цве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581640" cy="24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80988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монитр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ые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ониторы построены на основ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ой трубк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Т - электродно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лучевая трубка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CD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Liquid Crystal Display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15145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1395720" cy="15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ЭЛТ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154080"/>
            <a:ext cx="1904760" cy="176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9280" y="1557360"/>
            <a:ext cx="758196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мониторах на базе ЭЛТ в                  электронно-лучевой трубке формируется электронный луч,                               управляя    перемещением и интенсивностью которого можно получить изображение на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юминофорном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ветящемся) экран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ЖК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18920" y="1341360"/>
            <a:ext cx="7561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ниторы сделаны из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щества, находящегос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жидком состоянии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о имеющего при этом некоторые свойства кристаллов. Молекулы жидких кристаллов под воздействием электрического  напряжения меняют свойства проходящего сквозь них светового луча, таким образом на мониторе создается изображен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8160" y="44280"/>
            <a:ext cx="191448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2637000"/>
            <a:ext cx="7742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7280" y="447840"/>
            <a:ext cx="2124000" cy="173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1640" y="4616280"/>
            <a:ext cx="2073600" cy="148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38920" y="440064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519280" cy="1589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149720"/>
            <a:ext cx="28908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атрич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труй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Лазер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284720" cy="393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1971360" cy="473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АТР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rcRect l="0" t="41073" r="48106" b="17771"/>
          <a:stretch/>
        </p:blipFill>
        <p:spPr>
          <a:xfrm>
            <a:off x="2340000" y="2924280"/>
            <a:ext cx="2987640" cy="183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966" t="4459" r="1456" b="1295"/>
          <a:stretch/>
        </p:blipFill>
        <p:spPr>
          <a:xfrm>
            <a:off x="952560" y="1233360"/>
            <a:ext cx="7237440" cy="49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628640"/>
          <a:ext cx="8496000" cy="4507200"/>
        </p:xfrm>
        <a:graphic>
          <a:graphicData uri="http://schemas.openxmlformats.org/drawingml/2006/table">
            <a:tbl>
              <a:tblPr/>
              <a:tblGrid>
                <a:gridCol w="3600360"/>
                <a:gridCol w="4895640"/>
              </a:tblGrid>
              <a:tr h="13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 – 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(правда, есть матричные принтеры с многоцветной красящей лентой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енькое (до 1500 строк в минуту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СТОИНСТВА и НЕДОСТАТКИ 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628640"/>
          <a:ext cx="8497800" cy="44341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СТА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высокая цена самого принтера и расходных материалов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можность печати под копировальную кальку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требовательны к бумаг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ее качество печати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кий уровень шума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03280" y="297000"/>
            <a:ext cx="831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ТРУЙ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3687840"/>
            <a:ext cx="2916360" cy="2784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564000" y="1844640"/>
            <a:ext cx="2176560" cy="219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759280" y="3241800"/>
            <a:ext cx="3384720" cy="31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бота любого аппаратного средства требует программного управления. Для устройств ввода (устройств вывода) управляющие программы называются </a:t>
            </a:r>
            <a:r>
              <a:rPr b="0" lang="en-US" sz="3200" spc="-1" strike="noStrike">
                <a:solidFill>
                  <a:srgbClr val="29ed1f"/>
                </a:solidFill>
                <a:latin typeface="Calibri"/>
              </a:rPr>
              <a:t>ДРАЙВ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868" t="6344" r="1758" b="2286"/>
          <a:stretch/>
        </p:blipFill>
        <p:spPr>
          <a:xfrm>
            <a:off x="611280" y="1125360"/>
            <a:ext cx="7993080" cy="50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уй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557360"/>
          <a:ext cx="8532720" cy="4387680"/>
        </p:xfrm>
        <a:graphic>
          <a:graphicData uri="http://schemas.openxmlformats.org/drawingml/2006/table">
            <a:tbl>
              <a:tblPr/>
              <a:tblGrid>
                <a:gridCol w="3527280"/>
                <a:gridCol w="50054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440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ёрный) или четыре цвета (модель печати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MYK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чать в режиме нормального качества составляет 3-4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Цветная печать немного дольш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ЛАЗЕ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26920" y="3021120"/>
            <a:ext cx="2033640" cy="185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1584000" cy="1266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588000" y="2421000"/>
            <a:ext cx="172404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1125360"/>
            <a:ext cx="8064720" cy="5328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907" t="4760" r="884" b="1554"/>
          <a:stretch/>
        </p:blipFill>
        <p:spPr>
          <a:xfrm>
            <a:off x="395280" y="1484280"/>
            <a:ext cx="8209080" cy="47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зерных принте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557360"/>
          <a:ext cx="7920000" cy="4064040"/>
        </p:xfrm>
        <a:graphic>
          <a:graphicData uri="http://schemas.openxmlformats.org/drawingml/2006/table">
            <a:tbl>
              <a:tblPr/>
              <a:tblGrid>
                <a:gridCol w="3600360"/>
                <a:gridCol w="43196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 – 120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к правило одноцветная печ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5283360"/>
            <a:ext cx="2158920" cy="1574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ЛОТ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4508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Графопостроитель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59772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АКУС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04960" cy="20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cxnSp>
          <p:nvCxnSpPr>
            <p:cNvPr id="48" name="_s63492"/>
            <p:cNvCxnSpPr>
              <a:stCxn id="49" idx="1"/>
              <a:endCxn id="50" idx="2"/>
            </p:cNvCxnSpPr>
            <p:nvPr/>
          </p:nvCxnSpPr>
          <p:spPr>
            <a:xfrm rot="10800000">
              <a:off x="2793240" y="2756160"/>
              <a:ext cx="240480" cy="3758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1" name="_s63493"/>
            <p:cNvCxnSpPr>
              <a:stCxn id="52" idx="1"/>
              <a:endCxn id="50" idx="2"/>
            </p:cNvCxnSpPr>
            <p:nvPr/>
          </p:nvCxnSpPr>
          <p:spPr>
            <a:xfrm rot="10800000">
              <a:off x="27932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3" name="_s63494"/>
            <p:cNvCxnSpPr>
              <a:stCxn id="54" idx="1"/>
              <a:endCxn id="50" idx="2"/>
            </p:cNvCxnSpPr>
            <p:nvPr/>
          </p:nvCxnSpPr>
          <p:spPr>
            <a:xfrm rot="10800000">
              <a:off x="27932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" name="_s63495"/>
            <p:cNvCxnSpPr>
              <a:stCxn id="56" idx="1"/>
              <a:endCxn id="50" idx="2"/>
            </p:cNvCxnSpPr>
            <p:nvPr/>
          </p:nvCxnSpPr>
          <p:spPr>
            <a:xfrm rot="10800000">
              <a:off x="27932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" name="_s63496"/>
            <p:cNvCxnSpPr>
              <a:stCxn id="58" idx="1"/>
              <a:endCxn id="59" idx="2"/>
            </p:cNvCxnSpPr>
            <p:nvPr/>
          </p:nvCxnSpPr>
          <p:spPr>
            <a:xfrm rot="10800000">
              <a:off x="7610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0" name="_s63497"/>
            <p:cNvCxnSpPr>
              <a:stCxn id="61" idx="1"/>
              <a:endCxn id="59" idx="2"/>
            </p:cNvCxnSpPr>
            <p:nvPr/>
          </p:nvCxnSpPr>
          <p:spPr>
            <a:xfrm rot="10800000">
              <a:off x="7610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2" name="_s63498"/>
            <p:cNvCxnSpPr>
              <a:stCxn id="63" idx="1"/>
              <a:endCxn id="59" idx="2"/>
            </p:cNvCxnSpPr>
            <p:nvPr/>
          </p:nvCxnSpPr>
          <p:spPr>
            <a:xfrm rot="10800000">
              <a:off x="7610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4" name="_s63499"/>
            <p:cNvCxnSpPr>
              <a:stCxn id="65" idx="0"/>
              <a:endCxn id="66" idx="2"/>
            </p:cNvCxnSpPr>
            <p:nvPr/>
          </p:nvCxnSpPr>
          <p:spPr>
            <a:xfrm flipV="1" rot="16200000">
              <a:off x="47952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7" name="_s63500"/>
            <p:cNvCxnSpPr>
              <a:stCxn id="68" idx="0"/>
              <a:endCxn id="66" idx="2"/>
            </p:cNvCxnSpPr>
            <p:nvPr/>
          </p:nvCxnSpPr>
          <p:spPr>
            <a:xfrm flipV="1" rot="16200000">
              <a:off x="3906360" y="1377000"/>
              <a:ext cx="314280" cy="101664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9" name="_s63501"/>
            <p:cNvCxnSpPr>
              <a:stCxn id="50" idx="0"/>
              <a:endCxn id="66" idx="2"/>
            </p:cNvCxnSpPr>
            <p:nvPr/>
          </p:nvCxnSpPr>
          <p:spPr>
            <a:xfrm flipH="1" flipV="1" rot="5400000">
              <a:off x="3017880" y="1504440"/>
              <a:ext cx="314280" cy="7624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0" name="_s63502"/>
            <p:cNvCxnSpPr>
              <a:stCxn id="59" idx="0"/>
              <a:endCxn id="66" idx="2"/>
            </p:cNvCxnSpPr>
            <p:nvPr/>
          </p:nvCxnSpPr>
          <p:spPr>
            <a:xfrm flipH="1" flipV="1" rot="5400000">
              <a:off x="20016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1" name="_s63503"/>
            <p:cNvCxnSpPr>
              <a:stCxn id="66" idx="3"/>
              <a:endCxn id="72" idx="2"/>
            </p:cNvCxnSpPr>
            <p:nvPr/>
          </p:nvCxnSpPr>
          <p:spPr>
            <a:xfrm flipV="1">
              <a:off x="4332240" y="698760"/>
              <a:ext cx="30340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3" name="_s63504"/>
            <p:cNvCxnSpPr>
              <a:stCxn id="74" idx="1"/>
              <a:endCxn id="72" idx="2"/>
            </p:cNvCxnSpPr>
            <p:nvPr/>
          </p:nvCxnSpPr>
          <p:spPr>
            <a:xfrm rot="10800000">
              <a:off x="7365240" y="6987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72" name="_s63505"/>
            <p:cNvSpPr/>
            <p:nvPr/>
          </p:nvSpPr>
          <p:spPr>
            <a:xfrm>
              <a:off x="6603840" y="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ввод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информаци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_s63506"/>
            <p:cNvSpPr/>
            <p:nvPr/>
          </p:nvSpPr>
          <p:spPr>
            <a:xfrm>
              <a:off x="76197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 клавиатурным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_s63507"/>
            <p:cNvSpPr/>
            <p:nvPr/>
          </p:nvSpPr>
          <p:spPr>
            <a:xfrm>
              <a:off x="27939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с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прямым 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_s63508"/>
            <p:cNvSpPr/>
            <p:nvPr/>
          </p:nvSpPr>
          <p:spPr>
            <a:xfrm>
              <a:off x="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анипуляторы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_s63509"/>
            <p:cNvSpPr/>
            <p:nvPr/>
          </p:nvSpPr>
          <p:spPr>
            <a:xfrm>
              <a:off x="203184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е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_s63510"/>
            <p:cNvSpPr/>
            <p:nvPr/>
          </p:nvSpPr>
          <p:spPr>
            <a:xfrm>
              <a:off x="380988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канирования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_s63511"/>
            <p:cNvSpPr/>
            <p:nvPr/>
          </p:nvSpPr>
          <p:spPr>
            <a:xfrm>
              <a:off x="558792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аспознавания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_s63512"/>
            <p:cNvSpPr/>
            <p:nvPr/>
          </p:nvSpPr>
          <p:spPr>
            <a:xfrm>
              <a:off x="101592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ышь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_s63513"/>
            <p:cNvSpPr/>
            <p:nvPr/>
          </p:nvSpPr>
          <p:spPr>
            <a:xfrm>
              <a:off x="1015920" y="41144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Трекбол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_s63514"/>
            <p:cNvSpPr/>
            <p:nvPr/>
          </p:nvSpPr>
          <p:spPr>
            <a:xfrm>
              <a:off x="1015920" y="51433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жойстик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_s63515"/>
            <p:cNvSpPr/>
            <p:nvPr/>
          </p:nvSpPr>
          <p:spPr>
            <a:xfrm>
              <a:off x="304776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й экран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_s63516"/>
            <p:cNvSpPr/>
            <p:nvPr/>
          </p:nvSpPr>
          <p:spPr>
            <a:xfrm>
              <a:off x="3047760" y="41144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ветовое перо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_s63517"/>
            <p:cNvSpPr/>
            <p:nvPr/>
          </p:nvSpPr>
          <p:spPr>
            <a:xfrm>
              <a:off x="3047760" y="514332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игитайзер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3518"/>
            <p:cNvSpPr/>
            <p:nvPr/>
          </p:nvSpPr>
          <p:spPr>
            <a:xfrm>
              <a:off x="3047760" y="61718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Тачпад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060640"/>
            <a:ext cx="41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спровод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35772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мыши определяется ее </a:t>
            </a:r>
            <a:r>
              <a:rPr b="0" lang="ru-RU" sz="2400" spc="-1" strike="noStrike">
                <a:solidFill>
                  <a:srgbClr val="29ed1f"/>
                </a:solidFill>
                <a:latin typeface="Arial"/>
              </a:rPr>
              <a:t>разрешающей способ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ая измеряется числом точек на дюйм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 (dot per inch)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мышей среднего класса разрешение составляет 400 – 8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18255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нопк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акция на движение ру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етр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8810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40360" y="1611360"/>
            <a:ext cx="4547880" cy="420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Трек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жойст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370320"/>
            <a:ext cx="2770200" cy="2494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2019240" cy="31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692280"/>
            <a:ext cx="705816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омбинированные устр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959280" cy="293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1827360" cy="17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6T18:07:20Z</dcterms:modified>
  <cp:revision>26</cp:revision>
  <dc:subject/>
  <dc:title>Презентация PowerPoint</dc:title>
</cp:coreProperties>
</file>