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AB2-3E68-42ED-910B-FC21E3FA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F78-C1FD-43DA-B5A9-827F366A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791-8C58-48AB-9065-55D3B2BA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C1E-B172-47B0-810B-80C61271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01B-0DDD-401D-AAC5-709530C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6DB-5BCE-4586-A2B4-7FC59B7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7AD-503E-4322-A73C-D71BD08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1B9-4488-4CA7-A054-ECD97C7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06F-EE09-49E4-83EC-D3EE64F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7AB-7BD6-48FD-BBE5-AF38E7D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DF5-1686-449B-962E-6418BDFD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A28-A0F6-4B76-ACED-FA8DE038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0169-6F19-4C9F-B98A-1AF2EC01F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D0B-AF1C-470F-B3DB-5BBC551D4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лговременная памя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49360"/>
            <a:ext cx="42670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накопитель на жестких дисках IBM 350 Disk File разработан в 1955 год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ель емкостью 5 Мбайт состоял из 50 дисков диаметром 24 дюйма, вращавшихся со скоростью 1200 об/мин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 накопителя был сравним с двумя современными двухкамерными холодильник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11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 записи и считывания информации с жестких дисков достаточно велика (около 133 Мбайт/с) за счет быстрого вращения дисков (7200 об./мин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жестких дисков может достигать 1 Тбай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азерные (оптические) диски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- Compact Disk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мпакт диск) 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Digital Video Dis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цифровой диск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8833" r="0" b="10527"/>
          <a:stretch/>
        </p:blipFill>
        <p:spPr>
          <a:xfrm>
            <a:off x="1763640" y="3141720"/>
            <a:ext cx="489744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ификация лазерных дисков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возможности запис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OM (Compact Disk Read Only Memory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OM (Digital Video Disk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Only Memory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днократной записью и многократным чтение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многократной записью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W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W – Re Writab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700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789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V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4,7 Гбайт или 8,5 Г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5054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sh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ски (карт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-память - это энергонезависимый тип памяти, позволяющий записывать и хранить данные в микросхема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7840" y="3743280"/>
            <a:ext cx="4286160" cy="311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55960"/>
            <a:ext cx="403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эш-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икросхему, помещенную в миниатюрный плоский корпус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схемы флэш-памяти могут содержать миллиарды ячеек, каждая из которых хранит 1 бит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РТЫ ФЛЭШ-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49360"/>
            <a:ext cx="4248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онная емкость карт флэш-памяти может достига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8 Гбай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я записанная на флэш-память, может очен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лго хранить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от 20 до 100 лет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лэш-памя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актн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потребляет значительн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ньше энерг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мерно в 10-20 раз), чем магнитные и оптические дисковод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816360" cy="1803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43280" y="429264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читывания и записи информации карта памяти вставляется в специальные накопители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рид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встроенные в мобильные устройства или подключаемые к компьютеру че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ор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584360" cy="136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340000" y="4797360"/>
            <a:ext cx="2232000" cy="181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093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ниверсальный картриде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32000" y="2781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1619280" cy="139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900000" y="404640"/>
          <a:ext cx="7855200" cy="5073840"/>
        </p:xfrm>
        <a:graphic>
          <a:graphicData uri="http://schemas.openxmlformats.org/drawingml/2006/table">
            <a:tbl>
              <a:tblPr/>
              <a:tblGrid>
                <a:gridCol w="1828800"/>
                <a:gridCol w="1698840"/>
                <a:gridCol w="432756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ип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Емкость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Опасные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ск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4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б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агнитные поля, нагревание, физическое воздей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есткий ди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 Тбай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дары, изменение пространственной ориентации в процесс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50-800 М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Царапины, загряз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V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7 Гбайт, 8,5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стройства на основе flash-памя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еренапряжение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СТРУКТУРА ОПЕРАТИВНОЙ 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20640"/>
            <a:ext cx="853272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ножество ячеек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имеет свой уникаль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мерация ячеек начинается с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памяти имеет объе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симальный объем адресуемой памя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вен произведению количества яче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1 бай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960720" cy="21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643280" y="3716280"/>
          <a:ext cx="3743640" cy="2009880"/>
        </p:xfrm>
        <a:graphic>
          <a:graphicData uri="http://schemas.openxmlformats.org/drawingml/2006/table">
            <a:tbl>
              <a:tblPr/>
              <a:tblGrid>
                <a:gridCol w="1944720"/>
                <a:gridCol w="1798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73 741 8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м оперативной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ч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ем оперативной памяти = объем одной ячейки * количество ячеек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ример, для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=1073741824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1байт*1073741823= 1Гбай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8229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долговременного хранения информаци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яя память энергонезависима и позволяет сохранять большой объем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внешней памятью подразумевают обычно как устройства чтения/записи информации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акопители (дисководы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так и устройства, где непосредственно хранится информация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осител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равило, для каждого носителя информации существует свой накопител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0120" y="50292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лассификация носителей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гнитны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б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ест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нитные лент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тически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ргозависим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213372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ие магнитные диски (дискета, флоппи-диск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ционная ёмкость дискеты невелика и составляет всего 1.44 Мбайт. Скорость записи и считывания информации также мала (около 50 Кбайт/с) из-за медленного вращения диска (360 об./мин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32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680000" cy="391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гибкого диска 2 стороны по 80 дорожек. На каждой дорожке по 18 секторов. Объем одного сектора = 512 бай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м диска = 2*80*18*512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44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есткие магнитные диски (винчестер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нчестер является обязательным компонентом современного компьютера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DD – Hard Disk Drive)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яет собой группу дисков, имеющих магнитное покрытие и вращающихся с высокой скорость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50920" y="260280"/>
            <a:ext cx="8713800" cy="5256360"/>
            <a:chOff x="250920" y="260280"/>
            <a:chExt cx="8713800" cy="5256360"/>
          </a:xfrm>
        </p:grpSpPr>
        <p:sp>
          <p:nvSpPr>
            <p:cNvPr id="64" name=""/>
            <p:cNvSpPr/>
            <p:nvPr/>
          </p:nvSpPr>
          <p:spPr>
            <a:xfrm>
              <a:off x="250920" y="260280"/>
              <a:ext cx="871380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83600" cy="44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7T11:17:33Z</dcterms:modified>
  <cp:revision>28</cp:revision>
  <dc:subject/>
  <dc:title>Презентация PowerPoint</dc:title>
</cp:coreProperties>
</file>