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3C6-9C6C-4D3F-B18E-66CE915B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BD9-8A14-4500-865F-13FFCF14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9D3-D1D8-416C-9BC4-B1F96824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D7E-59AE-446D-AC3F-0ADFA5DF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D80-012F-4ED3-9F2E-CCA8067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928-C704-400A-A40F-2A7DA3C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80F-EE76-4C41-B63D-FBA948F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723-7E95-4874-B44D-C8F21FB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494-AF9A-474B-AFE5-170FBAC6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4C9-B348-4B4D-9D5D-9FB3161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7EE-A1A8-4E04-AB8E-0557EC7B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00A-76DE-4A59-B974-5FFC1D0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6618-474A-4A05-805C-EF49618500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52CF-1099-4D15-AC42-5A998E796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Фай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76500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ed1f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29ed1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это некотора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рограмма или данные), имеюща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хранящаяся в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лговремен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внешней) памя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92280"/>
            <a:ext cx="792000" cy="77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270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ширение файла обычно дописывается к имени приложением, в котором этот файл создан. Приложение, с которым связан файл, можно изменить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916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стоит из двух частей, разделенных точкой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бственно име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файла 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шир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пределяющего тип файл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3500280"/>
          <a:ext cx="4753080" cy="2679840"/>
        </p:xfrm>
        <a:graphic>
          <a:graphicData uri="http://schemas.openxmlformats.org/drawingml/2006/table">
            <a:tbl>
              <a:tblPr/>
              <a:tblGrid>
                <a:gridCol w="316872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ип фай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Расшир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6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сполним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xt, do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tm, ht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Графически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bmp, gif, jp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Звуков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wav, m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идео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i, wm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рхив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zip, 7z, 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435640" y="3500280"/>
            <a:ext cx="345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йл в каталоге описывается записью, в которой указывается его имя, размер, дата и время создания, а также набор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трибут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только для чтения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скрытый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системный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архивный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9228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Внешняя память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АРХИВАЦИЯ ФАЙЛ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765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вац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жатие) файлов выполняется для уменьшения места, занимаемого файлами, с целью долговременного хранения или передачи по компьютерным сетям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архивации файлов применяю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файловые менедже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ли специализированные приложения 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70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простой алгоритм сжатия данных основан на замене повторяющихся битов более короткой последовательностью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342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чше всег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жимаются текстов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ктическ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сжимаются файлы архив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нимые фай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4869000"/>
            <a:ext cx="1757160" cy="153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56360" y="486900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422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различные архиваторы файлов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, 7-Zip, RA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24720" y="177336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928440" cy="74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ерархическая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айловая систе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АТАЛОГ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1280" y="692280"/>
            <a:ext cx="8964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ый том носителя информации содержит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рневой катало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котором перечислены хранящиеся на носителе файлы и пап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ись о файле в каталоге содержит имя файла, адрес первого кластера, с которого начинается файл, размер файла, дату и время его создания, а также атрибуты файл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1916280"/>
          <a:ext cx="8353440" cy="1493640"/>
        </p:xfrm>
        <a:graphic>
          <a:graphicData uri="http://schemas.openxmlformats.org/drawingml/2006/table">
            <a:tbl>
              <a:tblPr/>
              <a:tblGrid>
                <a:gridCol w="1411200"/>
                <a:gridCol w="1625760"/>
                <a:gridCol w="1225440"/>
                <a:gridCol w="1362240"/>
                <a:gridCol w="1366560"/>
                <a:gridCol w="1362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мя фай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дрес первого клас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бъем файла (Кбай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Дата со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ремя со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трибу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айл_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4.01.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4.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айл_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0.03.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51280" y="3573360"/>
            <a:ext cx="5292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диске хранится много файлов, то для удобства поиска файлы хранятся в многоуровневой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ерархическ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файловой системе, которая имеет древовидную структуру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3241440" cy="313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4941720"/>
            <a:ext cx="46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ь к файл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\Документы\Изображения\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.bm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ФРАГМЕНТАЦИЯ ДИСК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92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рагментация файл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фрагменты файла хранятся в различных, удаленных друг от друга кластера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133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комендуется периодически проводи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фрагментаци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диска, в процессе которой файлы записываются в кластеры, последовательно идущие друг за друг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1484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фрагментации файлов может происходить замедление скорости обмена данными с носителем информаци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7715520" cy="24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ЗАДАНИЕ: НАРИСОВАТЬ И СОЗДАТЬ ДЕРЕВО ПАПО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0017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p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Мои\солнце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b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llo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bytype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Программы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\roo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чуд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do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пословицы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t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Мои\автобиограф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t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Мои\рефера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do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457200" y="274680"/>
            <a:ext cx="8435160" cy="5601960"/>
            <a:chOff x="457200" y="274680"/>
            <a:chExt cx="8435160" cy="5601960"/>
          </a:xfrm>
        </p:grpSpPr>
        <p:cxnSp>
          <p:nvCxnSpPr>
            <p:cNvPr id="78" name="_s68612"/>
            <p:cNvCxnSpPr>
              <a:stCxn id="79" idx="1"/>
              <a:endCxn id="80" idx="2"/>
            </p:cNvCxnSpPr>
            <p:nvPr/>
          </p:nvCxnSpPr>
          <p:spPr>
            <a:xfrm rot="10800000">
              <a:off x="5376600" y="5366160"/>
              <a:ext cx="1283040" cy="33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" name="_s68613"/>
            <p:cNvCxnSpPr>
              <a:stCxn id="82" idx="1"/>
              <a:endCxn id="80" idx="2"/>
            </p:cNvCxnSpPr>
            <p:nvPr/>
          </p:nvCxnSpPr>
          <p:spPr>
            <a:xfrm flipV="1" rot="10800000">
              <a:off x="5376600" y="5150520"/>
              <a:ext cx="1292760" cy="216720"/>
            </a:xfrm>
            <a:prstGeom prst="bentConnector4">
              <a:avLst>
                <a:gd name="adj1" fmla="val 8551"/>
                <a:gd name="adj2" fmla="val -219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68614"/>
            <p:cNvCxnSpPr>
              <a:stCxn id="84" idx="1"/>
              <a:endCxn id="85" idx="2"/>
            </p:cNvCxnSpPr>
            <p:nvPr/>
          </p:nvCxnSpPr>
          <p:spPr>
            <a:xfrm flipV="1" rot="10800000">
              <a:off x="5376600" y="3460680"/>
              <a:ext cx="1514160" cy="180000"/>
            </a:xfrm>
            <a:prstGeom prst="bentConnector4">
              <a:avLst>
                <a:gd name="adj1" fmla="val 7728"/>
                <a:gd name="adj2" fmla="val -158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" name="_s68615"/>
            <p:cNvCxnSpPr>
              <a:stCxn id="87" idx="1"/>
              <a:endCxn id="88" idx="2"/>
            </p:cNvCxnSpPr>
            <p:nvPr/>
          </p:nvCxnSpPr>
          <p:spPr>
            <a:xfrm flipV="1" rot="10800000">
              <a:off x="5376600" y="1891800"/>
              <a:ext cx="1585800" cy="165240"/>
            </a:xfrm>
            <a:prstGeom prst="bentConnector4">
              <a:avLst>
                <a:gd name="adj1" fmla="val 7379"/>
                <a:gd name="adj2" fmla="val 76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68616"/>
            <p:cNvCxnSpPr>
              <a:stCxn id="80" idx="1"/>
              <a:endCxn id="90" idx="2"/>
            </p:cNvCxnSpPr>
            <p:nvPr/>
          </p:nvCxnSpPr>
          <p:spPr>
            <a:xfrm rot="10800000">
              <a:off x="2535120" y="4574520"/>
              <a:ext cx="1771200" cy="64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68617"/>
            <p:cNvCxnSpPr>
              <a:stCxn id="92" idx="1"/>
              <a:endCxn id="90" idx="2"/>
            </p:cNvCxnSpPr>
            <p:nvPr/>
          </p:nvCxnSpPr>
          <p:spPr>
            <a:xfrm rot="10800000">
              <a:off x="2535120" y="4574520"/>
              <a:ext cx="1771200" cy="18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8618"/>
            <p:cNvCxnSpPr>
              <a:stCxn id="94" idx="1"/>
              <a:endCxn id="90" idx="2"/>
            </p:cNvCxnSpPr>
            <p:nvPr/>
          </p:nvCxnSpPr>
          <p:spPr>
            <a:xfrm flipV="1" rot="10800000">
              <a:off x="2535120" y="4250880"/>
              <a:ext cx="1771200" cy="323640"/>
            </a:xfrm>
            <a:prstGeom prst="bentConnector4">
              <a:avLst>
                <a:gd name="adj1" fmla="val 6607"/>
                <a:gd name="adj2" fmla="val 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8619"/>
            <p:cNvCxnSpPr>
              <a:stCxn id="85" idx="1"/>
              <a:endCxn id="96" idx="2"/>
            </p:cNvCxnSpPr>
            <p:nvPr/>
          </p:nvCxnSpPr>
          <p:spPr>
            <a:xfrm rot="10800000">
              <a:off x="2499840" y="2671200"/>
              <a:ext cx="1806480" cy="789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8620"/>
            <p:cNvCxnSpPr>
              <a:stCxn id="98" idx="1"/>
              <a:endCxn id="96" idx="2"/>
            </p:cNvCxnSpPr>
            <p:nvPr/>
          </p:nvCxnSpPr>
          <p:spPr>
            <a:xfrm rot="10800000">
              <a:off x="2499840" y="2671200"/>
              <a:ext cx="1806480" cy="26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68621"/>
            <p:cNvCxnSpPr>
              <a:stCxn id="100" idx="1"/>
              <a:endCxn id="96" idx="2"/>
            </p:cNvCxnSpPr>
            <p:nvPr/>
          </p:nvCxnSpPr>
          <p:spPr>
            <a:xfrm flipV="1" rot="10800000">
              <a:off x="2499840" y="2440080"/>
              <a:ext cx="1806480" cy="231840"/>
            </a:xfrm>
            <a:prstGeom prst="bentConnector4">
              <a:avLst>
                <a:gd name="adj1" fmla="val 6477"/>
                <a:gd name="adj2" fmla="val -94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68622"/>
            <p:cNvCxnSpPr>
              <a:stCxn id="88" idx="1"/>
              <a:endCxn id="102" idx="2"/>
            </p:cNvCxnSpPr>
            <p:nvPr/>
          </p:nvCxnSpPr>
          <p:spPr>
            <a:xfrm rot="10800000">
              <a:off x="2535120" y="1123200"/>
              <a:ext cx="1771200" cy="755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68623"/>
            <p:cNvCxnSpPr>
              <a:stCxn id="104" idx="1"/>
              <a:endCxn id="102" idx="2"/>
            </p:cNvCxnSpPr>
            <p:nvPr/>
          </p:nvCxnSpPr>
          <p:spPr>
            <a:xfrm rot="10800000">
              <a:off x="2535120" y="1123200"/>
              <a:ext cx="1771200" cy="25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68624"/>
            <p:cNvCxnSpPr>
              <a:stCxn id="106" idx="1"/>
              <a:endCxn id="102" idx="2"/>
            </p:cNvCxnSpPr>
            <p:nvPr/>
          </p:nvCxnSpPr>
          <p:spPr>
            <a:xfrm flipV="1" rot="10800000">
              <a:off x="2535120" y="799560"/>
              <a:ext cx="1771200" cy="323640"/>
            </a:xfrm>
            <a:prstGeom prst="bentConnector4">
              <a:avLst>
                <a:gd name="adj1" fmla="val 9087"/>
                <a:gd name="adj2" fmla="val -8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68625"/>
            <p:cNvCxnSpPr>
              <a:stCxn id="90" idx="1"/>
              <a:endCxn id="108" idx="2"/>
            </p:cNvCxnSpPr>
            <p:nvPr/>
          </p:nvCxnSpPr>
          <p:spPr>
            <a:xfrm rot="10800000">
              <a:off x="794160" y="834840"/>
              <a:ext cx="560520" cy="3524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68626"/>
            <p:cNvCxnSpPr>
              <a:stCxn id="96" idx="1"/>
              <a:endCxn id="108" idx="2"/>
            </p:cNvCxnSpPr>
            <p:nvPr/>
          </p:nvCxnSpPr>
          <p:spPr>
            <a:xfrm rot="10800000">
              <a:off x="794160" y="834840"/>
              <a:ext cx="560520" cy="1638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68627"/>
            <p:cNvCxnSpPr>
              <a:stCxn id="102" idx="1"/>
              <a:endCxn id="108" idx="2"/>
            </p:cNvCxnSpPr>
            <p:nvPr/>
          </p:nvCxnSpPr>
          <p:spPr>
            <a:xfrm rot="10800000">
              <a:off x="794160" y="834840"/>
              <a:ext cx="560520" cy="4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68628"/>
            <p:cNvSpPr/>
            <p:nvPr/>
          </p:nvSpPr>
          <p:spPr>
            <a:xfrm>
              <a:off x="457200" y="274680"/>
              <a:ext cx="676440" cy="5608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:\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_s68629"/>
            <p:cNvSpPr/>
            <p:nvPr/>
          </p:nvSpPr>
          <p:spPr>
            <a:xfrm>
              <a:off x="1355040" y="624600"/>
              <a:ext cx="2359080" cy="49932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Картинк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_s68630"/>
            <p:cNvSpPr/>
            <p:nvPr/>
          </p:nvSpPr>
          <p:spPr>
            <a:xfrm>
              <a:off x="1355040" y="2273760"/>
              <a:ext cx="2287800" cy="39780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Игр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_s68631"/>
            <p:cNvSpPr/>
            <p:nvPr/>
          </p:nvSpPr>
          <p:spPr>
            <a:xfrm>
              <a:off x="1355040" y="4143960"/>
              <a:ext cx="2359080" cy="4312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Документ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_s68632"/>
            <p:cNvSpPr/>
            <p:nvPr/>
          </p:nvSpPr>
          <p:spPr>
            <a:xfrm>
              <a:off x="4306680" y="62064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0017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jp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_s68633"/>
            <p:cNvSpPr/>
            <p:nvPr/>
          </p:nvSpPr>
          <p:spPr>
            <a:xfrm>
              <a:off x="4306680" y="119556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2.bmp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_s68634"/>
            <p:cNvSpPr/>
            <p:nvPr/>
          </p:nvSpPr>
          <p:spPr>
            <a:xfrm>
              <a:off x="4306680" y="169812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_s68635"/>
            <p:cNvSpPr/>
            <p:nvPr/>
          </p:nvSpPr>
          <p:spPr>
            <a:xfrm>
              <a:off x="4306680" y="2273760"/>
              <a:ext cx="2141640" cy="33120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hallo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_s68636"/>
            <p:cNvSpPr/>
            <p:nvPr/>
          </p:nvSpPr>
          <p:spPr>
            <a:xfrm>
              <a:off x="4306680" y="2778120"/>
              <a:ext cx="2167200" cy="3214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Babytype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_s68637"/>
            <p:cNvSpPr/>
            <p:nvPr/>
          </p:nvSpPr>
          <p:spPr>
            <a:xfrm>
              <a:off x="4306680" y="3279960"/>
              <a:ext cx="2141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рограмм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_s68638"/>
            <p:cNvSpPr/>
            <p:nvPr/>
          </p:nvSpPr>
          <p:spPr>
            <a:xfrm>
              <a:off x="4306680" y="407160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Чудо.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do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_s68639"/>
            <p:cNvSpPr/>
            <p:nvPr/>
          </p:nvSpPr>
          <p:spPr>
            <a:xfrm>
              <a:off x="4306680" y="4575240"/>
              <a:ext cx="2141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Пословицы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txt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_s68640"/>
            <p:cNvSpPr/>
            <p:nvPr/>
          </p:nvSpPr>
          <p:spPr>
            <a:xfrm>
              <a:off x="4306680" y="5077800"/>
              <a:ext cx="2141640" cy="289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_s68641"/>
            <p:cNvSpPr/>
            <p:nvPr/>
          </p:nvSpPr>
          <p:spPr>
            <a:xfrm>
              <a:off x="6962760" y="1698120"/>
              <a:ext cx="1929600" cy="38952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олнце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bmp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_s68642"/>
            <p:cNvSpPr/>
            <p:nvPr/>
          </p:nvSpPr>
          <p:spPr>
            <a:xfrm>
              <a:off x="6891120" y="3279960"/>
              <a:ext cx="1997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oo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_s68643"/>
            <p:cNvSpPr/>
            <p:nvPr/>
          </p:nvSpPr>
          <p:spPr>
            <a:xfrm>
              <a:off x="6669720" y="4935600"/>
              <a:ext cx="2222640" cy="4312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Автобиография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txt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_s68644"/>
            <p:cNvSpPr/>
            <p:nvPr/>
          </p:nvSpPr>
          <p:spPr>
            <a:xfrm>
              <a:off x="6660000" y="5516280"/>
              <a:ext cx="223236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Реферат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do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2T17:14:34Z</dcterms:modified>
  <cp:revision>26</cp:revision>
  <dc:subject/>
  <dc:title>Презентация PowerPoint</dc:title>
</cp:coreProperties>
</file>