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1976-4080-446C-9F7A-D281122D0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6D81-6E73-4911-908F-1274E27CF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C8D6-4FD9-48CF-9790-366449CE7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A806-F389-49BB-AD83-928C7B717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1931-138F-43F5-BCCB-7F83906EE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7CC8-774E-4A9F-BB5E-2967457A8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A568-D1C8-4379-A402-1DB25F299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FBCF-FB79-4AC4-BBAF-C3C86EA04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B44A-4C8B-473D-9322-EEDCBFEF1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7DE2-2709-4C44-B364-C8CE3971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FCF6-4FB2-414A-A910-140A0504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34A2-DC70-4962-B36E-E6141A94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C323A-4D0C-4848-A19A-86446B6E13E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3C88B-DEB9-4704-B62B-37CA03DE60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рограммное обеспечение. Графический интерфейс операционных систем и приложений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5" name="" descr="&amp;Kcy;&amp;acy;&amp;rcy;&amp;tcy;&amp;icy;&amp;ncy;&amp;kcy;&amp;acy; 8 &amp;icy;&amp;zcy; 5248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5799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Окна папок и приложений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8" name="" descr="&amp;Kcy;&amp;acy;&amp;rcy;&amp;tcy;&amp;icy;&amp;ncy;&amp;kcy;&amp;acy; 1 &amp;icy;&amp;zcy; 5048"/>
          <p:cNvPicPr/>
          <p:nvPr/>
        </p:nvPicPr>
        <p:blipFill>
          <a:blip r:embed="rId2"/>
          <a:stretch/>
        </p:blipFill>
        <p:spPr>
          <a:xfrm>
            <a:off x="2268360" y="1197000"/>
            <a:ext cx="4330800" cy="566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431640" y="239760"/>
            <a:ext cx="8208360" cy="5830560"/>
            <a:chOff x="431640" y="239760"/>
            <a:chExt cx="8208360" cy="5830560"/>
          </a:xfrm>
        </p:grpSpPr>
        <p:cxnSp>
          <p:nvCxnSpPr>
            <p:cNvPr id="43" name="_s61453"/>
            <p:cNvCxnSpPr>
              <a:stCxn id="44" idx="0"/>
              <a:endCxn id="45" idx="2"/>
            </p:cNvCxnSpPr>
            <p:nvPr/>
          </p:nvCxnSpPr>
          <p:spPr>
            <a:xfrm flipV="1" rot="16200000">
              <a:off x="5388840" y="1717560"/>
              <a:ext cx="1166760" cy="2873520"/>
            </a:xfrm>
            <a:prstGeom prst="bentConnector3">
              <a:avLst>
                <a:gd name="adj1" fmla="val 978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6" name="_s61452"/>
            <p:cNvCxnSpPr>
              <a:stCxn id="47" idx="0"/>
              <a:endCxn id="45" idx="2"/>
            </p:cNvCxnSpPr>
            <p:nvPr/>
          </p:nvCxnSpPr>
          <p:spPr>
            <a:xfrm flipV="1">
              <a:off x="4536000" y="2571120"/>
              <a:ext cx="3600" cy="11667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8" name="_s61451"/>
            <p:cNvCxnSpPr>
              <a:stCxn id="49" idx="0"/>
              <a:endCxn id="45" idx="2"/>
            </p:cNvCxnSpPr>
            <p:nvPr/>
          </p:nvCxnSpPr>
          <p:spPr>
            <a:xfrm flipH="1" flipV="1" rot="5400000">
              <a:off x="2516040" y="1717920"/>
              <a:ext cx="1166760" cy="2873520"/>
            </a:xfrm>
            <a:prstGeom prst="bentConnector3">
              <a:avLst>
                <a:gd name="adj1" fmla="val 978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45" name="_s61447"/>
            <p:cNvSpPr/>
            <p:nvPr/>
          </p:nvSpPr>
          <p:spPr>
            <a:xfrm>
              <a:off x="3304440" y="23976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29ed1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ff"/>
                  </a:solidFill>
                  <a:latin typeface="Arial"/>
                </a:rPr>
                <a:t>Программное </a:t>
              </a:r>
              <a:endParaRPr b="0" lang="en-US" sz="21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ff"/>
                  </a:solidFill>
                  <a:latin typeface="Arial"/>
                </a:rPr>
                <a:t>обеспечение</a:t>
              </a:r>
              <a:endParaRPr b="0" lang="en-US" sz="2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9" name="_s61448"/>
            <p:cNvSpPr/>
            <p:nvPr/>
          </p:nvSpPr>
          <p:spPr>
            <a:xfrm>
              <a:off x="431640" y="373824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29ed1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ff"/>
                  </a:solidFill>
                  <a:latin typeface="Arial"/>
                </a:rPr>
                <a:t>Системное ПО</a:t>
              </a:r>
              <a:endParaRPr b="0" lang="en-US" sz="2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7" name="_s61449"/>
            <p:cNvSpPr/>
            <p:nvPr/>
          </p:nvSpPr>
          <p:spPr>
            <a:xfrm>
              <a:off x="3304440" y="373824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29ed1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ff"/>
                  </a:solidFill>
                  <a:latin typeface="Arial"/>
                </a:rPr>
                <a:t>Прикладное ПО</a:t>
              </a:r>
              <a:endParaRPr b="0" lang="en-US" sz="2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4" name="_s61450"/>
            <p:cNvSpPr/>
            <p:nvPr/>
          </p:nvSpPr>
          <p:spPr>
            <a:xfrm>
              <a:off x="6177600" y="373824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29ed1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ff"/>
                  </a:solidFill>
                  <a:latin typeface="Arial"/>
                </a:rPr>
                <a:t>Системы </a:t>
              </a:r>
              <a:endParaRPr b="0" lang="en-US" sz="21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ff"/>
                  </a:solidFill>
                  <a:latin typeface="Arial"/>
                </a:rPr>
                <a:t>программирования</a:t>
              </a:r>
              <a:endParaRPr b="0" lang="en-US" sz="21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истемное П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лужебное ПО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 для работы с файлами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перационная систем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Операционная систем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перационная система – набор программ, обеспечивающих совместное функционирование всех устройств компьютера и предоставляющих пользователю доступ к его ресурсам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&amp;Kcy;&amp;acy;&amp;rcy;&amp;tcy;&amp;icy;&amp;ncy;&amp;kcy;&amp;acy; 15 &amp;icy;&amp;zcy; 204764"/>
          <p:cNvPicPr/>
          <p:nvPr/>
        </p:nvPicPr>
        <p:blipFill>
          <a:blip r:embed="rId2"/>
          <a:stretch/>
        </p:blipFill>
        <p:spPr>
          <a:xfrm>
            <a:off x="900000" y="0"/>
            <a:ext cx="7272360" cy="684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рикладное ПО (приложения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ложения общего назначения (текстовые, графические, звуковые  редакторы, калькуляторы, электронные таблицы, мультимедиа проигрыватели, программы разработки презентаций, системы управления базами данных, коммуникационные программы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Приложения специального назначения: (системы компьютерного черчения, компьютерные словари и переводчики, энциклопедии, системы распознавания текста, бухгалтерские программы, обучающие программы, электронные учебники, тесты, конструкторы, компьютерные игры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рикладное ПО (приложения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Графический интерфейс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рафический интерфейс позволяет осуществлять взаимодействие человека с компьютером в форме диалога с использованием окон и меню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&amp;Kcy;&amp;acy;&amp;rcy;&amp;tcy;&amp;icy;&amp;ncy;&amp;kcy;&amp;acy; 32 &amp;icy;&amp;zcy; 5248"/>
          <p:cNvPicPr/>
          <p:nvPr/>
        </p:nvPicPr>
        <p:blipFill>
          <a:blip r:embed="rId2"/>
          <a:stretch/>
        </p:blipFill>
        <p:spPr>
          <a:xfrm>
            <a:off x="1835280" y="549360"/>
            <a:ext cx="5535360" cy="63086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1908000" y="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Элементы диалогового окн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8T10:55:06Z</dcterms:created>
  <dc:creator>Марат-Вера</dc:creator>
  <dc:description/>
  <dc:language>en-US</dc:language>
  <cp:lastModifiedBy>Доронин</cp:lastModifiedBy>
  <dcterms:modified xsi:type="dcterms:W3CDTF">2012-07-09T09:26:01Z</dcterms:modified>
  <cp:revision>26</cp:revision>
  <dc:subject/>
  <dc:title>Презентация PowerPoint</dc:title>
</cp:coreProperties>
</file>