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gif" ContentType="image/gif"/>
  <Override PartName="/ppt/media/image8.wmf" ContentType="image/x-wmf"/>
  <Override PartName="/ppt/media/image6.wmf" ContentType="image/x-wmf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72C-0BA3-4F51-AB94-187AFE2C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822-D8B1-4800-BD82-AF6F827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5BE-1C28-42A4-ABD0-5906C95D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BC25-06EE-4ABF-A883-59D0442D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D66-A7D4-42DA-83A2-A67852E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50F-29F5-498C-9C81-E3B3B7C9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4995-C89B-4A46-BC7F-47DE3F36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E1C-42C0-47D8-9CE0-C0FD8F8D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6D0-E152-4D58-BBE0-8A43963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A9E-DC54-4C99-BF6E-6365EF7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869-08D7-4095-8559-2C19D4A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5F8-DD71-467B-9AC1-71F27D4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4FA-64C7-4D02-B872-B6B235621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FE4-7A59-4688-9700-D66E6DA12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" Target="slide3.xml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81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ОМПЬЮТЕРНЫЕ ВИРУСЫ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И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МЕТОДЫ  БОРЬБЫ С НИМ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9564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508040" y="225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00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медление работы некоторы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ение размеров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не существовавших ранее «странных» фай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ньшение объема доступ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знаки зараженности компьюте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628640"/>
            <a:ext cx="838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незапно возникающие разнообразные видео 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явление сбоев в работе операционной системы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пись информации на диски в моменты времени, когда этого не должно происходить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екращение работы или неправильная работ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нее нормально функционировавших програм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тупление электронного письма исполняемым приложением от неизвестного корреспонден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812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4892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204480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снастите  свой компьютер современными антивирусными программами,  например  антивирус Касперского,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Nod32,  Doctor Web 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 постоянно возобновляйте их верс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Перед считывани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 флэш-карт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информации, записанной на других  компьютерах , всегда проверяйте эти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лэш-карты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 на наличие вирусов,  запуская антивирусные программы своего компьютер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Обязательно делайте архивные копии ценной для вас информации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Текст 2" descr=""/>
          <p:cNvPicPr/>
          <p:nvPr/>
        </p:nvPicPr>
        <p:blipFill>
          <a:blip r:embed="rId2"/>
          <a:stretch/>
        </p:blipFill>
        <p:spPr>
          <a:xfrm>
            <a:off x="75564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тивирусные программ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7416720" cy="52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&amp;Kcy;&amp;acy;&amp;rcy;&amp;tcy;&amp;icy;&amp;ncy;&amp;kcy;&amp;acy; 101 &amp;icy;&amp;zcy; 153130"/>
          <p:cNvPicPr/>
          <p:nvPr/>
        </p:nvPicPr>
        <p:blipFill>
          <a:blip r:embed="rId2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71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оветы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ля спокойной жизн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2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переносе на свой компьютер файлов  в архивированном виде проверяйте их сразу же после разархивации на жестком  диске, ограничивая область проверки  только вновь записанными файл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ериодически проверяйте на наличия вирусов, жесткие диски компьют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уйте антивирусные программы для входного контроля всех исполняемых файлов, получаемых из компьютерных сетей.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чивайте информацию только из безопасных источников интернет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обновляйте антивирусную программу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Текст 2" descr=""/>
          <p:cNvPicPr/>
          <p:nvPr/>
        </p:nvPicPr>
        <p:blipFill>
          <a:blip r:embed="rId2"/>
          <a:stretch/>
        </p:blipFill>
        <p:spPr>
          <a:xfrm>
            <a:off x="611280" y="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740720" y="64008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112536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Компьютерные вирусы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вляются программами, которые  могут «размножаться»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крытно внедрять свои  копии  в файлы, загрузочные сектора дисков и документы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ктивизация компьютерного 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ожет вызывать  уничтожение программ  и данных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48768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Антивирус</a:t>
            </a:r>
            <a:r>
              <a:rPr b="1" lang="ru-RU" sz="3200" spc="-1" strike="noStrike" u="sng">
                <a:solidFill>
                  <a:srgbClr val="cc66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грамма, предназначенная для локализации и уничтожения вируса на конкретном компьютер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8560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9ed1f"/>
                </a:solidFill>
                <a:uFillTx/>
                <a:latin typeface="Times New Roman"/>
              </a:rPr>
              <a:t>Инфицированной</a:t>
            </a:r>
            <a:r>
              <a:rPr b="1" lang="ru-RU" sz="2400" spc="-1" strike="noStrike" u="sng">
                <a:solidFill>
                  <a:srgbClr val="29ed1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зараженной)  программой называется программа, внутри которой находится виру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Вирус под микроскопо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07000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Терми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9ed1f"/>
                </a:solidFill>
                <a:latin typeface="Times New Roman"/>
              </a:rPr>
              <a:t>«компьютерный вирус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заимствован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 биологии потому, что многие особенности поведения компьютерного вируса сходны с поведением обычны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о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 инфицированная программ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начинает работу, то сначала управление получае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вирус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5013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79268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ирус заражает другие программы, 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же выполняет запланированные действия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Текст 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23184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ed1f"/>
                </a:solidFill>
                <a:latin typeface="Arial"/>
              </a:rPr>
              <a:t>Рост компьютерных виру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806436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" descr="&amp;Kcy;&amp;acy;&amp;rcy;&amp;tcy;&amp;icy;&amp;ncy;&amp;kcy;&amp;acy; 63 &amp;icy;&amp;zcy; 2803"/>
          <p:cNvPicPr/>
          <p:nvPr/>
        </p:nvPicPr>
        <p:blipFill>
          <a:blip r:embed="rId3"/>
          <a:stretch/>
        </p:blipFill>
        <p:spPr>
          <a:xfrm>
            <a:off x="1042920" y="1773360"/>
            <a:ext cx="7056360" cy="40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ed1f"/>
                </a:solidFill>
                <a:latin typeface="Calibri"/>
              </a:rPr>
              <a:t>Классификация вирус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591560" y="2174760"/>
            <a:ext cx="729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русы условно классифицируются по следующи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знакам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По среде обитания вирус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По способу заражения среды обита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 деструктивным возможност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9360" y="293760"/>
            <a:ext cx="5027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реда  обита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680" y="981000"/>
          <a:ext cx="8321400" cy="2316240"/>
        </p:xfrm>
        <a:graphic>
          <a:graphicData uri="http://schemas.openxmlformats.org/drawingml/2006/table">
            <a:tbl>
              <a:tblPr/>
              <a:tblGrid>
                <a:gridCol w="2300040"/>
                <a:gridCol w="602136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те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 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ов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 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грузоч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загрузочный  сектор диска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BOOT- </a:t>
                      </a: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187280" y="3567240"/>
            <a:ext cx="6551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особы зараж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4365720"/>
          <a:ext cx="8136000" cy="1971720"/>
        </p:xfrm>
        <a:graphic>
          <a:graphicData uri="http://schemas.openxmlformats.org/drawingml/2006/table">
            <a:tbl>
              <a:tblPr/>
              <a:tblGrid>
                <a:gridCol w="3095640"/>
                <a:gridCol w="504036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ространяются по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пьютерной сет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резидентн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дряются в выполняемы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йл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Деструктивные возможнос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12840" y="907920"/>
          <a:ext cx="8507160" cy="4805640"/>
        </p:xfrm>
        <a:graphic>
          <a:graphicData uri="http://schemas.openxmlformats.org/drawingml/2006/table">
            <a:tbl>
              <a:tblPr/>
              <a:tblGrid>
                <a:gridCol w="2590560"/>
                <a:gridCol w="5916600"/>
              </a:tblGrid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ред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ктически не влияют на работу;  уменьшают свободную память на диске в результате своего распростран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меньшает свободную память, создают звуковые, графические и прочие эффек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серьезным сбоям в работ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чень опа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гут привести к потери программ или системных данны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908000" y="602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Вирусные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Текст 2" descr=""/>
          <p:cNvPicPr/>
          <p:nvPr/>
        </p:nvPicPr>
        <p:blipFill>
          <a:blip r:embed="rId2"/>
          <a:stretch/>
        </p:blipFill>
        <p:spPr>
          <a:xfrm rot="19702200">
            <a:off x="395280" y="259920"/>
            <a:ext cx="1609560" cy="180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ыводят на экран мешающие текстовые сообщения (поздравления, политические лозунги, фразы с претензией на юмор, нецензурные выражения, рекламу и т.д.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звуковые эффект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здают  видеоэффекты (переворачивают или сдвигают экран, имитируют землетрясение, вызывают опадание букв в тексте, имитируют скачущий шарик , выводят на экран рисунки  и картинки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Замедляют работу  ЭВМ, постепенно уменьшают объем свободной оперативной памят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величивают износ оборудования (например, головок  дисководов.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Текст 2" descr=""/>
          <p:cNvPicPr/>
          <p:nvPr/>
        </p:nvPicPr>
        <p:blipFill>
          <a:blip r:embed="rId8"/>
          <a:stretch/>
        </p:blipFill>
        <p:spPr>
          <a:xfrm>
            <a:off x="7308720" y="18900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русные  забав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255960" y="2133720"/>
            <a:ext cx="8344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зывают отказ отдельных устройств, зависание ил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регрузку компьютера и крах работы всей ЭВМ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аблицу, форматируют жесткий диск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ничтожают или искажают дан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ществляют  научный, технический, промышленный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 финансовый шпионаж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ят из строя системы защиты информации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ют злоумышленникам тайный доступ к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числительной машин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лают незаконные отчисления с каждой финансово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ер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24000" y="0"/>
            <a:ext cx="8557920" cy="2297160"/>
            <a:chOff x="324000" y="0"/>
            <a:chExt cx="8557920" cy="2297160"/>
          </a:xfrm>
        </p:grpSpPr>
        <p:pic>
          <p:nvPicPr>
            <p:cNvPr id="70" name="Текст 2" descr=""/>
            <p:cNvPicPr/>
            <p:nvPr/>
          </p:nvPicPr>
          <p:blipFill>
            <a:blip r:embed="rId7"/>
            <a:stretch/>
          </p:blipFill>
          <p:spPr>
            <a:xfrm>
              <a:off x="324000" y="476280"/>
              <a:ext cx="157320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Текст 2" descr=""/>
            <p:cNvPicPr/>
            <p:nvPr/>
          </p:nvPicPr>
          <p:blipFill>
            <a:blip r:embed="rId8"/>
            <a:stretch/>
          </p:blipFill>
          <p:spPr>
            <a:xfrm>
              <a:off x="7308720" y="0"/>
              <a:ext cx="1573200" cy="182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7524720" y="630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мен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09T08:17:57Z</dcterms:modified>
  <cp:revision>27</cp:revision>
  <dc:subject/>
  <dc:title>Презентация PowerPoint</dc:title>
</cp:coreProperties>
</file>