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334A-E8C2-42CF-8A23-59EE26804D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граммные, информационные и аппаратные ресурсы: общие программы, базы данных, принтеры, диски, мод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357-CEF2-4D58-A73B-1CAE2AC9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F1D-ED52-4E88-81A1-CDDEB377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A51-DC31-42A8-BC8B-1034E7FA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575-F484-4AD5-9BB1-6B172144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710-E5AD-452C-AA29-21F992BC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5B3-8398-4680-9358-EBAF1568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F5C-35EF-4F72-8315-B36B3E0D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8F2-8957-4782-AFC8-462405DB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6A3-5BD0-4FE8-B829-F12BF1FF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A83-7ADB-42C2-B214-056D726D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7D5B-BDA4-461F-B4E4-E1CA8C1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254-294E-4D7A-B000-495FAA91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2A19-1435-4B84-9EFB-045304CE47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47B-9380-4BD2-9C28-210923606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ередача информаци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Локальные компьютер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0920" y="3068640"/>
            <a:ext cx="48974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«Общая шин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47920" y="2438280"/>
            <a:ext cx="6191280" cy="780840"/>
            <a:chOff x="1447920" y="2438280"/>
            <a:chExt cx="6191280" cy="780840"/>
          </a:xfrm>
        </p:grpSpPr>
        <p:sp>
          <p:nvSpPr>
            <p:cNvPr id="76" name=""/>
            <p:cNvSpPr/>
            <p:nvPr/>
          </p:nvSpPr>
          <p:spPr>
            <a:xfrm>
              <a:off x="1849680" y="304776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479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28195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41911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>
              <a:off x="55627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6"/>
            <a:stretch/>
          </p:blipFill>
          <p:spPr>
            <a:xfrm>
              <a:off x="6858360" y="243828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4000" y="371628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Общая шин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— все компьютеры параллельно подключаются к одной линии связи. Информация от каждого компьютера одновременно передается всем остальным компьютера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rcRect l="0" t="8176" r="0" b="0"/>
          <a:stretch/>
        </p:blipFill>
        <p:spPr>
          <a:xfrm>
            <a:off x="6443640" y="549360"/>
            <a:ext cx="2413080" cy="16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«Звезд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62320" y="2696760"/>
            <a:ext cx="0" cy="1484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76160" y="3828960"/>
            <a:ext cx="1322640" cy="425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36760" y="4254480"/>
            <a:ext cx="726840" cy="1627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493720" y="4254480"/>
            <a:ext cx="662040" cy="1697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692440" y="3900240"/>
            <a:ext cx="1322280" cy="353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347920" y="3682800"/>
            <a:ext cx="1800360" cy="54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317680" y="2439720"/>
            <a:ext cx="36720" cy="18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28480" y="3659040"/>
            <a:ext cx="1811520" cy="5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325908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79480" y="5280120"/>
            <a:ext cx="717480" cy="76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117960" y="535608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998720" y="206064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817800" y="3333600"/>
            <a:ext cx="717840" cy="766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2692440" y="3687480"/>
            <a:ext cx="1322280" cy="42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2133720"/>
            <a:ext cx="45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Звезд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— все компьютеры, используя отдельную линию связи, соединяются с центральным узлом - сервер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763640" y="3573360"/>
            <a:ext cx="114624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«Кольцо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64000" y="2349360"/>
            <a:ext cx="3543480" cy="3143160"/>
            <a:chOff x="5364000" y="2349360"/>
            <a:chExt cx="3543480" cy="3143160"/>
          </a:xfrm>
        </p:grpSpPr>
        <p:sp>
          <p:nvSpPr>
            <p:cNvPr id="103" name=""/>
            <p:cNvSpPr/>
            <p:nvPr/>
          </p:nvSpPr>
          <p:spPr>
            <a:xfrm flipV="1">
              <a:off x="5703840" y="2574720"/>
              <a:ext cx="1368360" cy="8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72200" y="2574720"/>
              <a:ext cx="1441440" cy="8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3840" y="3511440"/>
              <a:ext cx="360360" cy="1368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80200" y="5311800"/>
              <a:ext cx="1584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008920" y="3367080"/>
              <a:ext cx="503280" cy="151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754680" y="234936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5364000" y="318744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8126280" y="318744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7669080" y="463536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764320" y="471168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79280" y="1844640"/>
            <a:ext cx="46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льц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— компьютеры последовательно объединены в кольцо. Передача информации в кольце всегда производится только в одном направлении. Каждый из компьютеров работает как повторите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Сетевой адапт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4114800"/>
            <a:ext cx="86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тевая карта воспринимает команды и данные от сетевой операционной системы и передает их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Линии связ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2058480" y="1055520"/>
            <a:ext cx="50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абельные линии связ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701720" y="3494160"/>
            <a:ext cx="57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еспроводные линии связ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616572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диорелей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718160" y="61657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утник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92360" y="4005360"/>
            <a:ext cx="5257800" cy="2160000"/>
            <a:chOff x="1692360" y="4005360"/>
            <a:chExt cx="5257800" cy="216000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1692360" y="4005360"/>
              <a:ext cx="5257800" cy="20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1908360" y="5013000"/>
              <a:ext cx="5428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3348000" y="5013000"/>
              <a:ext cx="5428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2700360" y="4365360"/>
              <a:ext cx="542880" cy="115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итая па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619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итая пара представляет собой два изолированных медных проводника, скрученных один относительно другого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кручивание проводов снижает влияние внешних электромагнитных помех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Кабель на основе витых пар довольно гибкий,  удобный для прокладки и дешевый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032360" cy="217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оаксиальный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аб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оаксиальный кабель — кабель, состоящий из медного провода и металлической оплетки (экрана), разделенных между собой слоем внутренней изоляции и помещенных в общую внешнюю оболоч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абель имеет более высокую помехозащищенность, большие допустимые расстояния передач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Монтаж коаксиального кабеля существенно сложнее, а стоимость его выш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 настоящее время считается, что коаксиальный кабель устарел, в большинстве случаев его вполне может заменить витая пара или оптоволоконный кабе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592360" cy="132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Оптоволоконный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абель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51280" y="1484280"/>
            <a:ext cx="477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олоконно-оптический кабель — это прозрачное стекловолокно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Информация по оптоволокну передается с помощью светового сигнал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Оптоволоконный кабель обладает исключительной помехозащищенностью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амый большой недостаток кабеля — высокая сложность монтаж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320920" cy="115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3960720" cy="33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7049880" cy="4654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5616720" cy="34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Бескабельные каналы связи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Бескабельные каналы используются там, где прокладка кабелей затруднена или невозможна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Для передачи информации используется радиоканал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Передача информации осуществляется с помощью  радиоволн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Виды радиосвязи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Радиорелейная связь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Спутниковая связь;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Сотовая связ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2276640"/>
            <a:ext cx="1800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правитель информации (источник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2492280"/>
            <a:ext cx="3529080" cy="792360"/>
          </a:xfrm>
          <a:prstGeom prst="leftRightArrow">
            <a:avLst>
              <a:gd name="adj1" fmla="val 50000"/>
              <a:gd name="adj2" fmla="val 88665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03640" y="2781360"/>
            <a:ext cx="2619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нал обмена информацие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2349360"/>
            <a:ext cx="2160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учатель информации (приёмник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836640"/>
            <a:ext cx="796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схема передачи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5840" y="4383000"/>
            <a:ext cx="614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пускная способность канала равна количеству информации, которое может передаваться по нему в единицу времен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инцип работ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Текст 2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119640" cy="38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лассификаци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утниковые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нал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                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диокана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i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500720" cy="27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рименение беспроводных каналов связ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путниковая связ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левидение, телефония, компьютерные сети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диоканалы (радиоуправление, рация, радио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 – Fi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компьютерные сети, телефония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ed1f"/>
                </a:solidFill>
                <a:latin typeface="Calibri"/>
              </a:rPr>
              <a:t>Задания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. Представим себе одинокий остров, где размещена метеорологическая или геофизическая станция. Каким каналом связи вы воспользуетесь чтобы передавать данные с этого острова на материк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. Вы владелец крупной кампании. Часто находитесь в командировках в разных частях света.  Вам нужна трансляция биржевых новостей или курса акций в реальном масштабе времени. Каким каналом связи вы воспользуетесь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. Вы директор завода который входит в огромную корпорацию с центром в г.Москве , вам нужна постоянная связь для передачи показателей производительности вашего завода в эту корпорацию. Каким каналом связи вы воспользуетесь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 Максимальная скорость передачи данных по модемному протоколу V.92 составляет 56000 бит/c. Какое максимальное количество байт можно передать за 5 секунд по этому протоколу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Файл размером 8 Кбайт передаётся через некоторое соединение со скоростью 4096 бит в секунду. Определите размер файла (в байтах), который можно передать за то же время через другое соединение со скоростью 256 бит в секунду. В ответе укажите одно число — размер файла в байта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Единицы измерения пропускной способности каналов передач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1628640"/>
            <a:ext cx="37432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1024 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1024 К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1024 М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Компьютерная се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628640"/>
            <a:ext cx="842508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мпьютерная сет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— это система обмена информацией между компьютер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значение компьютерных сетей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стное использование программных, информационных и аппаратных ресурс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окальная се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Локальная сеть объединяет компьютеры, установленные на сравнительно небольшом удалении друг от друга (в одном здании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Классификация сетей по способу управл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665080"/>
            <a:ext cx="8066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 способу управления различаю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ти с выделенным серверо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дноранговые се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дноранговые се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се компьютеры равноправн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ed1f"/>
                </a:solidFill>
                <a:latin typeface="Calibri"/>
              </a:rPr>
              <a:t>Недостаток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– слабая защищенность информации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" descr="&amp;Kcy;&amp;acy;&amp;rcy;&amp;tcy;&amp;icy;&amp;ncy;&amp;kcy;&amp;acy; 2 &amp;icy;&amp;zcy; 29516"/>
          <p:cNvPicPr/>
          <p:nvPr/>
        </p:nvPicPr>
        <p:blipFill>
          <a:blip r:embed="rId2"/>
          <a:stretch/>
        </p:blipFill>
        <p:spPr>
          <a:xfrm>
            <a:off x="4643280" y="1628640"/>
            <a:ext cx="40482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Сети с выделенным серверо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ервер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– компьютер, предоставляющий свои ресурсы (файлы, программы, внешние устройства) в общее использовани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айловый серве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ервер печа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чтовый серве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иент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– компьютер, пользующийся услугами сервер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" descr="&amp;Kcy;&amp;acy;&amp;rcy;&amp;tcy;&amp;icy;&amp;ncy;&amp;kcy;&amp;acy; 2 &amp;icy;&amp;zcy; 82166"/>
          <p:cNvPicPr/>
          <p:nvPr/>
        </p:nvPicPr>
        <p:blipFill>
          <a:blip r:embed="rId2"/>
          <a:stretch/>
        </p:blipFill>
        <p:spPr>
          <a:xfrm>
            <a:off x="3924360" y="2133720"/>
            <a:ext cx="521964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7800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сет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Тополог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— способ соединения компьютеров в се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 топологии связей различаю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Общая шина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Звезда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Кольцо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 выборе топологии необходимо учитывать стоимость и надежность работы се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13T07:00:30Z</dcterms:modified>
  <cp:revision>28</cp:revision>
  <dc:subject/>
  <dc:title>Презентация PowerPoint</dc:title>
</cp:coreProperties>
</file>