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9.png" ContentType="image/png"/>
  <Override PartName="/ppt/media/image11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97CE-5594-44D5-9E67-352EDD19F4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граммные, информационные и аппаратные ресурсы: общие программы, базы данных, принтеры, диски, моде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D2A0-A84F-4D8F-A420-A63F1D74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0754-5C4B-47F1-A851-8BF738DD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1E8F-E0A9-467C-8881-6B6773E8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4C04-7753-4EB4-A7B8-23EA9C665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4649-2BD2-4277-A10C-6A39404C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57D8-8AC4-4AD7-B18A-41C7B642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8C68-235D-42F1-98DC-D230E2A5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9645-5A06-4FF1-95B7-10150F4B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FF6F-0F1E-45FD-B444-CB0B2DC0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E719-12C7-4969-B9F3-F040F684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214C-CE02-420C-88A5-22CCDC08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02BE-F8FF-46A1-A9A4-EC059303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BABB-BDEE-40A1-BDDA-A2DB44CA19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E380-8127-4DED-A1B8-28203AB61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Передача информаци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Локальные компьютерные сет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050920" y="3068640"/>
            <a:ext cx="48974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Топология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«Общая шина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447920" y="2438280"/>
            <a:ext cx="6191280" cy="780840"/>
            <a:chOff x="1447920" y="2438280"/>
            <a:chExt cx="6191280" cy="780840"/>
          </a:xfrm>
        </p:grpSpPr>
        <p:sp>
          <p:nvSpPr>
            <p:cNvPr id="76" name=""/>
            <p:cNvSpPr/>
            <p:nvPr/>
          </p:nvSpPr>
          <p:spPr>
            <a:xfrm>
              <a:off x="1849680" y="3047760"/>
              <a:ext cx="5408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1447920" y="243828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3"/>
            <a:stretch/>
          </p:blipFill>
          <p:spPr>
            <a:xfrm>
              <a:off x="2819520" y="243828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4"/>
            <a:stretch/>
          </p:blipFill>
          <p:spPr>
            <a:xfrm>
              <a:off x="4191120" y="243828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5"/>
            <a:stretch/>
          </p:blipFill>
          <p:spPr>
            <a:xfrm>
              <a:off x="5562720" y="243828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6"/>
            <a:stretch/>
          </p:blipFill>
          <p:spPr>
            <a:xfrm>
              <a:off x="6858360" y="2438280"/>
              <a:ext cx="780840" cy="78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324000" y="3716280"/>
            <a:ext cx="856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Общая шина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— все компьютеры параллельно подключаются к одной линии связи. Информация от каждого компьютера одновременно передается всем остальным компьютера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7"/>
          <a:srcRect l="0" t="8176" r="0" b="0"/>
          <a:stretch/>
        </p:blipFill>
        <p:spPr>
          <a:xfrm>
            <a:off x="6443640" y="549360"/>
            <a:ext cx="2413080" cy="162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Топология «Звезда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362320" y="2696760"/>
            <a:ext cx="0" cy="14842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776160" y="3828960"/>
            <a:ext cx="1322640" cy="4255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36760" y="4254480"/>
            <a:ext cx="726840" cy="16272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2493720" y="4254480"/>
            <a:ext cx="662040" cy="16970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692440" y="3900240"/>
            <a:ext cx="1322280" cy="3538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347920" y="3682800"/>
            <a:ext cx="1800360" cy="54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317680" y="2439720"/>
            <a:ext cx="36720" cy="18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528480" y="3659040"/>
            <a:ext cx="1811520" cy="57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3259080"/>
            <a:ext cx="717480" cy="766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879480" y="5280120"/>
            <a:ext cx="717480" cy="768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117960" y="5356080"/>
            <a:ext cx="717480" cy="766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998720" y="2060640"/>
            <a:ext cx="717480" cy="766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3817800" y="3333600"/>
            <a:ext cx="717840" cy="766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V="1">
            <a:off x="2692440" y="3687480"/>
            <a:ext cx="1322280" cy="42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4643280" y="2133720"/>
            <a:ext cx="450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Звезда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— все компьютеры, используя отдельную линию связи, соединяются с центральным узлом - сервером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1763640" y="3573360"/>
            <a:ext cx="1146240" cy="122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Топология «Кольцо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364000" y="2349360"/>
            <a:ext cx="3543480" cy="3143160"/>
            <a:chOff x="5364000" y="2349360"/>
            <a:chExt cx="3543480" cy="3143160"/>
          </a:xfrm>
        </p:grpSpPr>
        <p:sp>
          <p:nvSpPr>
            <p:cNvPr id="103" name=""/>
            <p:cNvSpPr/>
            <p:nvPr/>
          </p:nvSpPr>
          <p:spPr>
            <a:xfrm flipV="1">
              <a:off x="5703840" y="2574720"/>
              <a:ext cx="1368360" cy="865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072200" y="2574720"/>
              <a:ext cx="1441440" cy="865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03840" y="3511440"/>
              <a:ext cx="360360" cy="13683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80200" y="5311800"/>
              <a:ext cx="15843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008920" y="3367080"/>
              <a:ext cx="503280" cy="1512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6754680" y="234936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5364000" y="318744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4"/>
            <a:stretch/>
          </p:blipFill>
          <p:spPr>
            <a:xfrm>
              <a:off x="8126280" y="318744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5"/>
            <a:stretch/>
          </p:blipFill>
          <p:spPr>
            <a:xfrm>
              <a:off x="7669080" y="463536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6"/>
            <a:stretch/>
          </p:blipFill>
          <p:spPr>
            <a:xfrm>
              <a:off x="5764320" y="4711680"/>
              <a:ext cx="780840" cy="78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"/>
          <p:cNvSpPr/>
          <p:nvPr/>
        </p:nvSpPr>
        <p:spPr>
          <a:xfrm>
            <a:off x="179280" y="1844640"/>
            <a:ext cx="4643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Кольцо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— компьютеры последовательно объединены в кольцо. Передача информации в кольце всегда производится только в одном направлении. Каждый из компьютеров работает как повторитель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Сетевой адапт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835280" y="743040"/>
            <a:ext cx="4857480" cy="3448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5280" y="4114800"/>
            <a:ext cx="86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етевая карта воспринимает команды и данные от сетевой операционной системы и передает их в сеть через подключенный к карте кабель. Каждая карта имеет уникальный номер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4730040" y="348624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mpex RE100TX PCI 10/10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Линии связ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2058480" y="1055520"/>
            <a:ext cx="502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Кабельные линии связ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1701720" y="3494160"/>
            <a:ext cx="574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еспроводные линии связ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7772400" cy="1028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54200" y="304812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итая па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3623760" y="3048120"/>
            <a:ext cx="14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аксиал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6086880" y="304812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птоволокн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1692360" y="6165720"/>
            <a:ext cx="21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адиорелей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4718160" y="616572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путников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692360" y="4005360"/>
            <a:ext cx="5257800" cy="2160000"/>
            <a:chOff x="1692360" y="4005360"/>
            <a:chExt cx="5257800" cy="2160000"/>
          </a:xfrm>
        </p:grpSpPr>
        <p:pic>
          <p:nvPicPr>
            <p:cNvPr id="128" name="" descr=""/>
            <p:cNvPicPr/>
            <p:nvPr/>
          </p:nvPicPr>
          <p:blipFill>
            <a:blip r:embed="rId3"/>
            <a:stretch/>
          </p:blipFill>
          <p:spPr>
            <a:xfrm>
              <a:off x="1692360" y="4005360"/>
              <a:ext cx="5257800" cy="20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4"/>
            <a:stretch/>
          </p:blipFill>
          <p:spPr>
            <a:xfrm>
              <a:off x="1908360" y="5013000"/>
              <a:ext cx="54288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5"/>
            <a:stretch/>
          </p:blipFill>
          <p:spPr>
            <a:xfrm>
              <a:off x="3348000" y="5013000"/>
              <a:ext cx="54288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6"/>
            <a:stretch/>
          </p:blipFill>
          <p:spPr>
            <a:xfrm>
              <a:off x="2700360" y="4365360"/>
              <a:ext cx="542880" cy="115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Витая пар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284720" y="1196640"/>
            <a:ext cx="4619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Витая пара представляет собой два изолированных медных проводника, скрученных один относительно другого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Скручивание проводов снижает влияние внешних электромагнитных помех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Кабель на основе витых пар довольно гибкий,  удобный для прокладки и дешевый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4032360" cy="217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59280" y="27432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оаксиальный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абел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Коаксиальный кабель — кабель, состоящий из медного провода и металлической оплетки (экрана), разделенных между собой слоем внутренней изоляции и помещенных в общую внешнюю оболочку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Кабель имеет более высокую помехозащищенность, большие допустимые расстояния передач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Монтаж коаксиального кабеля существенно сложнее, а стоимость его выш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В настоящее время считается, что коаксиальный кабель устарел, в большинстве случаев его вполне может заменить витая пара или оптоволоконный кабель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2592360" cy="132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Оптоволоконный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кабель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51280" y="1484280"/>
            <a:ext cx="4772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Волоконно-оптический кабель — это прозрачное стекловолокно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Информация по оптоволокну передается с помощью светового сигнала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Оптоволоконный кабель обладает исключительной помехозащищенностью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Самый большой недостаток кабеля — высокая сложность монтажа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2320920" cy="1152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3213000"/>
            <a:ext cx="3960720" cy="334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35280" y="1989000"/>
            <a:ext cx="7049880" cy="4654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39640" y="549360"/>
            <a:ext cx="5616720" cy="346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Бескабельные каналы связи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42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Бескабельные каналы используются там, где прокладка кабелей затруднена или невозможна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Для передачи информации используется радиоканал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Передача информации осуществляется с помощью  радиоволн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Виды радиосвязи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Радиорелейная связь;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Спутниковая связь;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Сотовая связь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2276640"/>
            <a:ext cx="180036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тправитель информации (источник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2771640" y="2492280"/>
            <a:ext cx="3529080" cy="792360"/>
          </a:xfrm>
          <a:prstGeom prst="leftRightArrow">
            <a:avLst>
              <a:gd name="adj1" fmla="val 50000"/>
              <a:gd name="adj2" fmla="val 88665"/>
            </a:avLst>
          </a:prstGeom>
          <a:solidFill>
            <a:srgbClr val="29e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03640" y="2781360"/>
            <a:ext cx="26193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нал обмена информацией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43640" y="2349360"/>
            <a:ext cx="216072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лучатель информации (приёмник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640" y="836640"/>
            <a:ext cx="7962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щая схема передачи информ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55840" y="4383000"/>
            <a:ext cx="6140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пускная способность канала равна количеству информации, которое может передаваться по нему в единицу времен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Принцип работ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8" name="Текст 2" descr=""/>
          <p:cNvPicPr/>
          <p:nvPr/>
        </p:nvPicPr>
        <p:blipFill>
          <a:blip r:embed="rId2"/>
          <a:stretch/>
        </p:blipFill>
        <p:spPr>
          <a:xfrm>
            <a:off x="1258920" y="1989000"/>
            <a:ext cx="6119640" cy="386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Классификации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путниковые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канал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                                    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Радиокана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i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643280" y="3500280"/>
            <a:ext cx="4500720" cy="27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Применение беспроводных каналов связ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путниковая связь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телевидение, телефония, компьютерные сети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диоканалы (радиоуправление, рация, радио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 – Fi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(компьютерные сети, телефония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7692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ed1f"/>
                </a:solidFill>
                <a:latin typeface="Calibri"/>
              </a:rPr>
              <a:t>Задания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. Представим себе одинокий остров, где размещена метеорологическая или геофизическая станция. Каким каналом связи вы воспользуетесь чтобы передавать данные с этого острова на материк?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. Вы владелец крупной кампании. Часто находитесь в командировках в разных частях света.  Вам нужна трансляция биржевых новостей или курса акций в реальном масштабе времени. Каким каналом связи вы воспользуетесь?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. Вы директор завода который входит в огромную корпорацию с центром в г.Москве , вам нужна постоянная связь для передачи показателей производительности вашего завода в эту корпорацию. Каким каналом связи вы воспользуетесь?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 Максимальная скорость передачи данных по модемному протоколу V.92 составляет 56000 бит/c. Какое максимальное количество байт можно передать за 5 секунд по этому протоколу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 Файл размером 8 Кбайт передаётся через некоторое соединение со скоростью 4096 бит в секунду. Определите размер файла (в байтах), который можно передать за то же время через другое соединение со скоростью 256 бит в секунду. В ответе укажите одно число — размер файла в байтах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Единицы измерения пропускной способности каналов передачи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   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Бит/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бит/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Мбит/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Гбит/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2484360" y="1628640"/>
            <a:ext cx="374328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= 1024 бит/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=1024 Кбит/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=1024 Мбит/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Компьютерная сет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628640"/>
            <a:ext cx="842508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омпьютерная сеть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— это система обмена информацией между компьютерам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Назначение компьютерных сетей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местное использование программных, информационных и аппаратных ресурсов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Локальная сет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6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Локальная сеть объединяет компьютеры, установленные на сравнительно небольшом удалении друг от друга (в одном здании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067280" y="1557360"/>
            <a:ext cx="4500360" cy="337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Классификация сетей по способу управлен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2665080"/>
            <a:ext cx="806616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о способу управления различают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ети с выделенным сервером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дноранговые сет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дноранговые сет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все компьютеры равноправны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ed1f"/>
                </a:solidFill>
                <a:latin typeface="Calibri"/>
              </a:rPr>
              <a:t>Недостаток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– слабая защищенность информации от несанкционированного доступ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" descr="&amp;Kcy;&amp;acy;&amp;rcy;&amp;tcy;&amp;icy;&amp;ncy;&amp;kcy;&amp;acy; 2 &amp;icy;&amp;zcy; 29516"/>
          <p:cNvPicPr/>
          <p:nvPr/>
        </p:nvPicPr>
        <p:blipFill>
          <a:blip r:embed="rId2"/>
          <a:stretch/>
        </p:blipFill>
        <p:spPr>
          <a:xfrm>
            <a:off x="4643280" y="1628640"/>
            <a:ext cx="40482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Сети с выделенным сервером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ервер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– компьютер, предоставляющий свои ресурсы (файлы, программы, внешние устройства) в общее использование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файловый сервер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ервер печат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чтовый сервер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лиент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– компьютер, пользующийся услугами сервер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" descr="&amp;Kcy;&amp;acy;&amp;rcy;&amp;tcy;&amp;icy;&amp;ncy;&amp;kcy;&amp;acy; 2 &amp;icy;&amp;zcy; 82166"/>
          <p:cNvPicPr/>
          <p:nvPr/>
        </p:nvPicPr>
        <p:blipFill>
          <a:blip r:embed="rId2"/>
          <a:stretch/>
        </p:blipFill>
        <p:spPr>
          <a:xfrm>
            <a:off x="3924360" y="2133720"/>
            <a:ext cx="5219640" cy="34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7800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Топология сет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36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Топология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— способ соединения компьютеров в сеть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о топологии связей различают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ети с топологией «Общая шина»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ети с топологией «Звезда»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ети с топологией «Кольцо»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ри выборе топологии необходимо учитывать стоимость и надежность работы сет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0:55:06Z</dcterms:created>
  <dc:creator>Марат-Вера</dc:creator>
  <dc:description/>
  <dc:language>en-US</dc:language>
  <cp:lastModifiedBy>Доронин</cp:lastModifiedBy>
  <dcterms:modified xsi:type="dcterms:W3CDTF">2012-07-13T07:00:30Z</dcterms:modified>
  <cp:revision>28</cp:revision>
  <dc:subject/>
  <dc:title>Презентация PowerPoint</dc:title>
</cp:coreProperties>
</file>