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DFF-8F84-4F31-972B-DF3AFBFA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581-4734-43A7-9CD2-19E9B91C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C9F-7A48-47EC-B769-6D0750C3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95B-1E03-4396-9D37-2DA4FBDC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310-B030-4946-9785-F310C4DE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4DD-39D0-4CBE-A1C7-EF7254DF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BD5-1E22-4E90-B897-99105526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768-E2A3-4DA3-A97E-3D1BFF72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A76-D4B4-4DA9-836E-89EBB6E7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1A9-8D2E-45D4-B051-F91FB5DE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11B-81DE-45AF-A944-FC4019BB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716-C031-4C2B-B113-9050F6CF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E1B1-7BE3-45D3-B788-78FCACD3B7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C3C-DDFB-487A-B11D-5A98006AB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ршрутизация и транспортировка данных по компьютерным сетя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ршрутизация данных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шрутизация данных обеспечивает передачу информации между компьютерами сети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аваемая по сети информация «упаковывается в конверт», на котором «пишутся» Интернет-адреса компьютеров получателя и отправителя, например «Кому: 198.78.213.185», «От кого: 193.124.5.33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имое конверта на компьютерном языке называется Интернет-пакетом и представляет собой набор байтов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ршрутизация данных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" descr="&amp;Kcy;&amp;acy;&amp;rcy;&amp;tcy;&amp;icy;&amp;ncy;&amp;kcy;&amp;acy; 7 &amp;icy;&amp;zcy; 31117"/>
          <p:cNvPicPr/>
          <p:nvPr/>
        </p:nvPicPr>
        <p:blipFill>
          <a:blip r:embed="rId2"/>
          <a:stretch/>
        </p:blipFill>
        <p:spPr>
          <a:xfrm>
            <a:off x="468360" y="1628640"/>
            <a:ext cx="8424720" cy="43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аршрут прохождения информац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" descr="&amp;Kcy;&amp;acy;&amp;rcy;&amp;tcy;&amp;icy;&amp;ncy;&amp;kcy;&amp;acy; 2 &amp;icy;&amp;zcy; 58564"/>
          <p:cNvPicPr/>
          <p:nvPr/>
        </p:nvPicPr>
        <p:blipFill>
          <a:blip r:embed="rId2"/>
          <a:stretch/>
        </p:blipFill>
        <p:spPr>
          <a:xfrm>
            <a:off x="1403280" y="1220760"/>
            <a:ext cx="6624720" cy="563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ранспортировка данных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портировка данн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производится путем разбиения файлов на Интернет-пакеты на компьютере-отправителе, индивидуальной маршрутизации каждого пакета и сборки файлов из пакетов в первоначальном порядке на компьютере-получателе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токол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шрутизация и транспортировка данных в Интернете производится на основе протокола TCP/IP, который является основным «законом» Интернета. Термин TCP/IP включает название двух протоколов передачи данных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 TCP (Transmission Contorol Protocol - транспортный протокол)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 IP (Internet Protocol - протокол маршрутизации)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3T07:13:57Z</dcterms:modified>
  <cp:revision>26</cp:revision>
  <dc:subject/>
  <dc:title>Презентация PowerPoint</dc:title>
</cp:coreProperties>
</file>