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0F0-7ED2-4E6D-90DB-DA675D40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912-6AAB-4139-A99C-726B4945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350-4989-4EAE-B28D-9E66D280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C91-C940-401A-B61F-C7E27B96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9E2-EF6E-4415-9C13-85D8D42A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FA9-374C-4833-98EE-42B0F8AD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591-5B14-4A7D-A597-21AA0218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F26-5B7C-4641-9120-A06A059C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D92-063A-4FA4-9D86-F8D7EBFF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CE5-F382-4B93-ACF0-3FE3B515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EF9-2938-40BB-8E35-0AAE5714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A35-1569-42FB-A31B-DD4A302D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D93F-984F-4144-B6FE-30DCBB4BC0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8B90-D028-4BA9-95B2-0935840F7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Всемирная паутина» -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W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пособ доступа к документу определяется используемым протоколом передачи информации. Для доступа к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-страницам используется протокол передачи гипертекста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Hyper Text Transfer Protocol)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88000" y="5014800"/>
            <a:ext cx="1641600" cy="121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17324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пример, для начальной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страницы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net Explorer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универсальный указатель ресурсов примет вид </a:t>
            </a: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http://home.microsoft.com/intl/r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состоит из трех частей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протокол доступ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me.microsoft.com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имя сервер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/intl/r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путь к файл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еб-серв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еб-сервер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сервер в сети Интернет, предоставляющий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остинг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выделение дискового пространства на сервере для размещения веб-сайтов и предоставление возможности их просмот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екст 2" descr=""/>
          <p:cNvPicPr/>
          <p:nvPr/>
        </p:nvPicPr>
        <p:blipFill>
          <a:blip r:embed="rId2"/>
          <a:srcRect l="0" t="0" r="1962" b="11159"/>
          <a:stretch/>
        </p:blipFill>
        <p:spPr>
          <a:xfrm>
            <a:off x="0" y="0"/>
            <a:ext cx="9901080" cy="6729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 flipV="1">
            <a:off x="2843280" y="692280"/>
            <a:ext cx="1224000" cy="180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120560" y="229716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RL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дрес рисун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2060640"/>
            <a:ext cx="79246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еб-страницы создаются с помощью языка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html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yper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ex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arkup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anguage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язык разметки гипертекста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окумент, созданный с помощью языка гипертекстовой разметки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HTML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содержит исходный текст документа, включающий специальные управляющие символы —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ег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g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TML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код Веб-страниц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6948720" cy="35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сервер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test.edu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находится файл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demo.ne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доступ к которому осуществляется по протоколу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Фрагменты адреса данного файла закодированы буквами А, Б ... Ж (см. таблицу). Запишите последовательность этих букв, которая кодирует адрес указанного файла в Интернет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659640" y="1628640"/>
          <a:ext cx="1690560" cy="4525920"/>
        </p:xfrm>
        <a:graphic>
          <a:graphicData uri="http://schemas.openxmlformats.org/drawingml/2006/table">
            <a:tbl>
              <a:tblPr/>
              <a:tblGrid>
                <a:gridCol w="698400"/>
                <a:gridCol w="99216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de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:/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htt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ed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 сервер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i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o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edu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находится файл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exam.ne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доступ к которому осуществляется по протоколу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Фрагменты адреса данного файла закодированы буквами а, Ь, с ...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см. таблицу). Запишите последовательность этих букв, которая кодирует адрес указанного файла в Интернет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012000" y="1628640"/>
          <a:ext cx="1995480" cy="3654360"/>
        </p:xfrm>
        <a:graphic>
          <a:graphicData uri="http://schemas.openxmlformats.org/drawingml/2006/table">
            <a:tbl>
              <a:tblPr/>
              <a:tblGrid>
                <a:gridCol w="774720"/>
                <a:gridCol w="122076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inf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n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ed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ht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ex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:/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ступ к файлу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index.html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размещенному на сервере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www.ftp.ru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осуществляется по протоколу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 В таблице приведены фрагменты адреса этого файла, обозначенные буквами от А до 3. Запишите последовательность этих букв, соответствующую адресу данного файл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372360" y="1628640"/>
          <a:ext cx="2147760" cy="4114800"/>
        </p:xfrm>
        <a:graphic>
          <a:graphicData uri="http://schemas.openxmlformats.org/drawingml/2006/table">
            <a:tbl>
              <a:tblPr/>
              <a:tblGrid>
                <a:gridCol w="774720"/>
                <a:gridCol w="13730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ht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www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ft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.г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htt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:/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Всемирная паутина» -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W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4424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WW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orld Wide Web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– технология гипертекст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менно с появлением технологии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WW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началось бурное развитие Интернет на протяжении 90-х год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" descr="&amp;Kcy;&amp;acy;&amp;rcy;&amp;tcy;&amp;icy;&amp;ncy;&amp;kcy;&amp;acy; 4 &amp;icy;&amp;zcy; 214447"/>
          <p:cNvPicPr/>
          <p:nvPr/>
        </p:nvPicPr>
        <p:blipFill>
          <a:blip r:embed="rId2"/>
          <a:stretch/>
        </p:blipFill>
        <p:spPr>
          <a:xfrm>
            <a:off x="5219640" y="2133720"/>
            <a:ext cx="37242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 W 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ld Wide Web —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это сеть взаимосвязанных документ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76360" y="2637000"/>
            <a:ext cx="4248000" cy="3268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27640" y="429264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net, ca, us </a:t>
            </a:r>
            <a:r>
              <a:rPr b="0" lang="ru-RU" sz="2000" spc="-1" strike="noStrike">
                <a:solidFill>
                  <a:srgbClr val="00ff00"/>
                </a:solidFill>
                <a:latin typeface="Tahoma"/>
              </a:rPr>
              <a:t>com, 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mil, gov, edu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jp, cn, tw, au </a:t>
            </a:r>
            <a:r>
              <a:rPr b="0" lang="ru-RU" sz="2000" spc="-1" strike="noStrike">
                <a:solidFill>
                  <a:srgbClr val="ff00ff"/>
                </a:solidFill>
                <a:latin typeface="Tahoma"/>
              </a:rPr>
              <a:t>de, uk, it, pl, fr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br, kr, nl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47640" y="112536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295280"/>
            <a:ext cx="6705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рвера Интернет, реализующи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хнологи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зываются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ерверами, а документы, реализованные по технологи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называются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аницам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Всемирная паутина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это сотни миллионов серверов Интернет, содержащей </a:t>
            </a:r>
            <a:r>
              <a:rPr b="0" lang="en-US" sz="3200" spc="-1" strike="noStrike">
                <a:solidFill>
                  <a:srgbClr val="29ed1f"/>
                </a:solidFill>
                <a:latin typeface="Times New Roman"/>
              </a:rPr>
              <a:t>Web</a:t>
            </a:r>
            <a:r>
              <a:rPr b="0" lang="ru-RU" sz="3200" spc="-1" strike="noStrike">
                <a:solidFill>
                  <a:srgbClr val="29ed1f"/>
                </a:solidFill>
                <a:latin typeface="Times New Roman"/>
              </a:rPr>
              <a:t>-страниц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в которых используется технология гипертекст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533520"/>
            <a:ext cx="7010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траница может содержать информацию, представленную в различных формах: текст, графика, видео, звук, анимацию. Просмотр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страниц осуществляется с помощью специальных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грамм просмотра – браузер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В настоящее время наиболее распространенными браузерами являют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net Explorer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scape Navigato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pera, Mozill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еб-страниц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еб-страниц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самостоятельный документ, содержащий гиперссылки и имеющий расширениее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tm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tm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Гиперссыл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28600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ed1f"/>
                </a:solidFill>
                <a:latin typeface="Calibri"/>
              </a:rPr>
              <a:t>Гиперссыл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фрагмент Веб-документа, устанавливающий связь между объектами и позволяющий выполнить переход к другим объектам Интернета: файлам, веб-страницам или фрагментам файл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 наведении указателя мыши на гиперссылку, указатель превращается в указывающий перст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0" r="7553" b="11768"/>
          <a:stretch/>
        </p:blipFill>
        <p:spPr>
          <a:xfrm>
            <a:off x="0" y="0"/>
            <a:ext cx="9144000" cy="656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 flipH="1" flipV="1">
            <a:off x="5076360" y="4365360"/>
            <a:ext cx="574920" cy="4316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427280" y="4365720"/>
            <a:ext cx="64908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87280" y="4365360"/>
            <a:ext cx="3961080" cy="1150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363640" y="2276640"/>
            <a:ext cx="1295640" cy="1728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905280" y="395280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гиперссыл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йти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b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страницу в Интернет или сделать на нее ссылку можно с помощью универсального указателя ресурсов (адреса страницы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87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ниверсальный указатель ресурсов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RL-Universal Resource Locator)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включает в себя способ доступа к документу, имя сервера, на котором находится документ, а также путь к документу (файлу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14T17:31:13Z</dcterms:modified>
  <cp:revision>26</cp:revision>
  <dc:subject/>
  <dc:title>Презентация PowerPoint</dc:title>
</cp:coreProperties>
</file>