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A6B-2D0F-4FEC-9B3B-2F1C8F16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285-A26B-48AD-84B6-47DFEAB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EEA-C111-4CDA-8273-62825C56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BDA-76F8-49A7-AC1D-45968059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0A2-97F4-446B-8C67-6AD5762C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1CD-490B-402D-B875-10A3209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C9F-4F24-490F-BAC8-BBEF9ED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B71-B1E3-4914-85BE-C1E70CA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4A0-2EE3-4883-9B60-9B2D7B11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312-9CC9-48A6-B504-E76DB3D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D86-1032-4870-BCF3-CEF6BBC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04A-BF99-480F-B10C-D6C3125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7D6B-2B7F-49CE-9FE9-B9CFB0D3E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081-4207-421B-A329-049BCD3FA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ное обеспечение. Графический интерфейс операционных систем и приложени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" descr="&amp;Kcy;&amp;acy;&amp;rcy;&amp;tcy;&amp;icy;&amp;ncy;&amp;kcy;&amp;acy; 8 &amp;icy;&amp;zcy; 5248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кна папок и приложен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&amp;Kcy;&amp;acy;&amp;rcy;&amp;tcy;&amp;icy;&amp;ncy;&amp;kcy;&amp;acy; 1 &amp;icy;&amp;zcy; 5048"/>
          <p:cNvPicPr/>
          <p:nvPr/>
        </p:nvPicPr>
        <p:blipFill>
          <a:blip r:embed="rId2"/>
          <a:stretch/>
        </p:blipFill>
        <p:spPr>
          <a:xfrm>
            <a:off x="2268360" y="1197000"/>
            <a:ext cx="433080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43" name="_s61453"/>
            <p:cNvCxnSpPr>
              <a:stCxn id="44" idx="0"/>
              <a:endCxn id="45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6" name="_s61452"/>
            <p:cNvCxnSpPr>
              <a:stCxn id="47" idx="0"/>
              <a:endCxn id="45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61451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5" name="_s61447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ное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обеспечение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1448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_s61449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иклад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_s61450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ы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ирования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ое П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для работы с файла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 – набор программ, обеспечивающих совместное функционирование всех устройств компьютера и предоставляющих пользователю доступ к его ресурс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&amp;Kcy;&amp;acy;&amp;rcy;&amp;tcy;&amp;icy;&amp;ncy;&amp;kcy;&amp;acy; 15 &amp;icy;&amp;zcy; 204764"/>
          <p:cNvPicPr/>
          <p:nvPr/>
        </p:nvPicPr>
        <p:blipFill>
          <a:blip r:embed="rId2"/>
          <a:stretch/>
        </p:blipFill>
        <p:spPr>
          <a:xfrm>
            <a:off x="900000" y="0"/>
            <a:ext cx="727236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ложения общего назначения (текстовые, графические, звуковые  редакторы, калькуляторы, электронные таблицы, мультимедиа проигрыватели, программы разработки презентаций, системы управления базами данных, коммуникационные программ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иложения специального назначения: (системы компьютерного черчения, компьютерные словари и переводчики, энциклопедии, системы распознавания текста, бухгалтерские программы, обучающие программы, электронные учебники, тесты, конструкторы, компьютерные игр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афический интерфей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ческий интерфейс позволяет осуществлять взаимодействие человека с компьютером в форме диалога с использованием окон и мен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Kcy;&amp;acy;&amp;rcy;&amp;tcy;&amp;icy;&amp;ncy;&amp;kcy;&amp;acy; 32 &amp;icy;&amp;zcy; 5248"/>
          <p:cNvPicPr/>
          <p:nvPr/>
        </p:nvPicPr>
        <p:blipFill>
          <a:blip r:embed="rId2"/>
          <a:stretch/>
        </p:blipFill>
        <p:spPr>
          <a:xfrm>
            <a:off x="1835280" y="549360"/>
            <a:ext cx="5535360" cy="63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08000" y="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лементы диалогового ок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9:26:01Z</dcterms:modified>
  <cp:revision>26</cp:revision>
  <dc:subject/>
  <dc:title>Презентация PowerPoint</dc:title>
</cp:coreProperties>
</file>