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81B-F28E-477F-B22B-5408A95E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A4E-39BD-496F-953D-C527CD48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9B8-9E29-425D-B758-108EBB94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743-08BB-47D3-9CB5-6B7EA725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83D-CA3C-423B-9A15-0E32BC8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FE1-FE37-4BFC-8EAC-C76F2DCA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7DA-BFE3-4CB0-8536-01FF7025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9E9-F96F-4278-B4C5-7B2AD657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31E-D5F4-4BC7-A6CD-0CDAAC09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FA8-1F42-4FA6-BFB3-EE5F682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919-19B4-4574-8D31-77EE6FEA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475-4003-4F31-885C-05EAB16E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AFCF-1607-43C1-B9C5-EB98F5408C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AAB-8CDC-49BD-8936-3979B4DC4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айловые архив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то означает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то такое гиперссылка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з каких частей состоит гиперссылка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ипертекст – это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помощью какого языка создается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страница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  Какие существуют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страницы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7.   URL что означают эти буквы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.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ttp://schools.keldysh.ru/info2000/index.ht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сшифруйте запис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рверы файловых архив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Интернете хранятся сотни миллионов файлов различных типов. Эти файлы расположены на специальных серверах Интернета – на серверах файловых архивах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45520" indent="-245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оступ к таким файлам возможен по протоколу НТТР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Hyper Text Transfer Protocol)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и по специальному протоколу передачи данных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TP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File  Transfer Protocol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1948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ля загрузки с сервера файлового архива необходимо указать URL-адрес этого файл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пример: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URL-адрес файла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ute4232.exe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 сервера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ftp.cuteftp.com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омпани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Global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capt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://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cuteftp.com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pub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ute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://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 протокол доступ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cuteftp.com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 доменное имя сервера файлового архив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pub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ute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ute4232.exe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– путь к файлу и имя файла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агружать файл на локальный компьютер можно с помощью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2000160"/>
            <a:ext cx="8929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раузеров – которые включают в себя менеджеры загрузки файлов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Download Manager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just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ециализированных менеджеров загрузки файлов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Go!Zilla,ReGet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ужба передачи файлов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428920"/>
            <a:ext cx="3995640" cy="439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На сервере хранится набор файлов самого разного назначения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программы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графические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звуковые файл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000680" y="2357280"/>
            <a:ext cx="5000400" cy="459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лиент соединяется по протоколу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TP c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ервером и после этого может работать с файлами на сервере как в своей папк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сматривать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ртировать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пироват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57840" y="171468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TP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- клиент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85840" y="17146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TP –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сервер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382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74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Доронина</dc:creator>
  <dc:description/>
  <dc:language>en-US</dc:language>
  <cp:lastModifiedBy>Доронин</cp:lastModifiedBy>
  <dcterms:modified xsi:type="dcterms:W3CDTF">2013-06-03T18:54:20Z</dcterms:modified>
  <cp:revision>29</cp:revision>
  <dc:subject/>
  <dc:title>Презентация PowerPoint</dc:title>
</cp:coreProperties>
</file>