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17F-FDD0-416E-A125-D824F828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046-9AF6-4A13-8946-8143D5E1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D4D-1FB9-488A-A603-D06C3C19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810-83F7-4051-885A-8396B802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035-1E3B-4DB7-AE02-E72AD0B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B6A-DE88-404F-B00B-C48E7C6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DA8-0107-4B73-936C-99C1A93C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CF6-9172-4769-9879-FC3A47E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721-17B5-4665-8666-10E00C9F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0F6-EBF5-4ECB-91AA-637AB9C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45F-8A49-47B0-A6E4-3A65294C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F76-468A-4D81-B51A-0607D40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DA7-6CFB-4C8C-9C5B-540C92EF5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2D8-B828-4AC0-BE11-FEE5CBC26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иск информации в Интерн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003640" y="33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704000" cy="22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8388360" cy="41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6448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000" y="3933720"/>
            <a:ext cx="911700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008920" cy="195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280" y="3860640"/>
            <a:ext cx="9018720" cy="16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1200" y="1662120"/>
            <a:ext cx="81230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358120" cy="41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45720" y="692280"/>
            <a:ext cx="35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Типы поиска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046520" y="1844640"/>
            <a:ext cx="47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оиск по адресам UR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108440" y="2492280"/>
            <a:ext cx="445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оисковые систем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971640" y="170028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исковые машин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это автоматические системы, опрашивающие серверы, подключенные к глобальной сети, и сохраняющие в своей базе информацию об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еющихся на серверах данны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1258560" y="3789360"/>
            <a:ext cx="8636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56000" y="5084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БО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564000" y="3716280"/>
            <a:ext cx="0" cy="144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846520" y="50846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ДЕК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78520" y="5157720"/>
            <a:ext cx="22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РАБОТ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ПРО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364000" y="3573360"/>
            <a:ext cx="792360" cy="1657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310840" y="500040"/>
            <a:ext cx="46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Поисковые сис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оссийские поисковые сервер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Яндекс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andex.ru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Гугл»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gle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Рамблер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mbler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Апорт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rt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Gogo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go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752720" cy="34498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5761080" cy="2984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4811400" cy="254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5267160" y="907920"/>
            <a:ext cx="3876840" cy="16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012000" y="2781360"/>
            <a:ext cx="3313080" cy="26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476360" y="76500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Технология поиска 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поисковых системах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43400" y="242892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1. Поиск по рубрикатор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37640" y="3213000"/>
            <a:ext cx="59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2. Поиск по ключевым слова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703880" y="404640"/>
            <a:ext cx="638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Поиск по рубрикатор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7362720" cy="5267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7" name="Freeform 7"/>
          <p:cNvSpPr/>
          <p:nvPr/>
        </p:nvSpPr>
        <p:spPr>
          <a:xfrm>
            <a:off x="1841400" y="3038400"/>
            <a:ext cx="820800" cy="3366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1820880" y="3462480"/>
            <a:ext cx="1495440" cy="3110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Freeform 9"/>
          <p:cNvSpPr/>
          <p:nvPr/>
        </p:nvSpPr>
        <p:spPr>
          <a:xfrm>
            <a:off x="3419640" y="3789360"/>
            <a:ext cx="1636560" cy="5508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8064720" cy="5689440"/>
          </a:xfrm>
          <a:prstGeom prst="rect">
            <a:avLst/>
          </a:prstGeom>
          <a:ln w="0">
            <a:noFill/>
          </a:ln>
        </p:spPr>
      </p:pic>
      <p:sp>
        <p:nvSpPr>
          <p:cNvPr id="71" name="Freeform 11"/>
          <p:cNvSpPr/>
          <p:nvPr/>
        </p:nvSpPr>
        <p:spPr>
          <a:xfrm>
            <a:off x="262080" y="1616040"/>
            <a:ext cx="3279600" cy="5446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Freeform 12"/>
          <p:cNvSpPr/>
          <p:nvPr/>
        </p:nvSpPr>
        <p:spPr>
          <a:xfrm>
            <a:off x="3598920" y="2003400"/>
            <a:ext cx="552240" cy="428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209080" cy="5957640"/>
          </a:xfrm>
          <a:prstGeom prst="rect">
            <a:avLst/>
          </a:prstGeom>
          <a:ln w="0">
            <a:noFill/>
          </a:ln>
        </p:spPr>
      </p:pic>
      <p:sp>
        <p:nvSpPr>
          <p:cNvPr id="74" name="Freeform 14"/>
          <p:cNvSpPr/>
          <p:nvPr/>
        </p:nvSpPr>
        <p:spPr>
          <a:xfrm>
            <a:off x="287280" y="1617840"/>
            <a:ext cx="1876320" cy="8730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1297080" y="33336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Поиск по ключевым слов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поиска внутри одного предложения слова в запросе разделяют пробелом или знаком &amp;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имер, «приключенческий роман» или «приключенческий&amp;роман». Несколько набранных в запросе слов, разделенных пробелами, означают, что все они должны входить в одно предложение искомого документа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1297080" y="33336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Поиск по ключевым слов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поиске синонимов или близких по значению слов между словами можно поставить вертикальную черту «|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пример, по запросу «ребенок | малыш | младенец» будут найдены документы с любым из этих слов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297080" y="33336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Поиск по ключевым слов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вы хотите, чтобы были отобраны только те документы, в которых встретилось каждое слово, указанное в запросе, поставьте перед каждым из них знак плюс «+». Если вы, наоборот, хотите исключить какие-либо слова из результата поиска, поставьте перед этим словом минус «-». Знаки « + » и «-» надо писать через пробел от предыдущего и слитно со следующим словом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имер, по запросу «Волга -автомобиль» будут найдены документы, в которых есть слово «Волга» и нет слова «автомобиль»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3-06-19T13:19:48Z</dcterms:modified>
  <cp:revision>31</cp:revision>
  <dc:subject/>
  <dc:title>Презентация PowerPoint</dc:title>
</cp:coreProperties>
</file>