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643-4EDD-4A9C-A2BC-A0B0A9AD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E6C-D685-42D7-9F2F-2E40689A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2F75-BBDC-4B0B-9867-07CE2CAB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55A-4D06-4425-BCDD-251EE64A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03B8-1FE1-4897-95D3-7DF2798A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BEE-C1F8-4FDC-BAEE-C84ADDB1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19D-0FA8-43EE-B9B5-48712797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817-119C-40E0-B65B-82B5DB2F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653-BA79-49B9-A44B-6C3F705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266-3053-4307-BB61-1C24150B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8445-BCF7-45D8-B40F-76D1C42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B7E4-3DF5-4114-AEEA-91994689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44A2-C5F9-4CC8-BE08-A84C7EBC9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0280"/>
            <a:ext cx="9144000" cy="64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ЛОГИЧЕСКАЯ СТРУКТУРА ОПЕРАТИВНО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620640"/>
            <a:ext cx="4932360" cy="22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еративная памя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множество яче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ая ячейка имеет свой уникаль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умерация ячеек начинается с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л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ая ячейка памяти имеет объем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симальный объем адресуемой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произведению количества ячее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1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3961080" cy="2192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332000" y="3068640"/>
            <a:ext cx="7200720" cy="106596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Для процессоров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entium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4 (разрядность шины адреса = 36 би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максимальный объем адресуемой памяти раве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×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1 байт =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1 байт = 2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</a:rPr>
              <a:t>36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1 байт = 68 719 476 736 байт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 67 108 864 Кбайт = 65 536 Мбайт =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64 Г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4365720"/>
          <a:ext cx="8496000" cy="2254320"/>
        </p:xfrm>
        <a:graphic>
          <a:graphicData uri="http://schemas.openxmlformats.org/drawingml/2006/table">
            <a:tbl>
              <a:tblPr/>
              <a:tblGrid>
                <a:gridCol w="1944360"/>
                <a:gridCol w="1798920"/>
                <a:gridCol w="2376360"/>
                <a:gridCol w="2376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амя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e0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е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e0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сяти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яче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e0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стнадцатерич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яче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e0c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Г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 719 476 7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FFF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Г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4 967 2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FFFF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ce7dc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9352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МОДУЛИ ОПЕРАТИВНО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2716200"/>
            <a:ext cx="3671640" cy="1639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434808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дуль памяти Kingmax DDR2-66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2229" t="24528" r="2184" b="28454"/>
          <a:stretch/>
        </p:blipFill>
        <p:spPr>
          <a:xfrm>
            <a:off x="324000" y="1251000"/>
            <a:ext cx="3671640" cy="1025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22766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DR PC3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620640"/>
            <a:ext cx="864072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изготавливается в вид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улей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052640"/>
            <a:ext cx="4824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и памя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DR, DDR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авливаются в специальные разъемы на системной пл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5157720"/>
            <a:ext cx="87854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персональных компьютера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личина адресного пространства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объем адресуемой памяти)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личина фактически установленной памя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модулей оперативной памяти) практически всегд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зличаю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40360" y="1844640"/>
            <a:ext cx="4790880" cy="308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300720" y="3284640"/>
            <a:ext cx="2303640" cy="792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ПРОПУСКНАЯ 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2716200"/>
            <a:ext cx="3671640" cy="1639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434808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дуль памяти Kingmax DDR2-66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2229" t="24528" r="2184" b="28454"/>
          <a:stretch/>
        </p:blipFill>
        <p:spPr>
          <a:xfrm>
            <a:off x="324000" y="1251000"/>
            <a:ext cx="3671640" cy="102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24000" y="22766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DR PC3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620640"/>
            <a:ext cx="48974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жнейшей характеристикой модулей оперативной памяти являе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ускная способность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3483000"/>
            <a:ext cx="4824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рядность шины данных = 64 б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ксимально возможная в настоящее время (2006 год) частота шины данных совпадает с частотой системной шины и равна 1064 МГ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67280" y="4797360"/>
            <a:ext cx="48974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кная способность модулей памяти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64 би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1064 МГц = 68 096 Мбит/с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 512 Мбайт/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≈ 8 Гбайт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67280" y="1700280"/>
            <a:ext cx="4897440" cy="165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пускная способность равна произведению разрядности шины данных и частоты операций записи или считывания информации из ячеек памя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пускная способность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Разрядность шины данных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Част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95640" y="5699160"/>
            <a:ext cx="49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дули памяти маркируются своей пропускной способностью, выраженной в Мбайт/с: РС3200, РС4200, РС8500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ФИЗИЧЕСКАЯ И ВИРТУАЛЬНАЯ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4000" y="2716200"/>
            <a:ext cx="3671640" cy="163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4000" y="434808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дуль памяти Kingmax DDR2-66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rcRect l="2229" t="24528" r="2184" b="28454"/>
          <a:stretch/>
        </p:blipFill>
        <p:spPr>
          <a:xfrm>
            <a:off x="324000" y="1251000"/>
            <a:ext cx="3671640" cy="1025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276640"/>
            <a:ext cx="41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уль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ngston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DDR PC3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620640"/>
            <a:ext cx="4897440" cy="2051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ъем используемой программами памяти можно увеличить путем добавления к физической памяти (модулям оперативной памяти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ртуальной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ртуальная память выделяется в форме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сти жесткого дис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эт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йл подкач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67280" y="278136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р файла подкачки и его размещение в иерархической файловой системе можно измен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7280" y="4869000"/>
            <a:ext cx="4897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амедление быстродействия виртуальной памяти может происходить в результат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рагментации данны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 фай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 чтобы этого не происходило, рекомендуется произвес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фрагментаци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тановить для файла подкач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стоянный разме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3645000"/>
            <a:ext cx="48974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Быстродействие жесткого диска и, соответственно, виртуальной памяти существенно меньше быстродействия оперативной памя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692280"/>
            <a:ext cx="8713800" cy="3988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Установка размера и местоположения виртуально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328840" y="1413000"/>
            <a:ext cx="3466800" cy="4248000"/>
            <a:chOff x="2328840" y="1413000"/>
            <a:chExt cx="3466800" cy="424800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2328840" y="1413000"/>
              <a:ext cx="346680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128840" y="2563920"/>
              <a:ext cx="792360" cy="288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49560" y="5229360"/>
              <a:ext cx="792360" cy="288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79280" y="1197000"/>
            <a:ext cx="2324160" cy="2521080"/>
            <a:chOff x="179280" y="1197000"/>
            <a:chExt cx="2324160" cy="252108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79280" y="1197000"/>
              <a:ext cx="23241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11280" y="3429000"/>
              <a:ext cx="792000" cy="2890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97440" y="2448000"/>
            <a:ext cx="3238560" cy="4076640"/>
            <a:chOff x="5797440" y="2448000"/>
            <a:chExt cx="3238560" cy="407664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5797440" y="2448000"/>
              <a:ext cx="3238560" cy="407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01080" y="4895640"/>
              <a:ext cx="792000" cy="4334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81800" y="4248000"/>
              <a:ext cx="792000" cy="647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692280"/>
            <a:ext cx="8785440" cy="3988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Определение размера и местоположения виртуально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315040" cy="303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59280" y="2349360"/>
            <a:ext cx="4485960" cy="426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4221000"/>
            <a:ext cx="3887640" cy="863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3068640"/>
            <a:ext cx="194436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773360"/>
            <a:ext cx="79236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92280"/>
            <a:ext cx="8713800" cy="70380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Определение загруженности процессора и использования виртуальной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185080" cy="499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6237360"/>
            <a:ext cx="3241440" cy="2872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2:07:56Z</dcterms:created>
  <dc:creator>Razumov</dc:creator>
  <dc:description/>
  <dc:language>en-US</dc:language>
  <cp:lastModifiedBy>Доронин</cp:lastModifiedBy>
  <dcterms:modified xsi:type="dcterms:W3CDTF">2012-04-18T09:59:13Z</dcterms:modified>
  <cp:revision>20</cp:revision>
  <dc:subject/>
  <dc:title>Слайд 1</dc:title>
</cp:coreProperties>
</file>