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F095-4F71-4214-ADEB-5E5215700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184-3B95-41B2-9CE8-0B178D9D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448-8C6F-4431-A59B-60322698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0A3-E269-4116-8507-3DF9B468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7FE-C6F0-4C87-A76F-75187773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E60-B59A-45B1-85B1-ADD43699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FD77-9038-4CC3-A863-B0EA46C8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340-9CD6-4A66-A6B9-3E5B8777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1D16-3914-4340-AAE3-2B74CE13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8FF-781F-4C5E-BC49-A1A71666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463-2991-42A1-8AFD-65EDFEFD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CDC-4EBC-4CB5-ABCB-76B6B2A4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292A-A70C-42E1-81C9-90E654C9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621-6504-4956-B288-502BADDB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619308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Определение температуры процес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80000" y="2924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 процессор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80000" y="148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оборотов в минуту кулера процессор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84 об/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824360" cy="3638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flipH="1" flipV="1">
            <a:off x="3492000" y="3141720"/>
            <a:ext cx="2087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997360"/>
            <a:ext cx="433440" cy="431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2133720"/>
            <a:ext cx="1800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692280"/>
            <a:ext cx="619308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Производительность процес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972320" cy="1676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1989000"/>
            <a:ext cx="1728720" cy="57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5762520" cy="4819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51640" y="6021360"/>
            <a:ext cx="433080" cy="57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3068640"/>
            <a:ext cx="2160360" cy="165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692280"/>
            <a:ext cx="619308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Производительность процес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H="1">
            <a:off x="6372000" y="1916280"/>
            <a:ext cx="1439640" cy="324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7280" y="12682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целочисленных операций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65 MI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692280"/>
            <a:ext cx="6193080" cy="3988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Производительность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6769080" cy="4595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H="1">
            <a:off x="6443280" y="1916280"/>
            <a:ext cx="865080" cy="3025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26828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опера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вающей точкой 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4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84464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в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5280" y="76500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213000"/>
            <a:ext cx="1584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Юж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341360"/>
            <a:ext cx="361800" cy="505080"/>
          </a:xfrm>
          <a:prstGeom prst="upDownArrow">
            <a:avLst>
              <a:gd name="adj1" fmla="val 50000"/>
              <a:gd name="adj2" fmla="val 27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4360" y="1916280"/>
            <a:ext cx="1584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8360" y="1773360"/>
            <a:ext cx="1728720" cy="720720"/>
          </a:xfrm>
          <a:prstGeom prst="leftRightArrow">
            <a:avLst>
              <a:gd name="adj1" fmla="val 50000"/>
              <a:gd name="adj2" fmla="val 47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н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2133720"/>
            <a:ext cx="1584360" cy="576000"/>
          </a:xfrm>
          <a:prstGeom prst="leftRightArrow">
            <a:avLst>
              <a:gd name="adj1" fmla="val 50000"/>
              <a:gd name="adj2" fmla="val 547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1628640"/>
            <a:ext cx="1584360" cy="578160"/>
          </a:xfrm>
          <a:prstGeom prst="leftRightArrow">
            <a:avLst>
              <a:gd name="adj1" fmla="val 50000"/>
              <a:gd name="adj2" fmla="val 545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692280"/>
            <a:ext cx="158436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77336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1268280"/>
            <a:ext cx="217440" cy="505080"/>
          </a:xfrm>
          <a:prstGeom prst="upDownArrow">
            <a:avLst>
              <a:gd name="adj1" fmla="val 50000"/>
              <a:gd name="adj2" fmla="val 462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2708280"/>
            <a:ext cx="217440" cy="504720"/>
          </a:xfrm>
          <a:prstGeom prst="upDownArrow">
            <a:avLst>
              <a:gd name="adj1" fmla="val 50000"/>
              <a:gd name="adj2" fmla="val 462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645000"/>
            <a:ext cx="1584360" cy="576000"/>
          </a:xfrm>
          <a:prstGeom prst="leftRightArrow">
            <a:avLst>
              <a:gd name="adj1" fmla="val 50000"/>
              <a:gd name="adj2" fmla="val 547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997360"/>
            <a:ext cx="1584360" cy="577800"/>
          </a:xfrm>
          <a:prstGeom prst="leftRightArrow">
            <a:avLst>
              <a:gd name="adj1" fmla="val 50000"/>
              <a:gd name="adj2" fmla="val 545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213000"/>
            <a:ext cx="1584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716280"/>
            <a:ext cx="1368360" cy="576360"/>
          </a:xfrm>
          <a:prstGeom prst="leftRightArrow">
            <a:avLst>
              <a:gd name="adj1" fmla="val 50000"/>
              <a:gd name="adj2" fmla="val 472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068640"/>
            <a:ext cx="1368360" cy="504720"/>
          </a:xfrm>
          <a:prstGeom prst="leftRightArrow">
            <a:avLst>
              <a:gd name="adj1" fmla="val 50000"/>
              <a:gd name="adj2" fmla="val 539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16720" y="2708280"/>
            <a:ext cx="2340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16720" y="3789360"/>
            <a:ext cx="2016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4005360"/>
            <a:ext cx="936720" cy="718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08360" y="4724280"/>
            <a:ext cx="129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5445000"/>
            <a:ext cx="1584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003640" y="4005360"/>
            <a:ext cx="1513080" cy="1944720"/>
            <a:chOff x="5003640" y="4005360"/>
            <a:chExt cx="1513080" cy="1944720"/>
          </a:xfrm>
        </p:grpSpPr>
        <p:sp>
          <p:nvSpPr>
            <p:cNvPr id="76" name=""/>
            <p:cNvSpPr/>
            <p:nvPr/>
          </p:nvSpPr>
          <p:spPr>
            <a:xfrm>
              <a:off x="5003640" y="4005360"/>
              <a:ext cx="216000" cy="1800000"/>
            </a:xfrm>
            <a:prstGeom prst="upArrow">
              <a:avLst>
                <a:gd name="adj1" fmla="val 50000"/>
                <a:gd name="adj2" fmla="val 2083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76720" y="5445000"/>
              <a:ext cx="1440000" cy="505080"/>
            </a:xfrm>
            <a:prstGeom prst="rightArrow">
              <a:avLst>
                <a:gd name="adj1" fmla="val 50000"/>
                <a:gd name="adj2" fmla="val 7127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EEE 13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76720" y="5516640"/>
              <a:ext cx="7164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3492360" y="4005360"/>
            <a:ext cx="216000" cy="1655640"/>
          </a:xfrm>
          <a:prstGeom prst="upArrow">
            <a:avLst>
              <a:gd name="adj1" fmla="val 50000"/>
              <a:gd name="adj2" fmla="val 191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058560" y="5445000"/>
            <a:ext cx="577800" cy="28908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564000" y="5372280"/>
            <a:ext cx="71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5300640"/>
            <a:ext cx="1224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вук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кро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5445000"/>
            <a:ext cx="216000" cy="289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5157720"/>
            <a:ext cx="14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5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УПРОЩЕННАЯ ЛОГИЧЕСКАЯ СХЕМА ОДНОЯДЕРНОГО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49360"/>
            <a:ext cx="9144000" cy="431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35280" y="4941720"/>
            <a:ext cx="100800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148360" y="4854600"/>
            <a:ext cx="1368360" cy="1004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5896080"/>
            <a:ext cx="8532720" cy="55404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ормационная  магистраль  (ш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3640" y="5468760"/>
            <a:ext cx="0" cy="42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96360" y="5445000"/>
            <a:ext cx="0" cy="42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101080" y="5444640"/>
            <a:ext cx="0" cy="42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332000" y="5468400"/>
            <a:ext cx="0" cy="42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11640" y="5773680"/>
          <a:ext cx="3168720" cy="824040"/>
        </p:xfrm>
        <a:graphic>
          <a:graphicData uri="http://schemas.openxmlformats.org/drawingml/2006/table">
            <a:tbl>
              <a:tblPr/>
              <a:tblGrid>
                <a:gridCol w="31687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а  данных (8, 16, 32, 64 б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а  адреса (16, 20, 24, 32, 36, 64 б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на  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6659640" y="4970520"/>
            <a:ext cx="2305080" cy="4744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013360"/>
            <a:ext cx="1511280" cy="4744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692280"/>
            <a:ext cx="7559640" cy="32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003560"/>
            <a:ext cx="244800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003560"/>
            <a:ext cx="244944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4003560"/>
            <a:ext cx="223200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др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3514680"/>
            <a:ext cx="511308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эш-память 2-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95640" y="907920"/>
            <a:ext cx="5113080" cy="73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лых чисе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Чисел с плавающей запят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2133720"/>
            <a:ext cx="23036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эш-память данных 1-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6720" y="2622600"/>
            <a:ext cx="223200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эш-память команд 1-го уро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003400"/>
            <a:ext cx="2232000" cy="33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кодер коман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227640" y="1628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227640" y="2349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708280"/>
            <a:ext cx="0" cy="792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3213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19640" y="162864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00720" y="2205000"/>
            <a:ext cx="57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ТЕХНОЛОГИЯ ИЗГОТОВЛЕНИЯ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6224760"/>
            <a:ext cx="41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семь слоев кристалла процессора в 65-нанометровом технологическом процес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3816360" cy="232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24360" y="692280"/>
            <a:ext cx="2845080" cy="5905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116000" y="3351240"/>
            <a:ext cx="38098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ОЦЕСС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625320"/>
            <a:ext cx="24307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08000" y="292428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ый первый процес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 400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1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0" y="836640"/>
            <a:ext cx="273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элемен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мк = 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элемен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46920" y="4508640"/>
            <a:ext cx="3097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 элемен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5 нм = 0,065 мк = 1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элемен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91 0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093000"/>
            <a:ext cx="259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й процесс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ntel Core 2 Duo (2007 год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447640" cy="2233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916360" y="3841920"/>
            <a:ext cx="3024000" cy="220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16360" y="6093000"/>
            <a:ext cx="31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дро процессора Intel Core 2 D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916360" y="620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ОИЗВОДИТЕЛЬНОСТЬ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71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изводительность процессора характеризует скорость выполнения прилож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1628640"/>
            <a:ext cx="62643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ряд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цессора определяется количеством двоичных разрядов, которые процессор обрабатывает за один та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омента появления первого процессора 4004 разрядность процессора увеличилась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 ра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с 4 бит до 64 бит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оответствует количеству тактов обработки данных, которые процессор производит за 1 секун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омента появления первого процессора частота процессора увеличилась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7 000 ра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с 0,1 МГц до 3700 МГц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1871640" cy="170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1052640"/>
            <a:ext cx="842472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ительн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зрядн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Частот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л-во команд за та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028600" cy="2158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56000" y="4724280"/>
            <a:ext cx="604836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еление процессором теплоты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орционально потребляемой мощн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которая, в свою очередь пропорциональна квадрату часто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отвода тепла от процессора применяют массивные воздушные системы охлаждения (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е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630864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улер для процесс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ОИЗВОДИТЕЛЬНОСТЬ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2376720" cy="216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156360" y="620640"/>
            <a:ext cx="2844720" cy="5905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56360" y="620640"/>
            <a:ext cx="280836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3573360"/>
            <a:ext cx="280836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7640" y="692280"/>
            <a:ext cx="792360" cy="93636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27640" y="2205000"/>
            <a:ext cx="792360" cy="93672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5157720"/>
            <a:ext cx="792360" cy="93672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7640" y="3716280"/>
            <a:ext cx="792360" cy="93672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4537080" cy="2908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692280"/>
            <a:ext cx="3240360" cy="448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настоящее время производительность процессора увеличивается путем совершенствова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архитектур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-первых, в структуру процессора вводи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эш-памя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-го и 2-го уровней, которая позволяет ускорить выборку команд и данных и тем самым уменьшить время выполнения одной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-вторых, вместо одного ядра процессора используетс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ва яд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что позволяет повысить производительность процессора примерно на 8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860640"/>
            <a:ext cx="1871640" cy="5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4581360"/>
            <a:ext cx="1871640" cy="5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30064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692280"/>
            <a:ext cx="6193080" cy="3988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пределение объемов кэш-памяти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710240" cy="5256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177336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242100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314172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40360" y="177336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ш-память данных 1-го уровн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40360" y="24210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ш-память команд 1-го уровн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 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3141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эш-память 2-го уровня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24 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68360" y="191628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68360" y="256536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268360" y="328464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07:56Z</dcterms:created>
  <dc:creator>Razumov</dc:creator>
  <dc:description/>
  <dc:language>en-US</dc:language>
  <cp:lastModifiedBy>Доронин</cp:lastModifiedBy>
  <dcterms:modified xsi:type="dcterms:W3CDTF">2012-04-18T09:58:46Z</dcterms:modified>
  <cp:revision>18</cp:revision>
  <dc:subject/>
  <dc:title>Слайд 1</dc:title>
</cp:coreProperties>
</file>