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252-2E2F-46D3-8670-0FA689BD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F81-1387-4086-AF04-0BBFFC54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C79-98AA-42C2-978E-337A8180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4F7-9346-4EFE-B068-224893A8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E16-8ABA-40CC-8728-8B4885DF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937-3CB7-48FB-A0FC-04246E08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CB2-498C-4FF4-A3EE-F979DAEE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A2A-E58D-434C-AF8E-C61C44CC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A29-5EAB-4273-A1AF-2677303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F59-2C49-41BD-8F5A-80C1CA0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7EF-17B3-40A3-AA17-94094B8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795-BEE3-4A1D-BA09-CB2EE95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4238-AF65-45FD-9540-D3349024C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агнитная пам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МАГНИТНАЯ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58770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ета 3.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5877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овод 3.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620640"/>
            <a:ext cx="8640720" cy="119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й функцией внешней памяти компьютера является долговременное хранение большого объем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о, которое обеспечивает запись/считывание информации, называ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копител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ковод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хранится информация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сителя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311640" cy="291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43210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МАГНИТНЫЙ ПРИНЦИП ЗАПИСИ И СЧИТЫВАН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221000"/>
            <a:ext cx="29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овод 3.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НГМ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620640"/>
            <a:ext cx="8640720" cy="131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копителях на гибких магнитных дисках (НГМД) и накопителях на жестких магнитных дисках (НЖМД), или «винчестерах», в основу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запис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формации положено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магничивание ферромагнет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магнитном поле,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хран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формации основывается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хранении намагничен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читыв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формации базируется на явлении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электромагнитной индук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4560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40160" y="2133720"/>
            <a:ext cx="4479840" cy="416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4720" y="602136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ёсткий диск Samsu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ЖМ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МАГНИТНЫЙ ПРИНЦИП ЗАПИСИ И СЧИТЫВАН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907920"/>
            <a:ext cx="3673440" cy="47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пис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формации на гибкие и жесткие магнитные диски головка дисковода с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сердечник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и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магнитомягк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материа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малая остаточная намагниченность) перемещается вдоль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гнитного сло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магнитожёсткого носите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большая остаточная намагниченнос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магнитную головку поступают последовательности электрических импульсов, которые создают в головке магнитное п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езультате последовательно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намагничиваются (логическая единиц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не намагничиваются (логический нуль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элементы поверхности нос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40360" y="981000"/>
            <a:ext cx="475272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4562640"/>
            <a:ext cx="4752720" cy="131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читыв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нформации при движении магнитной головки над поверхностью носителя намагниченные участки носителя вызывают в ней импульсы тока (явление электромагнитной индук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ГИБКИЕ МАГНИТНЫ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60930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ета 3,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765000"/>
            <a:ext cx="2124360" cy="4358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о дискеты 3,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- заглушка "защита от записи"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- основа диска с отверстиями для приводящего механизм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- защитная шторка открытой области корпус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- пластиковый корпус дискеты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- противопылевая салфетк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 - магнитный диск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- область запи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3321000"/>
            <a:ext cx="165744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44928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ета 5,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5157720"/>
            <a:ext cx="1081080" cy="8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3280" y="765000"/>
            <a:ext cx="2049480" cy="439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24000" y="601560"/>
            <a:ext cx="237672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фирмой IBM представлена первая дискета диаметром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200 м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6 - разработана дискета диаметром 5,25 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1904760" cy="1885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26370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ета 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5300640"/>
            <a:ext cx="676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1 – фирма Sony разработала дискету диаметром 3,5″ (90 м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первой версии объём составляет 720 килобай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дняя версия имеет объём 1440 килобай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-за медленного вращения диска (360 об/мин) скорость записи и считывания составляет всего 50 Кбайт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ЖЕСТКИЕ МАГНИТНЫ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630864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й HDD емкостью 5 Мбай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836640"/>
            <a:ext cx="3924360" cy="2781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накопитель на жестких дисках IBM 350 Disk File разработан в 1955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копитель емкостью 5 Мбайт состоял из 50 дисков диаметром 24 дюйма, вращавшихся со скоростью 1200 об/м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накопителя был сравним с двумя современными двухкамерными холодильн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21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ЖЕСТКИЕ МАГНИТНЫЕ Д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765000"/>
            <a:ext cx="331308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использования нескольких дисковых пластин и гораздо большего количества дорожек на каждой стороне магнитных пластин информационная емкость жестких дисков может достигать 750 Г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рость записи и считывания информации на жестких дисках может достигать 300 Мбайт/с (по шин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за счет быстрого позиционирования магнитной головки и высокой скорости вращения дисков (до 7200 об/м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824360" cy="4150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5373720"/>
            <a:ext cx="8569080" cy="106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жестких дисках используются достаточно хрупкие и миниатюрные элементы (магнитные пластины носителей, магнитные головки и т.д.), поэтому в целях сохранения информации и работоспособности жесткие диски необходимо оберегать от ударов и резких изменений пространственной ориентации в процессе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2:07:56Z</dcterms:created>
  <dc:creator>Razumov</dc:creator>
  <dc:description/>
  <dc:language>en-US</dc:language>
  <cp:lastModifiedBy>Доронин</cp:lastModifiedBy>
  <dcterms:modified xsi:type="dcterms:W3CDTF">2012-04-18T09:59:51Z</dcterms:modified>
  <cp:revision>21</cp:revision>
  <dc:subject/>
  <dc:title>Слайд 1</dc:title>
</cp:coreProperties>
</file>