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4.png" ContentType="image/png"/>
  <Override PartName="/ppt/media/image1.gif" ContentType="image/gif"/>
  <Override PartName="/ppt/media/image6.jpeg" ContentType="image/jpeg"/>
  <Override PartName="/ppt/media/image10.png" ContentType="image/png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E08-B2C8-4D6F-8686-D10299C2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04C-428A-4991-944C-43FA5ABB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BEC-1230-4B76-A0B3-59F53C4A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DBB-BE75-4C87-8650-F9DD10A8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E251-BE0D-47D0-BCA5-817F15FD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B227-9B2E-4CCE-82D3-56511090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2CB2-A1BD-4D68-9C06-62C9DFF5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C208-C549-4C29-983E-DBF1271C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C89D-BE6B-420C-B0E2-FFFE833B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AB32-EEAF-4403-8D42-50552F16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0688-A818-4DA7-B9FC-D8347531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F4B-9DB8-4373-A785-DAABC997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7B23-60D6-4A64-88C0-18418307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C04C-8678-4C95-BC94-6B16E63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E015-2661-4EDD-94AE-1CBE4F5C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AED7-6360-4AC7-BBEE-BC9BEEDE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3AF4-57B9-4022-8857-447FEF24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3EE-FEC7-469F-9ACC-EBB8D228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7AE-8AE9-458D-9110-1C25F6AE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D2F-08DF-476E-8A04-1ED4EB6C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0DB-12B7-4E8C-AE8D-00A59A46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035-0DB7-42BA-BD74-84E09E9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7A8-CB2A-4C22-96FA-1C9D1D43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D7E-A94C-44BA-AA5E-DB43DFF5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205F-3ACA-4D0D-BC1B-F6F718421D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C992-2F53-4BEF-A258-B1DA8350363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тройства вв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984320" cy="1819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ппаратные средства (собственно само устройство ввода и управляющее устройство – контроллер) для преобразования информации из формы понятной человеку, в форму, воспринимаемую компьютер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Световое п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336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Дигитайз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7628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3279600"/>
            <a:ext cx="3240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Скан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88000" y="3068640"/>
            <a:ext cx="4032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у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тативно-страни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ншетно-офи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тевые (скорост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ирокоформат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1916280"/>
            <a:ext cx="403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но-белые (до 64 оттенков серог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ветные (256 – 16 млн. цв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95280" y="3645000"/>
            <a:ext cx="30751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азрешающая способность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pi – pixels per inch)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– количество распознаваемых точек (пикселей) на дюй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корость сканирова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показатель быстродействия, который равен времени, затрачиваемому на обработку одной строки изображ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азмеры сканируемого лис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область сканирован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азрядность битового представлен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определяет количество цветов или оттенков серого, которые может воспринимать скан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Основные пользовательские характеристики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арактеристики скан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8000" y="1341360"/>
          <a:ext cx="8589960" cy="5097600"/>
        </p:xfrm>
        <a:graphic>
          <a:graphicData uri="http://schemas.openxmlformats.org/drawingml/2006/table">
            <a:tbl>
              <a:tblPr/>
              <a:tblGrid>
                <a:gridCol w="2417760"/>
                <a:gridCol w="2057400"/>
                <a:gridCol w="2057400"/>
                <a:gridCol w="20574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Пользовательские характерис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Типы скане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Ручны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Портативно-странич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Планшетны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Разрешающая способ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0 – 800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p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00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p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00 – 1200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p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Количество цв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 (черно-белые) – 16,7 мл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 (черно-белые) – 16,7 мл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 (черно-белые) – 16,7 мл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Число градаций серого цв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4 - 2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Скорость сканирования, листов/мину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 – 8 листов/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До 15 листов/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До 30 листов/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012000" y="692280"/>
            <a:ext cx="2695320" cy="2000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06064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кладка клавиш стандартных клавиатур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WERTY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по буквам первого ряда клавиатуры) далека от оптимальной. Она сохранилась со времен механических пишущих маши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2205000"/>
            <a:ext cx="468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виатуры бываю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умехан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мбра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076720" y="4941720"/>
            <a:ext cx="34848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388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личество нажатий каждой клавиши до ее отказ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изай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добство в работе (эргономичность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личество клави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нструкция клави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од клави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силие нажа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зме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Основные пользовательские характеристик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арактеристики клавиа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413000"/>
          <a:ext cx="8229600" cy="520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Тип клавиа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Максимальное количество нажатий для каждой клавиш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Преимущества, приме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Мембран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0 мл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Практически бесшумная, для обычного пользо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Полумехан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0 мл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Интенсивный ввод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Механ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0 мл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Ввод информации осуществляется длительное врем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любого аппаратного средства требует программного управления. Для устройств ввода (устройств вывода) управляющие программы называются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ДРАЙВЕР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ктически все выпускаемые сейчас периферийные устройства соответствуют стандарту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ug and Play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дключи и работай), позволяющему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томатически настроить устройство входе диалога с компьютером в процессе начальной загрузк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cxnSp>
          <p:nvCxnSpPr>
            <p:cNvPr id="160" name="_s26679"/>
            <p:cNvCxnSpPr>
              <a:stCxn id="161" idx="1"/>
              <a:endCxn id="162" idx="2"/>
            </p:cNvCxnSpPr>
            <p:nvPr/>
          </p:nvCxnSpPr>
          <p:spPr>
            <a:xfrm rot="10800000">
              <a:off x="2793240" y="2756160"/>
              <a:ext cx="240480" cy="3758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63" name="_s26677"/>
            <p:cNvCxnSpPr>
              <a:stCxn id="164" idx="1"/>
              <a:endCxn id="162" idx="2"/>
            </p:cNvCxnSpPr>
            <p:nvPr/>
          </p:nvCxnSpPr>
          <p:spPr>
            <a:xfrm rot="10800000">
              <a:off x="2793240" y="2756160"/>
              <a:ext cx="240480" cy="2729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65" name="_s26675"/>
            <p:cNvCxnSpPr>
              <a:stCxn id="166" idx="1"/>
              <a:endCxn id="162" idx="2"/>
            </p:cNvCxnSpPr>
            <p:nvPr/>
          </p:nvCxnSpPr>
          <p:spPr>
            <a:xfrm rot="10800000">
              <a:off x="2793240" y="2756160"/>
              <a:ext cx="240480" cy="17010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67" name="_s26673"/>
            <p:cNvCxnSpPr>
              <a:stCxn id="168" idx="1"/>
              <a:endCxn id="162" idx="2"/>
            </p:cNvCxnSpPr>
            <p:nvPr/>
          </p:nvCxnSpPr>
          <p:spPr>
            <a:xfrm rot="10800000">
              <a:off x="2793240" y="27561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69" name="_s26671"/>
            <p:cNvCxnSpPr>
              <a:stCxn id="170" idx="1"/>
              <a:endCxn id="171" idx="2"/>
            </p:cNvCxnSpPr>
            <p:nvPr/>
          </p:nvCxnSpPr>
          <p:spPr>
            <a:xfrm rot="10800000">
              <a:off x="761040" y="2756160"/>
              <a:ext cx="240480" cy="2729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2" name="_s26669"/>
            <p:cNvCxnSpPr>
              <a:stCxn id="173" idx="1"/>
              <a:endCxn id="171" idx="2"/>
            </p:cNvCxnSpPr>
            <p:nvPr/>
          </p:nvCxnSpPr>
          <p:spPr>
            <a:xfrm rot="10800000">
              <a:off x="761040" y="2756160"/>
              <a:ext cx="240480" cy="17010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4" name="_s26667"/>
            <p:cNvCxnSpPr>
              <a:stCxn id="175" idx="1"/>
              <a:endCxn id="171" idx="2"/>
            </p:cNvCxnSpPr>
            <p:nvPr/>
          </p:nvCxnSpPr>
          <p:spPr>
            <a:xfrm rot="10800000">
              <a:off x="761040" y="27561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6" name="_s26665"/>
            <p:cNvCxnSpPr>
              <a:stCxn id="177" idx="0"/>
              <a:endCxn id="178" idx="2"/>
            </p:cNvCxnSpPr>
            <p:nvPr/>
          </p:nvCxnSpPr>
          <p:spPr>
            <a:xfrm flipV="1" rot="16200000">
              <a:off x="4795200" y="488160"/>
              <a:ext cx="314280" cy="27946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79" name="_s26663"/>
            <p:cNvCxnSpPr>
              <a:stCxn id="180" idx="0"/>
              <a:endCxn id="178" idx="2"/>
            </p:cNvCxnSpPr>
            <p:nvPr/>
          </p:nvCxnSpPr>
          <p:spPr>
            <a:xfrm flipV="1" rot="16200000">
              <a:off x="3906360" y="1377000"/>
              <a:ext cx="314280" cy="101664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1" name="_s26661"/>
            <p:cNvCxnSpPr>
              <a:stCxn id="162" idx="0"/>
              <a:endCxn id="178" idx="2"/>
            </p:cNvCxnSpPr>
            <p:nvPr/>
          </p:nvCxnSpPr>
          <p:spPr>
            <a:xfrm flipH="1" flipV="1" rot="5400000">
              <a:off x="3017880" y="1504440"/>
              <a:ext cx="314280" cy="7624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2" name="_s26659"/>
            <p:cNvCxnSpPr>
              <a:stCxn id="171" idx="0"/>
              <a:endCxn id="178" idx="2"/>
            </p:cNvCxnSpPr>
            <p:nvPr/>
          </p:nvCxnSpPr>
          <p:spPr>
            <a:xfrm flipH="1" flipV="1" rot="5400000">
              <a:off x="2001600" y="488160"/>
              <a:ext cx="314280" cy="27946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3" name="_s26647"/>
            <p:cNvCxnSpPr>
              <a:stCxn id="178" idx="3"/>
              <a:endCxn id="184" idx="2"/>
            </p:cNvCxnSpPr>
            <p:nvPr/>
          </p:nvCxnSpPr>
          <p:spPr>
            <a:xfrm flipV="1">
              <a:off x="4332240" y="698760"/>
              <a:ext cx="30340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85" name="_s26645"/>
            <p:cNvCxnSpPr>
              <a:stCxn id="186" idx="1"/>
              <a:endCxn id="184" idx="2"/>
            </p:cNvCxnSpPr>
            <p:nvPr/>
          </p:nvCxnSpPr>
          <p:spPr>
            <a:xfrm rot="10800000">
              <a:off x="7365240" y="6987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84" name="_s26632"/>
            <p:cNvSpPr/>
            <p:nvPr/>
          </p:nvSpPr>
          <p:spPr>
            <a:xfrm>
              <a:off x="6603840" y="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ввод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информаци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26643"/>
            <p:cNvSpPr/>
            <p:nvPr/>
          </p:nvSpPr>
          <p:spPr>
            <a:xfrm>
              <a:off x="7619760" y="10285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 клавиатурным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вводом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26646"/>
            <p:cNvSpPr/>
            <p:nvPr/>
          </p:nvSpPr>
          <p:spPr>
            <a:xfrm>
              <a:off x="2793960" y="10285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с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прямым вводом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26658"/>
            <p:cNvSpPr/>
            <p:nvPr/>
          </p:nvSpPr>
          <p:spPr>
            <a:xfrm>
              <a:off x="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Манипуляторы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6660"/>
            <p:cNvSpPr/>
            <p:nvPr/>
          </p:nvSpPr>
          <p:spPr>
            <a:xfrm>
              <a:off x="203184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енсорны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26662"/>
            <p:cNvSpPr/>
            <p:nvPr/>
          </p:nvSpPr>
          <p:spPr>
            <a:xfrm>
              <a:off x="380988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канирования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26664"/>
            <p:cNvSpPr/>
            <p:nvPr/>
          </p:nvSpPr>
          <p:spPr>
            <a:xfrm>
              <a:off x="558792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распознавания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реч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26666"/>
            <p:cNvSpPr/>
            <p:nvPr/>
          </p:nvSpPr>
          <p:spPr>
            <a:xfrm>
              <a:off x="1015920" y="30859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Мышь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26668"/>
            <p:cNvSpPr/>
            <p:nvPr/>
          </p:nvSpPr>
          <p:spPr>
            <a:xfrm>
              <a:off x="1015920" y="41144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Трекбол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26670"/>
            <p:cNvSpPr/>
            <p:nvPr/>
          </p:nvSpPr>
          <p:spPr>
            <a:xfrm>
              <a:off x="1015920" y="51433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Джойстик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26672"/>
            <p:cNvSpPr/>
            <p:nvPr/>
          </p:nvSpPr>
          <p:spPr>
            <a:xfrm>
              <a:off x="3047760" y="30859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енсорный экран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26674"/>
            <p:cNvSpPr/>
            <p:nvPr/>
          </p:nvSpPr>
          <p:spPr>
            <a:xfrm>
              <a:off x="3047760" y="411444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ветовое перо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26676"/>
            <p:cNvSpPr/>
            <p:nvPr/>
          </p:nvSpPr>
          <p:spPr>
            <a:xfrm>
              <a:off x="3047760" y="514332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Дигитайзер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26678"/>
            <p:cNvSpPr/>
            <p:nvPr/>
          </p:nvSpPr>
          <p:spPr>
            <a:xfrm>
              <a:off x="3047760" y="617184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Тачпад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Мы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060640"/>
            <a:ext cx="410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хан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еспров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35772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ество мыши определяется ее </a:t>
            </a:r>
            <a:r>
              <a:rPr b="0" lang="ru-RU" sz="2400" spc="-1" strike="noStrike">
                <a:solidFill>
                  <a:srgbClr val="33cccc"/>
                </a:solidFill>
                <a:latin typeface="Arial"/>
              </a:rPr>
              <a:t>разрешающей способнос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ая измеряется числом точек на дюйм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i (dot per inch)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мышей среднего класса разрешение составляет 400 – 8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18255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Основные пользовательские характеристики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365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личество нажатий кнопки до ее отказ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365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еакция на движение ру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365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зреш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365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изай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3650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добство в работе (Эргонометричность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8810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140360" y="1611360"/>
            <a:ext cx="4547880" cy="4208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Трекб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Джойст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651640" y="3370320"/>
            <a:ext cx="2770200" cy="2494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20192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187280" y="692280"/>
            <a:ext cx="705816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Комбинированные устр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959280" cy="2936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2133720"/>
            <a:ext cx="18273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26920" y="692280"/>
            <a:ext cx="4249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Сенсорный экр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867280" y="2349360"/>
            <a:ext cx="27180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7:12:23Z</dcterms:created>
  <dc:creator>Усольцева Э.М. Преподаватель информатики ГОУ НПО КПУ</dc:creator>
  <dc:description/>
  <dc:language>en-US</dc:language>
  <cp:lastModifiedBy>Доронин</cp:lastModifiedBy>
  <dcterms:modified xsi:type="dcterms:W3CDTF">2012-04-18T07:36:52Z</dcterms:modified>
  <cp:revision>45</cp:revision>
  <dc:subject/>
  <dc:title>Периферийные устройства</dc:title>
</cp:coreProperties>
</file>