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A73F-2F70-41D0-93D4-45BB95496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DCA1-57C4-4471-8CB4-2FD583163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6C69-1C7B-4E0D-A43E-076DA9052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5D68-DF2C-44B3-B6AC-F56F6FB79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A1DA-F8B6-4A0A-925F-2DCAD31EA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116F-D5BF-48AF-94AF-7DFBAF9EB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3F9B-1A12-4C80-96B4-FA9B74005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860B-671D-4DA7-B9F2-11AB6D57F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43D2-7098-4EE2-B162-F7AC73393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2FB5-2126-490C-9684-12E42AC5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543D-1D52-4709-8415-D15B0654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CF2A-E966-49C3-8DF7-C907755E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BA34A-50C6-43BD-B873-E6E2BEC87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60280"/>
            <a:ext cx="9144000" cy="6408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773360"/>
            <a:ext cx="820728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Оптическая памя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549360"/>
            <a:ext cx="9144000" cy="6308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ОПТИЧЕСКИЙ ПРИНЦИП ЗАПИСИ И СЧИТЫВАНИЯ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716360" y="692280"/>
            <a:ext cx="4248360" cy="5702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процессе записи информации на оптические диски для создания участков поверхности с различными коэффициентами отражения применяются различные технологии: от простой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штамповк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до изменения отражающей способности участков поверхности диска с помощью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мощного лазер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формация на лазерном диске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записываетс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одну спиралевидную дорожку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начинающуюся от центра диска и содержащую чередующиеся участки с различной отражающей способность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процессе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считыван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нформации с оптического диска луч лазера, установленного в дисководе, падает на поверхность вращающегося диска и отражается. Так как поверхность оптического диска имеет участки с различными коэффициентами отражения, то отраженный луч также меняет свою интенсивность (логический 0 или 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3673440" cy="3122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rcRect l="0" t="0" r="56859" b="0"/>
          <a:stretch/>
        </p:blipFill>
        <p:spPr>
          <a:xfrm>
            <a:off x="1403280" y="3881520"/>
            <a:ext cx="302436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549360"/>
            <a:ext cx="9144000" cy="6308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ОПТИЧЕСКИЕ ДИС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4076640"/>
            <a:ext cx="28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V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дис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692280"/>
            <a:ext cx="5616360" cy="3102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cc0066"/>
                </a:solidFill>
                <a:latin typeface="Arial"/>
              </a:rPr>
              <a:t>Оптические </a:t>
            </a:r>
            <a:r>
              <a:rPr b="0" lang="en-US" sz="1600" spc="-1" strike="noStrike">
                <a:solidFill>
                  <a:srgbClr val="cc0066"/>
                </a:solidFill>
                <a:latin typeface="Arial"/>
              </a:rPr>
              <a:t>CD </a:t>
            </a:r>
            <a:r>
              <a:rPr b="0" lang="ru-RU" sz="1600" spc="-1" strike="noStrike">
                <a:solidFill>
                  <a:srgbClr val="cc0066"/>
                </a:solidFill>
                <a:latin typeface="Arial"/>
              </a:rPr>
              <a:t>–диск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рассчитаны на использование </a:t>
            </a:r>
            <a:r>
              <a:rPr b="0" lang="ru-RU" sz="1600" spc="-1" strike="noStrike">
                <a:solidFill>
                  <a:srgbClr val="cc0066"/>
                </a:solidFill>
                <a:latin typeface="Arial"/>
              </a:rPr>
              <a:t>инфракрасного лазер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 длиной волны 780 нм и имеют информационную емкость 700 Мбай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Оптические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DVD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-диск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рассчитаны на использование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красного лазер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 длиной волны 650 нм и имеют информационную емкость от 4,7 Гбайт (однослойны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V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дис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 до 8,5 Гбайт (двухслойны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V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дис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Оптические диски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HD DVD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и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Blu-Ray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рассчитаны на использование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синего лазер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 длиной волны 405 нм и имеют информационную емкость в 3-5 раз превосходящую информационную емкость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V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дис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2781360" cy="3333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484360" y="3933720"/>
            <a:ext cx="2336760" cy="2735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-181080" y="6165720"/>
            <a:ext cx="259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днослойные и двухслойные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V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дис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219640" y="3933720"/>
            <a:ext cx="2737080" cy="27291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956720" y="638172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D DV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549360"/>
            <a:ext cx="9144000" cy="6308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ОПТИЧЕСКИЕ ДИС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300720" y="620640"/>
            <a:ext cx="2843280" cy="1797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дисках</a:t>
            </a:r>
            <a:r>
              <a:rPr b="0" lang="ru-RU" sz="16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Arial"/>
              </a:rPr>
              <a:t>CD </a:t>
            </a:r>
            <a:r>
              <a:rPr b="0" lang="ru-RU" sz="1600" spc="-1" strike="noStrike">
                <a:solidFill>
                  <a:srgbClr val="cc0066"/>
                </a:solidFill>
                <a:latin typeface="Arial"/>
              </a:rPr>
              <a:t>–</a:t>
            </a:r>
            <a:r>
              <a:rPr b="0" lang="en-US" sz="1600" spc="-1" strike="noStrike">
                <a:solidFill>
                  <a:srgbClr val="cc0066"/>
                </a:solidFill>
                <a:latin typeface="Arial"/>
              </a:rPr>
              <a:t>ROM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Arial"/>
              </a:rPr>
              <a:t>DVD-ROM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хранится информация, записанная на них в процессе изготовления. Запись на них новой информации невозможна.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3456000" cy="20462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427640" y="765000"/>
            <a:ext cx="1823760" cy="1800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500720" y="2708280"/>
            <a:ext cx="1726920" cy="1724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4500720" y="4724280"/>
            <a:ext cx="1833480" cy="18306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300720" y="2708280"/>
            <a:ext cx="2843280" cy="824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дисках</a:t>
            </a:r>
            <a:r>
              <a:rPr b="0" lang="ru-RU" sz="16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Arial"/>
              </a:rPr>
              <a:t>CD</a:t>
            </a:r>
            <a:r>
              <a:rPr b="0" lang="ru-RU" sz="1600" spc="-1" strike="noStrike">
                <a:solidFill>
                  <a:srgbClr val="cc0066"/>
                </a:solidFill>
                <a:latin typeface="Arial"/>
              </a:rPr>
              <a:t>–</a:t>
            </a:r>
            <a:r>
              <a:rPr b="0" lang="en-US" sz="1600" spc="-1" strike="noStrike">
                <a:solidFill>
                  <a:srgbClr val="cc0066"/>
                </a:solidFill>
                <a:latin typeface="Arial"/>
              </a:rPr>
              <a:t>R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Arial"/>
              </a:rPr>
              <a:t>DVD</a:t>
            </a:r>
            <a:r>
              <a:rPr b="0" lang="en-US" sz="1600" spc="-1" strike="noStrike">
                <a:solidFill>
                  <a:srgbClr val="cc0066"/>
                </a:solidFill>
                <a:latin typeface="Arial"/>
                <a:ea typeface="Arial"/>
              </a:rPr>
              <a:t>±</a:t>
            </a:r>
            <a:r>
              <a:rPr b="0" lang="en-US" sz="1600" spc="-1" strike="noStrike">
                <a:solidFill>
                  <a:srgbClr val="cc0066"/>
                </a:solidFill>
                <a:latin typeface="Arial"/>
              </a:rPr>
              <a:t>R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нформация может быть записана только раз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408720" y="4724280"/>
            <a:ext cx="2735280" cy="1437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дисках</a:t>
            </a:r>
            <a:r>
              <a:rPr b="0" lang="ru-RU" sz="16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Arial"/>
              </a:rPr>
              <a:t>CD </a:t>
            </a:r>
            <a:r>
              <a:rPr b="0" lang="ru-RU" sz="1600" spc="-1" strike="noStrike">
                <a:solidFill>
                  <a:srgbClr val="cc0066"/>
                </a:solidFill>
                <a:latin typeface="Arial"/>
              </a:rPr>
              <a:t>–</a:t>
            </a:r>
            <a:r>
              <a:rPr b="0" lang="en-US" sz="1600" spc="-1" strike="noStrike">
                <a:solidFill>
                  <a:srgbClr val="cc0066"/>
                </a:solidFill>
                <a:latin typeface="Arial"/>
              </a:rPr>
              <a:t>RW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0066"/>
                </a:solidFill>
                <a:latin typeface="Arial"/>
              </a:rPr>
              <a:t>DVD-RW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формация может быть записана и стерта многократ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549360"/>
            <a:ext cx="9144000" cy="6308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ОПТИЧЕСКИЕ ДИСКО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03640" y="620640"/>
            <a:ext cx="3961080" cy="363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тическ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V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дисководы используют лазер для чтения или записи информ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корость чтения/записи информации зависит от скорости вращения дис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ы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дисководы были односкоростными и обеспечивали скорость считывания информации 150 Кбайт/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временны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дисководы обеспечивают в 52 раза большую скорость чтения и запис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-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до 7,8 Мбайт/с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50920" y="3645000"/>
            <a:ext cx="4464000" cy="2643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79280" y="836640"/>
            <a:ext cx="4537080" cy="2219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003640" y="4648320"/>
            <a:ext cx="3961080" cy="1616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пись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-RW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исков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изводится на меньшей скорости, поэтому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исководы маркируются тремя числами «скорость запис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-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»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скорость запис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-RW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»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«скорость чтения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например, 4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549360"/>
            <a:ext cx="9144000" cy="6308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ОПТИЧЕСКИЕ ДИСКО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03640" y="620640"/>
            <a:ext cx="3889440" cy="3755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ы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VD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копители обеспечивали скорость считывания информации примерно 1,3 Мбайт/с. были односкоростными и обеспечивали скорость считывания информации 150 Кбайт/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временны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V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дисководы обеспечивают 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раз большую скорость чтения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байт/с), в 8 раз большую скорость запис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V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±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дисков и в 6 раз большую скорость запис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VD±RW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дис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VD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исководы маркируются тремя числами (например, 1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50920" y="4149720"/>
            <a:ext cx="4465440" cy="2195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50920" y="692280"/>
            <a:ext cx="4465440" cy="32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12:07:56Z</dcterms:created>
  <dc:creator>Razumov</dc:creator>
  <dc:description/>
  <dc:language>en-US</dc:language>
  <cp:lastModifiedBy>Доронин</cp:lastModifiedBy>
  <dcterms:modified xsi:type="dcterms:W3CDTF">2012-04-18T10:00:09Z</dcterms:modified>
  <cp:revision>23</cp:revision>
  <dc:subject/>
  <dc:title>Слайд 1</dc:title>
</cp:coreProperties>
</file>