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3.jpeg" ContentType="image/jpeg"/>
  <Override PartName="/ppt/media/image24.png" ContentType="image/png"/>
  <Override PartName="/ppt/media/image23.wmf" ContentType="image/x-wmf"/>
  <Override PartName="/ppt/media/image18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25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C583-B0C8-4A11-BA23-877972D08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4C68-3C96-4C6D-BCA6-2D63BC35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7C85-3683-4B42-9E7F-912BB9FB5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5B58-5733-478D-A0B7-E43E9523B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6AD80-2BBE-4865-A789-06C9BCF0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9D5EF-BBC8-4233-A6DB-DE44B2AE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219A1-5307-4457-9BD2-328290AB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0693A-2C69-485E-93AD-F1BF2598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A2928-9E44-44F6-B3BD-4DB7D960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2C23B-A11A-416B-9C55-C0D280ED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35D09-1443-4073-8AC4-A9CBCF2C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485C-D0F6-4634-B346-CB6BCA77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57454-D2B2-4BFB-90DD-4888FB09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F7AED-C690-4FE5-A859-99EA1E5A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99395-B4A4-4F15-BE77-BCF1B814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03641-AB84-43B5-8446-3759F52D1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02C39-C995-482E-928E-F3FB5C90E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9B33-2C55-429B-A931-01C52FB8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6760-5073-446C-A77F-B9771BDF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D578-BDA2-4C78-9037-10057A26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D7A9-0ECC-43EF-B806-13E8E70D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B241-BB81-4373-B05B-AEFF1D7B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CCFE-319F-4308-9AF5-25B45B0A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049A-112C-4F01-AD11-A3E19C23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6761-6EF7-4A09-8B73-977C650B3F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B1DC-CCD0-409C-B167-EE55B78316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258920" y="18446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600"/>
                </a:solidFill>
                <a:latin typeface="Tahoma"/>
              </a:rPr>
              <a:t>Устройства вывода информац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4211640" y="26028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20D8-DBB7-47AE-B5CC-6F4E22A43ACD}" type="datetime2">
              <a:rPr b="1" lang="en-US" sz="1800" spc="-1" strike="noStrike">
                <a:solidFill>
                  <a:srgbClr val="ffffff"/>
                </a:solidFill>
                <a:latin typeface="Arial"/>
              </a:rPr>
              <a:t>Wednesday, July 29, 20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448320" y="4857840"/>
            <a:ext cx="26956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260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Характеристики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матричных принтер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24000" y="1628640"/>
          <a:ext cx="8496000" cy="4507200"/>
        </p:xfrm>
        <a:graphic>
          <a:graphicData uri="http://schemas.openxmlformats.org/drawingml/2006/table">
            <a:tbl>
              <a:tblPr/>
              <a:tblGrid>
                <a:gridCol w="3600360"/>
                <a:gridCol w="4895640"/>
              </a:tblGrid>
              <a:tr h="135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Разрешение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600"/>
                      </a:solidFill>
                    </a:lnL>
                    <a:lnR w="18720">
                      <a:solidFill>
                        <a:srgbClr val="00c600"/>
                      </a:solidFill>
                    </a:lnR>
                    <a:lnT w="18720">
                      <a:solidFill>
                        <a:srgbClr val="00c600"/>
                      </a:solidFill>
                    </a:lnT>
                    <a:lnB w="18720">
                      <a:solidFill>
                        <a:srgbClr val="00c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2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72 – 3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6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dp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600"/>
                      </a:solidFill>
                    </a:lnL>
                    <a:lnR w="18720">
                      <a:solidFill>
                        <a:srgbClr val="00c600"/>
                      </a:solidFill>
                    </a:lnR>
                    <a:lnT w="18720">
                      <a:solidFill>
                        <a:srgbClr val="00c600"/>
                      </a:solidFill>
                    </a:lnT>
                    <a:lnB w="18720">
                      <a:solidFill>
                        <a:srgbClr val="00c6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Количество цветов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600"/>
                      </a:solidFill>
                    </a:lnL>
                    <a:lnR w="18720">
                      <a:solidFill>
                        <a:srgbClr val="00c600"/>
                      </a:solidFill>
                    </a:lnR>
                    <a:lnT w="18720">
                      <a:solidFill>
                        <a:srgbClr val="00c600"/>
                      </a:solidFill>
                    </a:lnT>
                    <a:lnB w="18720">
                      <a:solidFill>
                        <a:srgbClr val="00c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Один цвет (правда, есть матричные принтеры с многоцветной красящей лентой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600"/>
                      </a:solidFill>
                    </a:lnL>
                    <a:lnR w="18720">
                      <a:solidFill>
                        <a:srgbClr val="00c600"/>
                      </a:solidFill>
                    </a:lnR>
                    <a:lnT w="18720">
                      <a:solidFill>
                        <a:srgbClr val="00c600"/>
                      </a:solidFill>
                    </a:lnT>
                    <a:lnB w="18720">
                      <a:solidFill>
                        <a:srgbClr val="00c600"/>
                      </a:solidFill>
                    </a:lnB>
                    <a:noFill/>
                  </a:tcPr>
                </a:tc>
              </a:tr>
              <a:tr h="135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Быстродействие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600"/>
                      </a:solidFill>
                    </a:lnL>
                    <a:lnR w="18720">
                      <a:solidFill>
                        <a:srgbClr val="00c600"/>
                      </a:solidFill>
                    </a:lnR>
                    <a:lnT w="18720">
                      <a:solidFill>
                        <a:srgbClr val="00c600"/>
                      </a:solidFill>
                    </a:lnT>
                    <a:lnB w="18720">
                      <a:solidFill>
                        <a:srgbClr val="00c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Маленькое (до 1500 строк в минуту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600"/>
                      </a:solidFill>
                    </a:lnL>
                    <a:lnR w="18720">
                      <a:solidFill>
                        <a:srgbClr val="00c600"/>
                      </a:solidFill>
                    </a:lnR>
                    <a:lnT w="18720">
                      <a:solidFill>
                        <a:srgbClr val="00c600"/>
                      </a:solidFill>
                    </a:lnT>
                    <a:lnB w="18720">
                      <a:solidFill>
                        <a:srgbClr val="00c6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260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ОСТОИНСТВА и НЕДОСТАТКИ матричных принтер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24000" y="1628640"/>
          <a:ext cx="8497800" cy="4434120"/>
        </p:xfrm>
        <a:graphic>
          <a:graphicData uri="http://schemas.openxmlformats.org/drawingml/2006/table">
            <a:tbl>
              <a:tblPr/>
              <a:tblGrid>
                <a:gridCol w="4249800"/>
                <a:gridCol w="4248000"/>
              </a:tblGrid>
              <a:tr h="117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ДОСТОИНСТ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600"/>
                      </a:solidFill>
                    </a:lnL>
                    <a:lnR w="18720">
                      <a:solidFill>
                        <a:srgbClr val="00c600"/>
                      </a:solidFill>
                    </a:lnR>
                    <a:lnT w="18720">
                      <a:solidFill>
                        <a:srgbClr val="00c600"/>
                      </a:solidFill>
                    </a:lnT>
                    <a:lnB w="18720">
                      <a:solidFill>
                        <a:srgbClr val="00c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c600"/>
                          </a:solidFill>
                          <a:latin typeface="Tahoma"/>
                          <a:ea typeface="Arial"/>
                        </a:rPr>
                        <a:t>НЕДОСТАТ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600"/>
                      </a:solidFill>
                    </a:lnL>
                    <a:lnR w="18720">
                      <a:solidFill>
                        <a:srgbClr val="00c600"/>
                      </a:solidFill>
                    </a:lnR>
                    <a:lnT w="18720">
                      <a:solidFill>
                        <a:srgbClr val="00c600"/>
                      </a:solidFill>
                    </a:lnT>
                    <a:lnB w="18720">
                      <a:solidFill>
                        <a:srgbClr val="00c600"/>
                      </a:solidFill>
                    </a:lnB>
                    <a:noFill/>
                  </a:tcPr>
                </a:tc>
              </a:tr>
              <a:tr h="32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Невысокая цена самого принтера и расходных материалов.</a:t>
                      </a:r>
                      <a:br>
                        <a:rPr sz="2600"/>
                      </a:b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Возможность печати под копировальную кальку.</a:t>
                      </a:r>
                      <a:br>
                        <a:rPr sz="2600"/>
                      </a:b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Не требовательны к бумаге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600"/>
                      </a:solidFill>
                    </a:lnL>
                    <a:lnR w="18720">
                      <a:solidFill>
                        <a:srgbClr val="00c600"/>
                      </a:solidFill>
                    </a:lnR>
                    <a:lnT w="18720">
                      <a:solidFill>
                        <a:srgbClr val="00c600"/>
                      </a:solidFill>
                    </a:lnT>
                    <a:lnB w="18720">
                      <a:solidFill>
                        <a:srgbClr val="00c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Среднее качество печати.</a:t>
                      </a:r>
                      <a:br>
                        <a:rPr sz="2600"/>
                      </a:b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Высокий уровень шума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600"/>
                      </a:solidFill>
                    </a:lnL>
                    <a:lnR w="18720">
                      <a:solidFill>
                        <a:srgbClr val="00c600"/>
                      </a:solidFill>
                    </a:lnR>
                    <a:lnT w="18720">
                      <a:solidFill>
                        <a:srgbClr val="00c600"/>
                      </a:solidFill>
                    </a:lnT>
                    <a:lnB w="18720">
                      <a:solidFill>
                        <a:srgbClr val="00c6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503280" y="297000"/>
            <a:ext cx="8318520" cy="11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Impact"/>
              </a:rPr>
              <a:t>СТРУЙ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Impact"/>
              </a:rPr>
              <a:t>ПРИНТ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Impact"/>
              <a:ea typeface="Impact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39640" y="3687840"/>
            <a:ext cx="2916360" cy="2784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564000" y="1844640"/>
            <a:ext cx="2176560" cy="2195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5759280" y="3241800"/>
            <a:ext cx="3384720" cy="311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260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РИНЦИП РАБОТ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rcRect l="868" t="6344" r="1758" b="2286"/>
          <a:stretch/>
        </p:blipFill>
        <p:spPr>
          <a:xfrm>
            <a:off x="611280" y="1125360"/>
            <a:ext cx="7993080" cy="507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152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Характеристики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труйных принтер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24000" y="1557360"/>
          <a:ext cx="8532720" cy="4387680"/>
        </p:xfrm>
        <a:graphic>
          <a:graphicData uri="http://schemas.openxmlformats.org/drawingml/2006/table">
            <a:tbl>
              <a:tblPr/>
              <a:tblGrid>
                <a:gridCol w="3527280"/>
                <a:gridCol w="500544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Разрешение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600"/>
                      </a:solidFill>
                    </a:lnL>
                    <a:lnR w="18720">
                      <a:solidFill>
                        <a:srgbClr val="00c600"/>
                      </a:solidFill>
                    </a:lnR>
                    <a:lnT w="18720">
                      <a:solidFill>
                        <a:srgbClr val="00c600"/>
                      </a:solidFill>
                    </a:lnT>
                    <a:lnB w="18720">
                      <a:solidFill>
                        <a:srgbClr val="00c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До 1440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dpi</a:t>
                      </a: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600"/>
                      </a:solidFill>
                    </a:lnL>
                    <a:lnR w="18720">
                      <a:solidFill>
                        <a:srgbClr val="00c600"/>
                      </a:solidFill>
                    </a:lnR>
                    <a:lnT w="18720">
                      <a:solidFill>
                        <a:srgbClr val="00c600"/>
                      </a:solidFill>
                    </a:lnT>
                    <a:lnB w="18720">
                      <a:solidFill>
                        <a:srgbClr val="00c6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Количество цветов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600"/>
                      </a:solidFill>
                    </a:lnL>
                    <a:lnR w="18720">
                      <a:solidFill>
                        <a:srgbClr val="00c600"/>
                      </a:solidFill>
                    </a:lnR>
                    <a:lnT w="18720">
                      <a:solidFill>
                        <a:srgbClr val="00c600"/>
                      </a:solidFill>
                    </a:lnT>
                    <a:lnB w="18720">
                      <a:solidFill>
                        <a:srgbClr val="00c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Один цвет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(</a:t>
                      </a: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чёрный) или четыре цвета (модель печати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MYK</a:t>
                      </a: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600"/>
                      </a:solidFill>
                    </a:lnL>
                    <a:lnR w="18720">
                      <a:solidFill>
                        <a:srgbClr val="00c600"/>
                      </a:solidFill>
                    </a:lnR>
                    <a:lnT w="18720">
                      <a:solidFill>
                        <a:srgbClr val="00c600"/>
                      </a:solidFill>
                    </a:lnT>
                    <a:lnB w="18720">
                      <a:solidFill>
                        <a:srgbClr val="00c600"/>
                      </a:solidFill>
                    </a:lnB>
                    <a:noFill/>
                  </a:tcPr>
                </a:tc>
              </a:tr>
              <a:tr h="167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Быстродействие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600"/>
                      </a:solidFill>
                    </a:lnL>
                    <a:lnR w="18720">
                      <a:solidFill>
                        <a:srgbClr val="00c600"/>
                      </a:solidFill>
                    </a:lnR>
                    <a:lnT w="18720">
                      <a:solidFill>
                        <a:srgbClr val="00c600"/>
                      </a:solidFill>
                    </a:lnT>
                    <a:lnB w="18720">
                      <a:solidFill>
                        <a:srgbClr val="00c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Печать в режиме нормального качества составляет 3-4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pm</a:t>
                      </a: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. Цветная печать немного дольше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600"/>
                      </a:solidFill>
                    </a:lnL>
                    <a:lnR w="18720">
                      <a:solidFill>
                        <a:srgbClr val="00c600"/>
                      </a:solidFill>
                    </a:lnR>
                    <a:lnT w="18720">
                      <a:solidFill>
                        <a:srgbClr val="00c600"/>
                      </a:solidFill>
                    </a:lnT>
                    <a:lnB w="18720">
                      <a:solidFill>
                        <a:srgbClr val="00c6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503280" y="297000"/>
            <a:ext cx="8318520" cy="11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Impact"/>
              </a:rPr>
              <a:t>ЛАЗЕР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Impact"/>
              </a:rPr>
              <a:t>ПРИНТ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Impact"/>
              <a:ea typeface="Impact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564000" y="198900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826920" y="3021120"/>
            <a:ext cx="2033640" cy="18507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500720" y="4653000"/>
            <a:ext cx="1584000" cy="1266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6588000" y="2421000"/>
            <a:ext cx="1724040" cy="193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260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РИНЦИП РАБОТ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rcRect l="907" t="4760" r="884" b="1554"/>
          <a:stretch/>
        </p:blipFill>
        <p:spPr>
          <a:xfrm>
            <a:off x="395280" y="1773360"/>
            <a:ext cx="8209080" cy="479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115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Характеристики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лазерных принтер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4360" y="1557360"/>
          <a:ext cx="7920000" cy="4064040"/>
        </p:xfrm>
        <a:graphic>
          <a:graphicData uri="http://schemas.openxmlformats.org/drawingml/2006/table">
            <a:tbl>
              <a:tblPr/>
              <a:tblGrid>
                <a:gridCol w="3600360"/>
                <a:gridCol w="431964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Разрешение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600"/>
                      </a:solidFill>
                    </a:lnL>
                    <a:lnR w="18720">
                      <a:solidFill>
                        <a:srgbClr val="00c600"/>
                      </a:solidFill>
                    </a:lnR>
                    <a:lnT w="18720">
                      <a:solidFill>
                        <a:srgbClr val="00c600"/>
                      </a:solidFill>
                    </a:lnT>
                    <a:lnB w="18720">
                      <a:solidFill>
                        <a:srgbClr val="00c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600 – 1200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dp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600"/>
                      </a:solidFill>
                    </a:lnL>
                    <a:lnR w="18720">
                      <a:solidFill>
                        <a:srgbClr val="00c600"/>
                      </a:solidFill>
                    </a:lnR>
                    <a:lnT w="18720">
                      <a:solidFill>
                        <a:srgbClr val="00c600"/>
                      </a:solidFill>
                    </a:lnT>
                    <a:lnB w="18720">
                      <a:solidFill>
                        <a:srgbClr val="00c6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Количество цветов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600"/>
                      </a:solidFill>
                    </a:lnL>
                    <a:lnR w="18720">
                      <a:solidFill>
                        <a:srgbClr val="00c600"/>
                      </a:solidFill>
                    </a:lnR>
                    <a:lnT w="18720">
                      <a:solidFill>
                        <a:srgbClr val="00c600"/>
                      </a:solidFill>
                    </a:lnT>
                    <a:lnB w="18720">
                      <a:solidFill>
                        <a:srgbClr val="00c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Как правило одноцветная печа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600"/>
                      </a:solidFill>
                    </a:lnL>
                    <a:lnR w="18720">
                      <a:solidFill>
                        <a:srgbClr val="00c600"/>
                      </a:solidFill>
                    </a:lnR>
                    <a:lnT w="18720">
                      <a:solidFill>
                        <a:srgbClr val="00c600"/>
                      </a:solidFill>
                    </a:lnT>
                    <a:lnB w="18720">
                      <a:solidFill>
                        <a:srgbClr val="00c6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Быстродействие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600"/>
                      </a:solidFill>
                    </a:lnL>
                    <a:lnR w="18720">
                      <a:solidFill>
                        <a:srgbClr val="00c600"/>
                      </a:solidFill>
                    </a:lnR>
                    <a:lnT w="18720">
                      <a:solidFill>
                        <a:srgbClr val="00c600"/>
                      </a:solidFill>
                    </a:lnT>
                    <a:lnB w="18720">
                      <a:solidFill>
                        <a:srgbClr val="00c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2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p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c600"/>
                      </a:solidFill>
                    </a:lnL>
                    <a:lnR w="18720">
                      <a:solidFill>
                        <a:srgbClr val="00c600"/>
                      </a:solidFill>
                    </a:lnR>
                    <a:lnT w="18720">
                      <a:solidFill>
                        <a:srgbClr val="00c600"/>
                      </a:solidFill>
                    </a:lnT>
                    <a:lnB w="18720">
                      <a:solidFill>
                        <a:srgbClr val="00c6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448320" y="0"/>
            <a:ext cx="2695680" cy="20001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5283360"/>
            <a:ext cx="2158920" cy="1574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900000" y="2492280"/>
            <a:ext cx="77425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Impact"/>
              </a:rPr>
              <a:t>ПЛОТТ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Impact"/>
              <a:ea typeface="Impact"/>
            </a:endParaRPr>
          </a:p>
        </p:txBody>
      </p:sp>
      <p:sp>
        <p:nvSpPr>
          <p:cNvPr id="156" name=""/>
          <p:cNvSpPr/>
          <p:nvPr/>
        </p:nvSpPr>
        <p:spPr>
          <a:xfrm>
            <a:off x="826920" y="450864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Графопостроитель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79280" y="32544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Классификация плоттер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24000" y="2637000"/>
            <a:ext cx="8460000" cy="2952360"/>
            <a:chOff x="324000" y="2637000"/>
            <a:chExt cx="8460000" cy="2952360"/>
          </a:xfrm>
        </p:grpSpPr>
        <p:cxnSp>
          <p:nvCxnSpPr>
            <p:cNvPr id="159" name="_s29702"/>
            <p:cNvCxnSpPr>
              <a:stCxn id="160" idx="0"/>
              <a:endCxn id="161" idx="2"/>
            </p:cNvCxnSpPr>
            <p:nvPr/>
          </p:nvCxnSpPr>
          <p:spPr>
            <a:xfrm flipV="1" rot="16200000">
              <a:off x="6649200" y="4663080"/>
              <a:ext cx="369720" cy="5760"/>
            </a:xfrm>
            <a:prstGeom prst="bentConnector3">
              <a:avLst>
                <a:gd name="adj1" fmla="val 3099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2" name="_s29704"/>
            <p:cNvCxnSpPr>
              <a:stCxn id="163" idx="0"/>
              <a:endCxn id="164" idx="2"/>
            </p:cNvCxnSpPr>
            <p:nvPr/>
          </p:nvCxnSpPr>
          <p:spPr>
            <a:xfrm flipV="1" rot="16200000">
              <a:off x="2093760" y="4663080"/>
              <a:ext cx="369720" cy="5760"/>
            </a:xfrm>
            <a:prstGeom prst="bentConnector3">
              <a:avLst>
                <a:gd name="adj1" fmla="val 3099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5" name="_s29705"/>
            <p:cNvCxnSpPr>
              <a:stCxn id="161" idx="0"/>
              <a:endCxn id="166" idx="2"/>
            </p:cNvCxnSpPr>
            <p:nvPr/>
          </p:nvCxnSpPr>
          <p:spPr>
            <a:xfrm flipV="1" rot="16200000">
              <a:off x="5508000" y="2420280"/>
              <a:ext cx="369720" cy="2277720"/>
            </a:xfrm>
            <a:prstGeom prst="bentConnector3">
              <a:avLst>
                <a:gd name="adj1" fmla="val 3089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7" name="_s29707"/>
            <p:cNvCxnSpPr>
              <a:stCxn id="164" idx="0"/>
              <a:endCxn id="166" idx="2"/>
            </p:cNvCxnSpPr>
            <p:nvPr/>
          </p:nvCxnSpPr>
          <p:spPr>
            <a:xfrm flipH="1" flipV="1" rot="5400000">
              <a:off x="3230640" y="2419920"/>
              <a:ext cx="369720" cy="2278800"/>
            </a:xfrm>
            <a:prstGeom prst="bentConnector3">
              <a:avLst>
                <a:gd name="adj1" fmla="val 3089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66" name="_s29708"/>
            <p:cNvSpPr/>
            <p:nvPr/>
          </p:nvSpPr>
          <p:spPr>
            <a:xfrm>
              <a:off x="2602080" y="2637000"/>
              <a:ext cx="3904560" cy="738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ПЛОТТЕР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_s29709"/>
            <p:cNvSpPr/>
            <p:nvPr/>
          </p:nvSpPr>
          <p:spPr>
            <a:xfrm>
              <a:off x="324000" y="3744000"/>
              <a:ext cx="3904560" cy="738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Планшетны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_s29711"/>
            <p:cNvSpPr/>
            <p:nvPr/>
          </p:nvSpPr>
          <p:spPr>
            <a:xfrm>
              <a:off x="4879440" y="3744000"/>
              <a:ext cx="3904560" cy="738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Рулонные (барабанные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_s29712"/>
            <p:cNvSpPr/>
            <p:nvPr/>
          </p:nvSpPr>
          <p:spPr>
            <a:xfrm>
              <a:off x="329040" y="4851360"/>
              <a:ext cx="3899520" cy="738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Пишущий узел перемещается в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плоскости над неподвижной бумаго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_s29714"/>
            <p:cNvSpPr/>
            <p:nvPr/>
          </p:nvSpPr>
          <p:spPr>
            <a:xfrm>
              <a:off x="4884480" y="4851360"/>
              <a:ext cx="3899520" cy="738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Лист бумаги перемещается, а пишущий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узел двигается по одной лини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826920" y="2637000"/>
            <a:ext cx="7742520" cy="10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Impact"/>
              </a:rPr>
              <a:t>ПРИНТ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Impact"/>
              <a:ea typeface="Impact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87280" y="447840"/>
            <a:ext cx="2124000" cy="1736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31640" y="4616280"/>
            <a:ext cx="2073600" cy="1481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838920" y="4400640"/>
            <a:ext cx="2305080" cy="21193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6012000" y="404640"/>
            <a:ext cx="2519280" cy="1589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2987640" y="4078440"/>
            <a:ext cx="334476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476360" y="1844640"/>
            <a:ext cx="6597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9280" y="32544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Классификация плоттеров по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типу пишущего уз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24000" y="2637000"/>
            <a:ext cx="8460000" cy="2952360"/>
            <a:chOff x="324000" y="2637000"/>
            <a:chExt cx="8460000" cy="2952360"/>
          </a:xfrm>
        </p:grpSpPr>
        <p:cxnSp>
          <p:nvCxnSpPr>
            <p:cNvPr id="171" name="_s31749"/>
            <p:cNvCxnSpPr>
              <a:stCxn id="172" idx="0"/>
              <a:endCxn id="173" idx="2"/>
            </p:cNvCxnSpPr>
            <p:nvPr/>
          </p:nvCxnSpPr>
          <p:spPr>
            <a:xfrm flipV="1" rot="16200000">
              <a:off x="6649200" y="4663080"/>
              <a:ext cx="369720" cy="5760"/>
            </a:xfrm>
            <a:prstGeom prst="bentConnector3">
              <a:avLst>
                <a:gd name="adj1" fmla="val 3099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4" name="_s31750"/>
            <p:cNvCxnSpPr>
              <a:stCxn id="175" idx="0"/>
              <a:endCxn id="176" idx="2"/>
            </p:cNvCxnSpPr>
            <p:nvPr/>
          </p:nvCxnSpPr>
          <p:spPr>
            <a:xfrm flipV="1" rot="16200000">
              <a:off x="2093760" y="4663080"/>
              <a:ext cx="369720" cy="5760"/>
            </a:xfrm>
            <a:prstGeom prst="bentConnector3">
              <a:avLst>
                <a:gd name="adj1" fmla="val 3099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7" name="_s31751"/>
            <p:cNvCxnSpPr>
              <a:stCxn id="173" idx="0"/>
              <a:endCxn id="178" idx="2"/>
            </p:cNvCxnSpPr>
            <p:nvPr/>
          </p:nvCxnSpPr>
          <p:spPr>
            <a:xfrm flipV="1" rot="16200000">
              <a:off x="5508000" y="2420280"/>
              <a:ext cx="369720" cy="2277720"/>
            </a:xfrm>
            <a:prstGeom prst="bentConnector3">
              <a:avLst>
                <a:gd name="adj1" fmla="val 3089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9" name="_s31752"/>
            <p:cNvCxnSpPr>
              <a:stCxn id="176" idx="0"/>
              <a:endCxn id="178" idx="2"/>
            </p:cNvCxnSpPr>
            <p:nvPr/>
          </p:nvCxnSpPr>
          <p:spPr>
            <a:xfrm flipH="1" flipV="1" rot="5400000">
              <a:off x="3230640" y="2419920"/>
              <a:ext cx="369720" cy="2278800"/>
            </a:xfrm>
            <a:prstGeom prst="bentConnector3">
              <a:avLst>
                <a:gd name="adj1" fmla="val 3089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8" name="_s31753"/>
            <p:cNvSpPr/>
            <p:nvPr/>
          </p:nvSpPr>
          <p:spPr>
            <a:xfrm>
              <a:off x="2602080" y="2637000"/>
              <a:ext cx="3904560" cy="738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ПЛОТТЕР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_s31754"/>
            <p:cNvSpPr/>
            <p:nvPr/>
          </p:nvSpPr>
          <p:spPr>
            <a:xfrm>
              <a:off x="324000" y="3744000"/>
              <a:ext cx="3904560" cy="738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Перьевы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_s31755"/>
            <p:cNvSpPr/>
            <p:nvPr/>
          </p:nvSpPr>
          <p:spPr>
            <a:xfrm>
              <a:off x="4879440" y="3744000"/>
              <a:ext cx="3904560" cy="738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Режущи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_s31756"/>
            <p:cNvSpPr/>
            <p:nvPr/>
          </p:nvSpPr>
          <p:spPr>
            <a:xfrm>
              <a:off x="329040" y="4851360"/>
              <a:ext cx="3899520" cy="738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Чернильное перо, фломастер,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шариковое перо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_s31757"/>
            <p:cNvSpPr/>
            <p:nvPr/>
          </p:nvSpPr>
          <p:spPr>
            <a:xfrm>
              <a:off x="4884480" y="4851360"/>
              <a:ext cx="3899520" cy="738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Резак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Основные пользовательские характеристики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50560" y="2636640"/>
            <a:ext cx="856908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3650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Максимальный размер изображения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3650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Допустимые типы и ширина линий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3650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Набор используемых шриф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3650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Скорость рисо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рограммная поддерж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560" y="1752480"/>
            <a:ext cx="85690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6397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oC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6397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chiC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6397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граммы систем автоматизированного проектирования, которые и формируют управляющее воздействие перемещения пишущего узл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900000" y="2492280"/>
            <a:ext cx="77425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Impact"/>
              </a:rPr>
              <a:t>АКУСТИЧЕСК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Impact"/>
              </a:rPr>
              <a:t>СИСТЕ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Impact"/>
              <a:ea typeface="Impact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826920" y="4365720"/>
            <a:ext cx="1825920" cy="1511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6877080" y="260280"/>
            <a:ext cx="170496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Основные пользовательские характеристики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560" y="2060640"/>
            <a:ext cx="8569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3650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Количество колонок и динами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3650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Tahoma"/>
              </a:rPr>
              <a:t>Выходная мощность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– зависит от технических характеристик усилителя и динамиков (для индивидуального прослушивания достаточно мощности 10 Вт, для аудитории – 30 Вт на канал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3650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Диапазон воспроизводимых часто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7012080" y="0"/>
            <a:ext cx="213192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227640" y="1628640"/>
            <a:ext cx="2695680" cy="2000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9280" y="32544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Классификация принтеров по способу формирования изображ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95280" y="3068640"/>
            <a:ext cx="8460720" cy="2952360"/>
            <a:chOff x="395280" y="3068640"/>
            <a:chExt cx="8460720" cy="2952360"/>
          </a:xfrm>
        </p:grpSpPr>
        <p:cxnSp>
          <p:nvCxnSpPr>
            <p:cNvPr id="95" name="_s14341"/>
            <p:cNvCxnSpPr>
              <a:stCxn id="96" idx="0"/>
              <a:endCxn id="97" idx="2"/>
            </p:cNvCxnSpPr>
            <p:nvPr/>
          </p:nvCxnSpPr>
          <p:spPr>
            <a:xfrm flipV="1" rot="16200000">
              <a:off x="7403400" y="5095800"/>
              <a:ext cx="369720" cy="3960"/>
            </a:xfrm>
            <a:prstGeom prst="bentConnector3">
              <a:avLst>
                <a:gd name="adj1" fmla="val 3099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8" name="_s14342"/>
            <p:cNvCxnSpPr>
              <a:stCxn id="99" idx="0"/>
              <a:endCxn id="100" idx="2"/>
            </p:cNvCxnSpPr>
            <p:nvPr/>
          </p:nvCxnSpPr>
          <p:spPr>
            <a:xfrm flipV="1">
              <a:off x="4628520" y="4912920"/>
              <a:ext cx="3240" cy="369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1" name="_s14343"/>
            <p:cNvCxnSpPr>
              <a:stCxn id="102" idx="0"/>
              <a:endCxn id="103" idx="2"/>
            </p:cNvCxnSpPr>
            <p:nvPr/>
          </p:nvCxnSpPr>
          <p:spPr>
            <a:xfrm flipV="1" rot="16200000">
              <a:off x="1480680" y="5095800"/>
              <a:ext cx="369720" cy="3960"/>
            </a:xfrm>
            <a:prstGeom prst="bentConnector3">
              <a:avLst>
                <a:gd name="adj1" fmla="val 3099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4" name="_s14344"/>
            <p:cNvCxnSpPr>
              <a:stCxn id="97" idx="0"/>
              <a:endCxn id="105" idx="2"/>
            </p:cNvCxnSpPr>
            <p:nvPr/>
          </p:nvCxnSpPr>
          <p:spPr>
            <a:xfrm flipV="1" rot="16200000">
              <a:off x="5922720" y="2511360"/>
              <a:ext cx="369720" cy="2958480"/>
            </a:xfrm>
            <a:prstGeom prst="bentConnector3">
              <a:avLst>
                <a:gd name="adj1" fmla="val 3089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6" name="_s14345"/>
            <p:cNvCxnSpPr>
              <a:stCxn id="100" idx="0"/>
              <a:endCxn id="105" idx="2"/>
            </p:cNvCxnSpPr>
            <p:nvPr/>
          </p:nvCxnSpPr>
          <p:spPr>
            <a:xfrm flipV="1">
              <a:off x="4628520" y="3805920"/>
              <a:ext cx="3240" cy="369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7" name="_s14346"/>
            <p:cNvCxnSpPr>
              <a:stCxn id="103" idx="0"/>
              <a:endCxn id="105" idx="2"/>
            </p:cNvCxnSpPr>
            <p:nvPr/>
          </p:nvCxnSpPr>
          <p:spPr>
            <a:xfrm flipH="1" flipV="1" rot="5400000">
              <a:off x="2961720" y="2508120"/>
              <a:ext cx="369720" cy="2965320"/>
            </a:xfrm>
            <a:prstGeom prst="bentConnector3">
              <a:avLst>
                <a:gd name="adj1" fmla="val 3089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5" name="_s14347"/>
            <p:cNvSpPr/>
            <p:nvPr/>
          </p:nvSpPr>
          <p:spPr>
            <a:xfrm>
              <a:off x="3356640" y="3068640"/>
              <a:ext cx="2538000" cy="738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ПРИНТЕРЫ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_s14348"/>
            <p:cNvSpPr/>
            <p:nvPr/>
          </p:nvSpPr>
          <p:spPr>
            <a:xfrm>
              <a:off x="395280" y="4175640"/>
              <a:ext cx="2538000" cy="738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Последовательные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_s14349"/>
            <p:cNvSpPr/>
            <p:nvPr/>
          </p:nvSpPr>
          <p:spPr>
            <a:xfrm>
              <a:off x="3356640" y="4175640"/>
              <a:ext cx="2538000" cy="738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Строчные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_s14350"/>
            <p:cNvSpPr/>
            <p:nvPr/>
          </p:nvSpPr>
          <p:spPr>
            <a:xfrm>
              <a:off x="6318000" y="4175640"/>
              <a:ext cx="2538000" cy="738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Страничные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_s14351"/>
            <p:cNvSpPr/>
            <p:nvPr/>
          </p:nvSpPr>
          <p:spPr>
            <a:xfrm>
              <a:off x="398520" y="5283000"/>
              <a:ext cx="2534760" cy="738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Verdana"/>
                </a:rPr>
                <a:t>Документ формируется </a:t>
              </a:r>
              <a:br>
                <a:rPr sz="1500"/>
              </a:br>
              <a:r>
                <a:rPr b="0" lang="en-US" sz="1500" spc="-1" strike="noStrike">
                  <a:solidFill>
                    <a:srgbClr val="ffffff"/>
                  </a:solidFill>
                  <a:latin typeface="Verdana"/>
                </a:rPr>
                <a:t>символ за символом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_s14352"/>
            <p:cNvSpPr/>
            <p:nvPr/>
          </p:nvSpPr>
          <p:spPr>
            <a:xfrm>
              <a:off x="3359880" y="5283000"/>
              <a:ext cx="2534760" cy="738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Verdana"/>
                </a:rPr>
                <a:t>Формируется строка </a:t>
              </a:r>
              <a:br>
                <a:rPr sz="1500"/>
              </a:br>
              <a:r>
                <a:rPr b="0" lang="en-US" sz="1500" spc="-1" strike="noStrike">
                  <a:solidFill>
                    <a:srgbClr val="ffffff"/>
                  </a:solidFill>
                  <a:latin typeface="Verdana"/>
                </a:rPr>
                <a:t>целиком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14353"/>
            <p:cNvSpPr/>
            <p:nvPr/>
          </p:nvSpPr>
          <p:spPr>
            <a:xfrm>
              <a:off x="6321240" y="5283000"/>
              <a:ext cx="2534760" cy="738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Verdana"/>
                </a:rPr>
                <a:t>Формируется страница</a:t>
              </a:r>
              <a:br>
                <a:rPr sz="1500"/>
              </a:br>
              <a:r>
                <a:rPr b="0" lang="en-US" sz="1500" spc="-1" strike="noStrike">
                  <a:solidFill>
                    <a:srgbClr val="ffffff"/>
                  </a:solidFill>
                  <a:latin typeface="Verdana"/>
                </a:rPr>
                <a:t>целиком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32544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Классификация принтеров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 способу печа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95280" y="2349360"/>
            <a:ext cx="8460720" cy="2952000"/>
            <a:chOff x="395280" y="2349360"/>
            <a:chExt cx="8460720" cy="2952000"/>
          </a:xfrm>
        </p:grpSpPr>
        <p:cxnSp>
          <p:nvCxnSpPr>
            <p:cNvPr id="110" name="_s15365"/>
            <p:cNvCxnSpPr>
              <a:stCxn id="111" idx="0"/>
              <a:endCxn id="112" idx="2"/>
            </p:cNvCxnSpPr>
            <p:nvPr/>
          </p:nvCxnSpPr>
          <p:spPr>
            <a:xfrm flipV="1" rot="16200000">
              <a:off x="5469480" y="2683440"/>
              <a:ext cx="591120" cy="2283120"/>
            </a:xfrm>
            <a:prstGeom prst="bentConnector3">
              <a:avLst>
                <a:gd name="adj1" fmla="val 193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5366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3190680" y="2687400"/>
              <a:ext cx="591120" cy="2275920"/>
            </a:xfrm>
            <a:prstGeom prst="bentConnector3">
              <a:avLst>
                <a:gd name="adj1" fmla="val 193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5367"/>
            <p:cNvSpPr/>
            <p:nvPr/>
          </p:nvSpPr>
          <p:spPr>
            <a:xfrm>
              <a:off x="2670480" y="2349360"/>
              <a:ext cx="3906720" cy="11808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Verdana"/>
                </a:rPr>
                <a:t>ПРИНТЕРЫ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5368"/>
            <p:cNvSpPr/>
            <p:nvPr/>
          </p:nvSpPr>
          <p:spPr>
            <a:xfrm>
              <a:off x="395280" y="4120560"/>
              <a:ext cx="3906720" cy="11808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ffffff"/>
                  </a:solidFill>
                  <a:latin typeface="Verdana"/>
                </a:rPr>
                <a:t>устройства </a:t>
              </a:r>
              <a:br>
                <a:rPr sz="2300"/>
              </a:br>
              <a:r>
                <a:rPr b="1" lang="ru-RU" sz="2300" spc="-1" strike="noStrike">
                  <a:solidFill>
                    <a:srgbClr val="ffffff"/>
                  </a:solidFill>
                  <a:latin typeface="Verdana"/>
                </a:rPr>
                <a:t>ударного действия</a:t>
              </a:r>
              <a:br>
                <a:rPr sz="2300"/>
              </a:br>
              <a:r>
                <a:rPr b="0" i="1" lang="en-US" sz="2300" spc="-1" strike="noStrike">
                  <a:solidFill>
                    <a:srgbClr val="ffffff"/>
                  </a:solidFill>
                  <a:latin typeface="Verdana"/>
                </a:rPr>
                <a:t>(impact</a:t>
              </a:r>
              <a:r>
                <a:rPr b="0" i="1" lang="ru-RU" sz="2300" spc="-1" strike="noStrike">
                  <a:solidFill>
                    <a:srgbClr val="ffffff"/>
                  </a:solidFill>
                  <a:latin typeface="Verdana"/>
                </a:rPr>
                <a:t>)</a:t>
              </a:r>
              <a:r>
                <a:rPr b="0" lang="ru-RU" sz="23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15369"/>
            <p:cNvSpPr/>
            <p:nvPr/>
          </p:nvSpPr>
          <p:spPr>
            <a:xfrm>
              <a:off x="4953240" y="4120560"/>
              <a:ext cx="3902760" cy="11808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ffffff"/>
                  </a:solidFill>
                  <a:latin typeface="Verdana"/>
                </a:rPr>
                <a:t>устройства </a:t>
              </a:r>
              <a:br>
                <a:rPr sz="2300"/>
              </a:br>
              <a:r>
                <a:rPr b="1" lang="ru-RU" sz="2300" spc="-1" strike="noStrike">
                  <a:solidFill>
                    <a:srgbClr val="ffffff"/>
                  </a:solidFill>
                  <a:latin typeface="Verdana"/>
                </a:rPr>
                <a:t>безударного действия</a:t>
              </a:r>
              <a:br>
                <a:rPr sz="2300"/>
              </a:br>
              <a:r>
                <a:rPr b="0" i="1" lang="en-US" sz="2300" spc="-1" strike="noStrike">
                  <a:solidFill>
                    <a:srgbClr val="ffffff"/>
                  </a:solidFill>
                  <a:latin typeface="Verdana"/>
                </a:rPr>
                <a:t>(nonimpact</a:t>
              </a:r>
              <a:r>
                <a:rPr b="0" i="1" lang="ru-RU" sz="2300" spc="-1" strike="noStrike">
                  <a:solidFill>
                    <a:srgbClr val="ffffff"/>
                  </a:solidFill>
                  <a:latin typeface="Verdana"/>
                </a:rPr>
                <a:t>)</a:t>
              </a:r>
              <a:r>
                <a:rPr b="0" lang="ru-RU" sz="23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79280" y="32544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Классификация принтеров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 количеству цвет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95280" y="2349360"/>
            <a:ext cx="8460720" cy="2952000"/>
            <a:chOff x="395280" y="2349360"/>
            <a:chExt cx="8460720" cy="2952000"/>
          </a:xfrm>
        </p:grpSpPr>
        <p:cxnSp>
          <p:nvCxnSpPr>
            <p:cNvPr id="117" name="_s16389"/>
            <p:cNvCxnSpPr>
              <a:stCxn id="118" idx="0"/>
              <a:endCxn id="119" idx="2"/>
            </p:cNvCxnSpPr>
            <p:nvPr/>
          </p:nvCxnSpPr>
          <p:spPr>
            <a:xfrm flipV="1" rot="16200000">
              <a:off x="5469480" y="2683440"/>
              <a:ext cx="591120" cy="2283120"/>
            </a:xfrm>
            <a:prstGeom prst="bentConnector3">
              <a:avLst>
                <a:gd name="adj1" fmla="val 193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0" name="_s16390"/>
            <p:cNvCxnSpPr>
              <a:stCxn id="121" idx="0"/>
              <a:endCxn id="119" idx="2"/>
            </p:cNvCxnSpPr>
            <p:nvPr/>
          </p:nvCxnSpPr>
          <p:spPr>
            <a:xfrm flipH="1" flipV="1" rot="5400000">
              <a:off x="3190680" y="2687400"/>
              <a:ext cx="591120" cy="2275920"/>
            </a:xfrm>
            <a:prstGeom prst="bentConnector3">
              <a:avLst>
                <a:gd name="adj1" fmla="val 193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9" name="_s16391"/>
            <p:cNvSpPr/>
            <p:nvPr/>
          </p:nvSpPr>
          <p:spPr>
            <a:xfrm>
              <a:off x="2670480" y="2349360"/>
              <a:ext cx="3906720" cy="11808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ПРИНТЕР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_s16392"/>
            <p:cNvSpPr/>
            <p:nvPr/>
          </p:nvSpPr>
          <p:spPr>
            <a:xfrm>
              <a:off x="395280" y="4120560"/>
              <a:ext cx="3906720" cy="11808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Черно – белые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_s16393"/>
            <p:cNvSpPr/>
            <p:nvPr/>
          </p:nvSpPr>
          <p:spPr>
            <a:xfrm>
              <a:off x="4953240" y="4120560"/>
              <a:ext cx="3902760" cy="11808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Цветные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9280" y="32544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Классификация принтеров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 технологии печа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атрич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труй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Лазер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D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принтеры (светодиодны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интеры с изменением фазы красител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интеры с термосублимаци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интеры с термопереносом восковой маст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Основные пользовательские характеристики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85690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90680" indent="335520">
              <a:lnSpc>
                <a:spcPct val="80000"/>
              </a:lnSpc>
              <a:spcBef>
                <a:spcPts val="938"/>
              </a:spcBef>
              <a:buClr>
                <a:srgbClr val="ffffff"/>
              </a:buClr>
              <a:buFont typeface="Wingdings" charset="2"/>
              <a:buChar char="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0000"/>
                </a:solidFill>
                <a:latin typeface="Tahoma"/>
              </a:rPr>
              <a:t>Разрешение</a:t>
            </a:r>
            <a:r>
              <a:rPr b="0" i="1" lang="ru-RU" sz="2500" spc="-1" strike="noStrike">
                <a:solidFill>
                  <a:srgbClr val="ffffff"/>
                </a:solidFill>
                <a:latin typeface="Tahoma"/>
              </a:rPr>
              <a:t> – величина самых мелких деталей изображения, передаваемых при печати без искажений</a:t>
            </a: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. Измеряется в </a:t>
            </a:r>
            <a:r>
              <a:rPr b="0" i="1" lang="en-US" sz="2500" spc="-1" strike="noStrike">
                <a:solidFill>
                  <a:srgbClr val="ff0000"/>
                </a:solidFill>
                <a:latin typeface="Tahoma"/>
              </a:rPr>
              <a:t>dpi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Tahoma"/>
              </a:rPr>
              <a:t>(dot per inch)</a:t>
            </a: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i="1" lang="ru-RU" sz="2500" spc="-1" strike="noStrike">
                <a:solidFill>
                  <a:srgbClr val="ffffff"/>
                </a:solidFill>
                <a:latin typeface="Tahoma"/>
              </a:rPr>
              <a:t>числе наносимых отдельных точек красителя на дюйм бумаги</a:t>
            </a: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90680" indent="335520">
              <a:lnSpc>
                <a:spcPct val="80000"/>
              </a:lnSpc>
              <a:spcBef>
                <a:spcPts val="938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0000"/>
                </a:solidFill>
                <a:latin typeface="Tahoma"/>
              </a:rPr>
              <a:t>Количество цветов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90680" indent="335520">
              <a:lnSpc>
                <a:spcPct val="80000"/>
              </a:lnSpc>
              <a:spcBef>
                <a:spcPts val="938"/>
              </a:spcBef>
              <a:buClr>
                <a:srgbClr val="ffffff"/>
              </a:buClr>
              <a:buFont typeface="Wingdings" charset="2"/>
              <a:buChar char="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0000"/>
                </a:solidFill>
                <a:latin typeface="Tahoma"/>
              </a:rPr>
              <a:t>Быстродействие</a:t>
            </a:r>
            <a:r>
              <a:rPr b="0" i="1" lang="ru-RU" sz="2500" spc="-1" strike="noStrike">
                <a:solidFill>
                  <a:srgbClr val="ffffff"/>
                </a:solidFill>
                <a:latin typeface="Tahoma"/>
              </a:rPr>
              <a:t> – количество знаков или страниц, распечатываемых за секунду или минуту. 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Измеряется для матричных принтеров в </a:t>
            </a:r>
            <a:r>
              <a:rPr b="0" i="1" lang="en-US" sz="2500" spc="-1" strike="noStrike">
                <a:solidFill>
                  <a:srgbClr val="ff0000"/>
                </a:solidFill>
                <a:latin typeface="Tahoma"/>
              </a:rPr>
              <a:t>cps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Tahoma"/>
              </a:rPr>
              <a:t>(character per second)</a:t>
            </a: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i="1" lang="ru-RU" sz="2500" spc="-1" strike="noStrike">
                <a:solidFill>
                  <a:srgbClr val="ffffff"/>
                </a:solidFill>
                <a:latin typeface="Tahoma"/>
              </a:rPr>
              <a:t>числе символов, печатаемых в секунду, </a:t>
            </a: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для струйных и лазерных принтеров в </a:t>
            </a:r>
            <a:r>
              <a:rPr b="0" i="1" lang="en-US" sz="2500" spc="-1" strike="noStrike">
                <a:solidFill>
                  <a:srgbClr val="ff0000"/>
                </a:solidFill>
                <a:latin typeface="Tahoma"/>
              </a:rPr>
              <a:t>ppm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Tahoma"/>
              </a:rPr>
              <a:t>(pages per minute)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i="1" lang="ru-RU" sz="2500" spc="-1" strike="noStrike">
                <a:solidFill>
                  <a:srgbClr val="ffffff"/>
                </a:solidFill>
                <a:latin typeface="Tahoma"/>
              </a:rPr>
              <a:t>числе страниц, печатаемых в минуту</a:t>
            </a: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90680" indent="335520">
              <a:lnSpc>
                <a:spcPct val="80000"/>
              </a:lnSpc>
              <a:spcBef>
                <a:spcPts val="938"/>
              </a:spcBef>
              <a:buClr>
                <a:srgbClr val="ffffff"/>
              </a:buClr>
              <a:buFont typeface="Wingdings" charset="2"/>
              <a:buChar char="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0000"/>
                </a:solidFill>
                <a:latin typeface="Tahoma"/>
              </a:rPr>
              <a:t>Объем памяти</a:t>
            </a: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 – внутренняя память (буфер), чем больше тем лучше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90680" indent="0">
              <a:lnSpc>
                <a:spcPct val="80000"/>
              </a:lnSpc>
              <a:spcBef>
                <a:spcPts val="938"/>
              </a:spcBef>
              <a:buNone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859280" y="2919240"/>
            <a:ext cx="4284720" cy="3938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24000" y="1844640"/>
            <a:ext cx="1971360" cy="4735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503280" y="297000"/>
            <a:ext cx="8318520" cy="11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Impact"/>
              </a:rPr>
              <a:t>МАТРИЧ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Impact"/>
              </a:rPr>
              <a:t>ПРИНТ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Impact"/>
              <a:ea typeface="Impact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rcRect l="0" t="41073" r="48106" b="17771"/>
          <a:stretch/>
        </p:blipFill>
        <p:spPr>
          <a:xfrm>
            <a:off x="2340000" y="2924280"/>
            <a:ext cx="2987640" cy="183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260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РИНЦИП РАБОТ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rcRect l="966" t="4459" r="1456" b="1295"/>
          <a:stretch/>
        </p:blipFill>
        <p:spPr>
          <a:xfrm>
            <a:off x="952560" y="1233360"/>
            <a:ext cx="7237440" cy="49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3T03:23:31Z</dcterms:created>
  <dc:creator>Усольцева Э.М. Преподаватель информатики ГОУ НПО КПУ</dc:creator>
  <dc:description/>
  <dc:language>en-US</dc:language>
  <cp:lastModifiedBy>Доронин</cp:lastModifiedBy>
  <dcterms:modified xsi:type="dcterms:W3CDTF">2012-04-18T07:37:44Z</dcterms:modified>
  <cp:revision>32</cp:revision>
  <dc:subject/>
  <dc:title>Периферийные устройства</dc:title>
</cp:coreProperties>
</file>