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DB7-D678-44E4-ADBA-E199E26F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7AFB-3A59-4303-8641-22AF7A19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64E3-E04A-4C09-80EB-A89543C3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B5E-55E3-4804-84BA-D8CBF8EE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D0FD-A171-45A6-9FB2-C487DD42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B1C-D58F-4117-BDEF-56E0898B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ADE-DEA8-4E8A-814E-4E3462EF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66AF-1CD8-4425-99AC-C3E4E90A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611B-07BA-4BBC-AA0D-C9905DE8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327F-B18C-44FF-8C17-15F9A74C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287-6F8C-4FC6-8E57-FDE44E4E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1314-BFD5-44FC-A700-4EE04377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920F-38C6-4EA8-9FEA-1E5D40D04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0280"/>
            <a:ext cx="9144000" cy="64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0728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Флэш-памя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ФЛЭШ-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765000"/>
            <a:ext cx="8642160" cy="1608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лэш-памя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упроводников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нергонезависим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ерезаписываем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м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ние флэш-памяти было дано во время разработки первых микросхем (в начале 1980-х годов) ка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истика скорости стир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лэш-памяти (от англ.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- в мгновение о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2924280" cy="3724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56000" y="2637000"/>
            <a:ext cx="417672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ПРИНЦИП ЗАПИСИ И СЧИТЫВАНИЯ ИНФОРМАЦИИ НА КАРТАХ ФЛЭШ-ПАМЯ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981000"/>
            <a:ext cx="8785440" cy="2040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флэш-памяти для записи и считывания информации используются электрические сигна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ая ячейка флэш-памяти хран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ин би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нформации и состоит из одного полевого транзистора со специальной электрически изолированной областью – «плавающим» затво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жной особенностью плавающего затвора является способность удерживать электроны, то есть заряд. Наличие или отсутствие заряда на плавающем затворе определяет характер информации, хранящейся в ячейке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29080" y="3213000"/>
            <a:ext cx="38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ис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анных на управляющий затвор подается положительное напряжение и электроны в результате эффекта туннелирования попадают на плавающий затвор. На нем они могут храниться в течение нескольких л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ира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нформации на управляющий затвор подается высокое отрицательное напряжение, и электроны с плавающего затвора переходят (туннелируют) на ист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3284640"/>
            <a:ext cx="5435640" cy="2782800"/>
            <a:chOff x="0" y="3284640"/>
            <a:chExt cx="5435640" cy="2782800"/>
          </a:xfrm>
        </p:grpSpPr>
        <p:grpSp>
          <p:nvGrpSpPr>
            <p:cNvPr id="53" name=""/>
            <p:cNvGrpSpPr/>
            <p:nvPr/>
          </p:nvGrpSpPr>
          <p:grpSpPr>
            <a:xfrm>
              <a:off x="0" y="3284640"/>
              <a:ext cx="5435640" cy="2782800"/>
              <a:chOff x="0" y="3284640"/>
              <a:chExt cx="5435640" cy="2782800"/>
            </a:xfrm>
          </p:grpSpPr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0960" y="4038840"/>
                <a:ext cx="4397400" cy="202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flipH="1">
                <a:off x="179280" y="4940280"/>
                <a:ext cx="806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450864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340000" y="3284640"/>
                <a:ext cx="111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451400" y="4300560"/>
                <a:ext cx="984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iO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1640" y="4940280"/>
                <a:ext cx="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484360" y="3716280"/>
              <a:ext cx="0" cy="58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КАРТЫ ФЛЭШ-ПАМЯ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692280"/>
            <a:ext cx="4248360" cy="4252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лэш-памя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дставляет собой микросхему, помещенную в миниатюрный плоский корпу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кросхемы флэш-памяти могут содержать миллиарды ячеек, каждая из которых хранит 1 бит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онная емкость карт флэш-памяти может достига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28 Гбай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я записанная на флэш-память, может очен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го хранить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от 20 до 100 ле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лэш-памя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актне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потребляет значительн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ньше энерг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примерно в 10-20 раз), чем магнитные и оптические диско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816360" cy="1803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43280" y="5084640"/>
            <a:ext cx="450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читывания и записи информации карта памяти вставляется в специальные накопители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ртридер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встроенные в мобильные устройства или подключаемые к компьютеру через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пор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987640" y="1916280"/>
            <a:ext cx="1584360" cy="1363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340000" y="4797360"/>
            <a:ext cx="2232000" cy="1816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9640" y="60930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ниверсальный картрид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332000" y="278136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24000" y="1916280"/>
            <a:ext cx="1619280" cy="13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576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КАРТЫ ФЛЭШ-ПАМЯ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2637000"/>
            <a:ext cx="4105440" cy="229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агодаря низкому энергопотреблению, компактности, долговечности и относительно высокому быстродействию, флэш-память идеально подходит для использования в портативных устройств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03640" y="4724280"/>
            <a:ext cx="2305080" cy="1806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516720" y="4149720"/>
            <a:ext cx="2365200" cy="2311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55640" y="3500280"/>
            <a:ext cx="1731960" cy="2886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79280" y="692280"/>
            <a:ext cx="2587680" cy="2307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372360" y="692280"/>
            <a:ext cx="2611440" cy="2611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3564000" y="692280"/>
            <a:ext cx="1844640" cy="2065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3132000" y="2924280"/>
            <a:ext cx="505080" cy="330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9280" y="29242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ифровая фотокам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24210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Р3-пле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65088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ртативный компью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636444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товый телеф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643716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ифровой диктоф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59640" y="328464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ифровая видеокам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USB</a:t>
            </a: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 ФЛЭШ-ДИ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981000"/>
            <a:ext cx="4248360" cy="2411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копители на флэш-памяти представляют собой микросхему флэш-памяти, дополненную контроллер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лэш-диски могут содержать переключатель защиты от записи, поддерживать парольную защиту, могут иметь жидкокристаллический экранчик, на котором отображается, сколько свободного места остается на дис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00720" y="3733920"/>
            <a:ext cx="4392360" cy="2668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3672000" cy="2948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4032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2:07:56Z</dcterms:created>
  <dc:creator>Razumov</dc:creator>
  <dc:description/>
  <dc:language>en-US</dc:language>
  <cp:lastModifiedBy>Доронин</cp:lastModifiedBy>
  <dcterms:modified xsi:type="dcterms:W3CDTF">2012-04-18T10:00:27Z</dcterms:modified>
  <cp:revision>30</cp:revision>
  <dc:subject/>
  <dc:title>Слайд 1</dc:title>
</cp:coreProperties>
</file>