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EE7-8C5F-4511-A8DB-EA18FF24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634-DDE5-4B16-9E54-CEF22C5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A6E-FADD-4985-A01A-330A5B24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CE1-4336-4315-87E1-932CE93E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5D0-3EDF-48E8-9F05-44419674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58D-6D79-4269-ADBD-DF32C270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DEA-605D-4073-A751-356CBDC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790-D264-423B-ADC3-95DFF275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CC8-2A25-4EAA-B85F-AD382B79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086-5600-465F-8039-2C2C78E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5DC-19BC-46BF-9902-64C4204A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43E-4998-49EC-A556-FE0DC52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94F-6549-4886-B21B-B71DD62504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08E6-F7BE-418D-BA1E-CAC257FBF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стория развития вычислительной техни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о появления ЭВ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00" y="1413000"/>
            <a:ext cx="4032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тербургс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нженер Т. Одне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нструирует арифмомет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го  модификац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«Феликс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пускалась в ССС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 50-х год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620640"/>
            <a:ext cx="3906360" cy="5544360"/>
            <a:chOff x="304920" y="620640"/>
            <a:chExt cx="3906360" cy="554436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56560" y="620640"/>
              <a:ext cx="3528720" cy="55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4920" y="620640"/>
              <a:ext cx="3906360" cy="5458320"/>
            </a:xfrm>
            <a:prstGeom prst="rect">
              <a:avLst/>
            </a:prstGeom>
            <a:noFill/>
            <a:ln w="763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427280" y="1052280"/>
            <a:ext cx="431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1885 год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мерикане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. Берроуз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оздаёт машину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торая        печатае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ходные      цифры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 результа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числени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672000" cy="52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476280"/>
            <a:ext cx="705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49 г.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–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ембриджском  университет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руководством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фессора М. Уилкс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здана первая в мир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числительная машин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 хранимой программо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ДСАК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24000" y="3141720"/>
            <a:ext cx="5181840" cy="3241440"/>
            <a:chOff x="2124000" y="3141720"/>
            <a:chExt cx="5181840" cy="324144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193840" y="3141720"/>
              <a:ext cx="511164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24000" y="3141720"/>
              <a:ext cx="5181840" cy="322200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Это, пожалуй, первый вычислительный прибо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Появился он около 25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лет назад и был широко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распространен в Египт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Китае, Гре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00068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БА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3280" y="620640"/>
            <a:ext cx="4176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ебольшая модернизация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 Абак превратил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 счет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Это одно и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ревнейших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стройств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дошедших до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ших дне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064040" cy="567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859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624 г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– Вильгельм Шиккард в письма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 И.Кеплеру описал устройство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часов для счёта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 которых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ыло реализовано сложение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вычитание, умножение 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еление. В основе конструкции  –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палочки Непера», свёрнутые 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цилиндр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19280" y="980640"/>
            <a:ext cx="352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ервую механическую  счетную маш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ридумал выдающийся французский ученый Блез Паскаль в 1642 г. Это машина умела выполнять сложени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889440" cy="50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600200"/>
            <a:ext cx="378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1692 г.замечательны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мецкий математик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отфрид Вильгель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ейбниц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обрел механическу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четную машину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торая умела не только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кладывать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о и умножа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40320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1640" y="3141360"/>
            <a:ext cx="41036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Еще одна машина дл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автоматизаци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ычислений – аналитическ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машин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арльза Беббидж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Она была построен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1820-1821г. 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и называлас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дифференциально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8360" y="404640"/>
            <a:ext cx="3239640" cy="5544720"/>
            <a:chOff x="468360" y="404640"/>
            <a:chExt cx="3239640" cy="554472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468360" y="566280"/>
              <a:ext cx="3239640" cy="52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8360" y="404640"/>
              <a:ext cx="3199320" cy="55447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356000" y="333360"/>
            <a:ext cx="4319640" cy="2590920"/>
            <a:chOff x="4356000" y="333360"/>
            <a:chExt cx="4319640" cy="259092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575600" y="385200"/>
              <a:ext cx="402660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356000" y="333360"/>
              <a:ext cx="4319640" cy="25909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Вместе с Беббиджем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работала      дочь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великого  поэ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Байрона –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Ада Лавлейс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В честь нее оди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из языков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программирова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назван Ад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692280"/>
            <a:ext cx="4122000" cy="5328360"/>
            <a:chOff x="395280" y="692280"/>
            <a:chExt cx="4122000" cy="532836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547200" y="877320"/>
              <a:ext cx="3970080" cy="50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95280" y="692280"/>
              <a:ext cx="4070880" cy="532836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572000" y="189000"/>
            <a:ext cx="4105440" cy="2923560"/>
            <a:chOff x="4572000" y="189000"/>
            <a:chExt cx="4105440" cy="29235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647960" y="189000"/>
              <a:ext cx="3953160" cy="29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572000" y="277920"/>
              <a:ext cx="4105440" cy="276768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24000" y="2133720"/>
            <a:ext cx="3600360" cy="3671640"/>
            <a:chOff x="324000" y="2133720"/>
            <a:chExt cx="3600360" cy="367164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81240" y="2202120"/>
              <a:ext cx="34858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4000" y="2133720"/>
              <a:ext cx="3600360" cy="367164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cce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284720" y="3213000"/>
            <a:ext cx="468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ы по  изготовлению «Аналитической машины» были прерваны смертью          Ч. Бэббиджа. Полностью «Разностная машина»  Ч. Бэббиджа была достроена только в наше время в 1991 г. двумя инженерами Р. Криком и Б. Холловеем в Лондонском научном музее к  200-летию со дня рождения её автор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состоит из 4000 деталей и может вычислять разности 7-го порядк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052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фокарты дл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Аналитической машин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2-10-29T17:10:31Z</dcterms:modified>
  <cp:revision>29</cp:revision>
  <dc:subject/>
  <dc:title>Презентация PowerPoint</dc:title>
</cp:coreProperties>
</file>